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6A10D-49F4-49A8-A229-38242BB4EE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BDE71-2ACD-45A8-90FC-53BDE8BB67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56471-142C-4C90-972E-AE0010AB6A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6AD53-6A8B-4218-9C2C-381C4394A4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C3FC3-AF5E-4FC0-AAFB-E6DE7AA046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7A82A-56B1-441D-A8D5-DC41B71502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59536-A88A-4511-B861-801F293B47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A0041-AB8A-41BA-8F46-35B6D3F997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FBA55-656B-441D-A1A4-B596905E63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E1B53-4E5C-4473-BCF1-2D02D5FA1D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34006-EC20-4780-8368-35B1067B7E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2DDAD-8D82-44DA-B265-9F5C4797DE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36264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pyright © 2006 Pearson Addison-Wesley. All rights reserved.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102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–</a:t>
            </a:r>
            <a:fld id="{BDD8FD02-AC9E-48F2-A29D-3799130832A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ppendix 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029200" y="2209320"/>
            <a:ext cx="3657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, Coding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98400" y="896760"/>
            <a:ext cx="8064720" cy="506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C8D1D-B204-47E7-BC94-FC81BA271FC7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38080" y="392040"/>
            <a:ext cx="8064720" cy="585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5B426-9685-4413-A8B2-603DDC8A7DF5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85800" y="1363680"/>
            <a:ext cx="8140680" cy="381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C5117-42DB-466E-9E85-5624D202D9B2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22440" y="1749600"/>
            <a:ext cx="8369280" cy="335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A6765-ABDF-46A2-9B0B-7C65A62CC9F6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143000" y="297000"/>
            <a:ext cx="7149960" cy="626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7464E-C587-4784-AD0B-E8EACC2D665B}" type="slidenum">
              <a:t>6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20:11:54Z</dcterms:created>
  <dc:creator>Copyright ©2006 Pearson Addison-Wesley</dc:creator>
  <dc:description/>
  <dc:language>en-US</dc:language>
  <cp:lastModifiedBy>AnnMarie</cp:lastModifiedBy>
  <dcterms:modified xsi:type="dcterms:W3CDTF">2005-06-24T18:00:24Z</dcterms:modified>
  <cp:revision>69</cp:revision>
  <dc:subject/>
  <dc:title>PowerPoint Presentation</dc:title>
</cp:coreProperties>
</file>