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17D1-FD5B-4BBA-B214-5832294AF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A29D-FAFB-49FB-B37F-1A6BD9F71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4759-B4FD-4E0C-95DF-538C845F7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3332-2610-4982-AA51-FCD7C3334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552A-ED54-4110-9543-F46C49C8A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73A7-271F-4154-864B-2601F4521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3B37-EB1F-4252-BB7B-22BBDB7DF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921F0-4B11-4038-B02D-DFC6FA159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FC8F-9E19-4F39-BE0A-EDB304A7B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015E-55AB-4A53-BCA8-2887B3378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0A67-EA08-4DC0-B08A-468CD89A7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B98B-CE6F-4B6C-B28F-CDB8EE5F6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–</a:t>
            </a:r>
            <a:fld id="{6B7CF11E-BC9B-435F-A2A6-AF78B362F14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endix 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and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488772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1B23-74FF-44D6-A191-B18462248595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6845040" cy="630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C8B22-B5FC-4DAA-80A1-B80EE77F7109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27000" y="304920"/>
            <a:ext cx="7378920" cy="615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DC26-D25C-4EDD-A11E-38E786B1BD92}" type="slidenum">
              <a:t>4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26:17Z</dcterms:modified>
  <cp:revision>64</cp:revision>
  <dc:subject/>
  <dc:title>PowerPoint Presentation</dc:title>
</cp:coreProperties>
</file>