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792F-7358-4221-A3B8-44184421D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90CE7-A67D-4D7A-BD6D-56FF44A64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FF42-D73E-4688-A423-483199056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EC47-D353-4CD7-9579-C7B8ADCC4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7AB5-C4AD-4C06-8687-107B5ED39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01336-8D1A-4EC6-8FBE-5C4CBC048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8B82-7E63-4CFD-B20E-806B38929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0DA9-4BCD-4233-9A24-37189C4B6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B192-33ED-4D81-8D2B-F8DFD3D6A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75678-60EE-45A6-BA86-9220F5EEA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CCA6-F2AD-4F77-A8C2-0A4AA2839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7573-C0CD-474E-8934-CD83C387F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–</a:t>
            </a:r>
            <a:fld id="{7D798747-B8F9-47D0-8C29-1A547105774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pendix 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ransaction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5800" y="2263680"/>
            <a:ext cx="8369280" cy="217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547FF-F41E-404B-9418-5BD06D143C4E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62120" y="1468440"/>
            <a:ext cx="8216640" cy="391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B025C-1307-410E-AD70-1D151B1B7735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9480" y="1657440"/>
            <a:ext cx="8293320" cy="32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ADBCE-E204-45C7-85B9-247FF35DF2AC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9480" y="927000"/>
            <a:ext cx="8369280" cy="471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3DEE4-D059-4DF2-B04A-C3849B294B58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655308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B359-27C2-428A-97F0-EA4D6703AC6F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2384280"/>
            <a:ext cx="8140680" cy="189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2851-369E-4FDB-B384-62B1FEC37C77}" type="slidenum">
              <a:t>7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7:24:13Z</dcterms:modified>
  <cp:revision>61</cp:revision>
  <dc:subject/>
  <dc:title>PowerPoint Presentation</dc:title>
</cp:coreProperties>
</file>