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BE750-A836-48C6-8D7A-FC1E5EBE8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6D231-0501-4B6B-A614-F10AD5EF9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7D786-BD34-4FBF-8584-6F23F4D33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9602E-FF15-43EB-A7EB-986C6532B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2EE5A-34D9-4DFF-90AB-3A130CDE7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57CA0-3D72-43BC-A66A-0C57A9FDF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306CB-9E94-4A73-AA1E-ED60C58D1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E30BF-5A78-4FB0-87D6-E5A4F25EA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5CB17-3D8B-45FD-9B0E-115D5E524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60478-8A28-42E1-8084-0F905538A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94CFC-0721-4D68-BDC3-598000D0C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B31F-DD64-466D-A76B-5286E7A6A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–</a:t>
            </a:r>
            <a:fld id="{7FBF5707-D7FA-49CE-BD84-378C2F56019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2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nd Electronic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26_09" descr=""/>
          <p:cNvPicPr/>
          <p:nvPr/>
        </p:nvPicPr>
        <p:blipFill>
          <a:blip r:embed="rId2"/>
          <a:stretch/>
        </p:blipFill>
        <p:spPr>
          <a:xfrm>
            <a:off x="1523880" y="249120"/>
            <a:ext cx="6116760" cy="638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8F78E-8A5C-42C5-984E-11BDCDB22AE3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6_10" descr=""/>
          <p:cNvPicPr/>
          <p:nvPr/>
        </p:nvPicPr>
        <p:blipFill>
          <a:blip r:embed="rId2"/>
          <a:stretch/>
        </p:blipFill>
        <p:spPr>
          <a:xfrm>
            <a:off x="977760" y="482760"/>
            <a:ext cx="719316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6BD72-41B2-486E-A142-9AC54FC44390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6_11" descr=""/>
          <p:cNvPicPr/>
          <p:nvPr/>
        </p:nvPicPr>
        <p:blipFill>
          <a:blip r:embed="rId2"/>
          <a:stretch/>
        </p:blipFill>
        <p:spPr>
          <a:xfrm>
            <a:off x="1994040" y="482760"/>
            <a:ext cx="515448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02560-E196-4A32-AC6C-1F74A19AB094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26_12" descr=""/>
          <p:cNvPicPr/>
          <p:nvPr/>
        </p:nvPicPr>
        <p:blipFill>
          <a:blip r:embed="rId2"/>
          <a:stretch/>
        </p:blipFill>
        <p:spPr>
          <a:xfrm>
            <a:off x="647640" y="851040"/>
            <a:ext cx="7864560" cy="515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13CD0-3EE5-45A6-8640-A82A597C91D6}" type="slidenum">
              <a:t>13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26_01" descr=""/>
          <p:cNvPicPr/>
          <p:nvPr/>
        </p:nvPicPr>
        <p:blipFill>
          <a:blip r:embed="rId2"/>
          <a:stretch/>
        </p:blipFill>
        <p:spPr>
          <a:xfrm>
            <a:off x="647640" y="1778040"/>
            <a:ext cx="7864560" cy="330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CD911-1201-4823-AC62-6B27149715EF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26_02" descr=""/>
          <p:cNvPicPr/>
          <p:nvPr/>
        </p:nvPicPr>
        <p:blipFill>
          <a:blip r:embed="rId2"/>
          <a:stretch/>
        </p:blipFill>
        <p:spPr>
          <a:xfrm>
            <a:off x="647640" y="1727280"/>
            <a:ext cx="7864560" cy="34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D8BE6-6F6C-4D80-97DE-2FC46E488754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26_03" descr=""/>
          <p:cNvPicPr/>
          <p:nvPr/>
        </p:nvPicPr>
        <p:blipFill>
          <a:blip r:embed="rId2"/>
          <a:stretch/>
        </p:blipFill>
        <p:spPr>
          <a:xfrm>
            <a:off x="2489040" y="482760"/>
            <a:ext cx="416268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7536F-F4A9-4F1F-B008-CCDD1FFC72BC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26_04" descr=""/>
          <p:cNvPicPr/>
          <p:nvPr/>
        </p:nvPicPr>
        <p:blipFill>
          <a:blip r:embed="rId2"/>
          <a:stretch/>
        </p:blipFill>
        <p:spPr>
          <a:xfrm>
            <a:off x="647640" y="1219320"/>
            <a:ext cx="7864560" cy="442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C4078-0A90-47E2-8095-B5D5A98FD751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26_05" descr=""/>
          <p:cNvPicPr/>
          <p:nvPr/>
        </p:nvPicPr>
        <p:blipFill>
          <a:blip r:embed="rId2"/>
          <a:stretch/>
        </p:blipFill>
        <p:spPr>
          <a:xfrm>
            <a:off x="647640" y="1968480"/>
            <a:ext cx="7864560" cy="292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D24C4-D32E-4BBA-96BF-02544782918E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26_06" descr=""/>
          <p:cNvPicPr/>
          <p:nvPr/>
        </p:nvPicPr>
        <p:blipFill>
          <a:blip r:embed="rId2"/>
          <a:stretch/>
        </p:blipFill>
        <p:spPr>
          <a:xfrm>
            <a:off x="647640" y="787320"/>
            <a:ext cx="7864560" cy="527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7A609-D705-4E09-ADC0-039895651E5F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26_07" descr=""/>
          <p:cNvPicPr/>
          <p:nvPr/>
        </p:nvPicPr>
        <p:blipFill>
          <a:blip r:embed="rId2"/>
          <a:stretch/>
        </p:blipFill>
        <p:spPr>
          <a:xfrm>
            <a:off x="647640" y="1536840"/>
            <a:ext cx="7864560" cy="378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705B0-9104-4DA9-8B7C-B8083F7D5DF0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26_08" descr=""/>
          <p:cNvPicPr/>
          <p:nvPr/>
        </p:nvPicPr>
        <p:blipFill>
          <a:blip r:embed="rId2"/>
          <a:stretch/>
        </p:blipFill>
        <p:spPr>
          <a:xfrm>
            <a:off x="647640" y="1346040"/>
            <a:ext cx="7864560" cy="416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3873-6F67-4695-8C23-BC1BD4492236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6:57:57Z</dcterms:modified>
  <cp:revision>55</cp:revision>
  <dc:subject/>
  <dc:title>PowerPoint Presentation</dc:title>
</cp:coreProperties>
</file>