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973A-C7CE-46F9-AEEB-F165039C3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35CD-B487-4C14-BAF9-B7067A7F6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BD30-44E5-4C5C-AE8F-0B96BFBA6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C2AE-A1E4-4D32-8C28-5CB65D6CD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BFE0-D5C0-4B7F-871E-FE468D94C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C80F-E1D4-455B-A9F5-BA16CB703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253D-6755-4698-B3B8-4FBB04F7D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B6C54-67F8-4601-B5A2-AF3979DFB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A5EF-6A39-4EE4-B9B9-5E78D755C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3B79-A811-4718-8CBF-F0D345A5D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4ACB7-866E-4164-AC21-C194DDCDE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780A6-3EF6-46B8-ACF0-FB75E5455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–</a:t>
            </a:r>
            <a:fld id="{A1AEE0F6-9B1E-4071-975B-EB210660E21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5_09" descr=""/>
          <p:cNvPicPr/>
          <p:nvPr/>
        </p:nvPicPr>
        <p:blipFill>
          <a:blip r:embed="rId2"/>
          <a:stretch/>
        </p:blipFill>
        <p:spPr>
          <a:xfrm>
            <a:off x="647640" y="2413080"/>
            <a:ext cx="7864560" cy="202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F4B5-DEB1-418A-8CD9-E0CB663E1D20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5_10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864560" cy="33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1755B-DEC2-4BF2-A859-FA6FF1EDF1E0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5_11" descr=""/>
          <p:cNvPicPr/>
          <p:nvPr/>
        </p:nvPicPr>
        <p:blipFill>
          <a:blip r:embed="rId2"/>
          <a:stretch/>
        </p:blipFill>
        <p:spPr>
          <a:xfrm>
            <a:off x="647640" y="2438280"/>
            <a:ext cx="7864560" cy="19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B493-7FEC-4D6C-91E4-67EE93ED1C20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5_12" descr=""/>
          <p:cNvPicPr/>
          <p:nvPr/>
        </p:nvPicPr>
        <p:blipFill>
          <a:blip r:embed="rId2"/>
          <a:stretch/>
        </p:blipFill>
        <p:spPr>
          <a:xfrm>
            <a:off x="647640" y="647640"/>
            <a:ext cx="7864560" cy="557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C5435-23F8-475C-9C8B-A6F88D83568B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5_13" descr=""/>
          <p:cNvPicPr/>
          <p:nvPr/>
        </p:nvPicPr>
        <p:blipFill>
          <a:blip r:embed="rId2"/>
          <a:stretch/>
        </p:blipFill>
        <p:spPr>
          <a:xfrm>
            <a:off x="647640" y="1117440"/>
            <a:ext cx="7864560" cy="463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EAE0-9045-4BD0-9957-DD134D1930AF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5_14" descr=""/>
          <p:cNvPicPr/>
          <p:nvPr/>
        </p:nvPicPr>
        <p:blipFill>
          <a:blip r:embed="rId2"/>
          <a:stretch/>
        </p:blipFill>
        <p:spPr>
          <a:xfrm>
            <a:off x="647640" y="673200"/>
            <a:ext cx="7864560" cy="552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51DB-0A82-4024-929E-30021463AF71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5_15" descr=""/>
          <p:cNvPicPr/>
          <p:nvPr/>
        </p:nvPicPr>
        <p:blipFill>
          <a:blip r:embed="rId2"/>
          <a:stretch/>
        </p:blipFill>
        <p:spPr>
          <a:xfrm>
            <a:off x="647640" y="1790640"/>
            <a:ext cx="7864560" cy="32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CF39-FA55-490F-9868-42CB9BD2AF21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5_16" descr=""/>
          <p:cNvPicPr/>
          <p:nvPr/>
        </p:nvPicPr>
        <p:blipFill>
          <a:blip r:embed="rId2"/>
          <a:stretch/>
        </p:blipFill>
        <p:spPr>
          <a:xfrm>
            <a:off x="647640" y="647640"/>
            <a:ext cx="7864560" cy="556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4D95-7231-4ABF-9059-4C853AA94289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5_17" descr=""/>
          <p:cNvPicPr/>
          <p:nvPr/>
        </p:nvPicPr>
        <p:blipFill>
          <a:blip r:embed="rId2"/>
          <a:stretch/>
        </p:blipFill>
        <p:spPr>
          <a:xfrm>
            <a:off x="647640" y="482760"/>
            <a:ext cx="78440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3526-5F1F-41A5-9AAE-8CE6663D7E52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5_18" descr=""/>
          <p:cNvPicPr/>
          <p:nvPr/>
        </p:nvPicPr>
        <p:blipFill>
          <a:blip r:embed="rId2"/>
          <a:stretch/>
        </p:blipFill>
        <p:spPr>
          <a:xfrm>
            <a:off x="647640" y="1930320"/>
            <a:ext cx="7864560" cy="299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0E78-EE55-4626-B7AF-7BBC1DDE3C22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5_01" descr=""/>
          <p:cNvPicPr/>
          <p:nvPr/>
        </p:nvPicPr>
        <p:blipFill>
          <a:blip r:embed="rId2"/>
          <a:stretch/>
        </p:blipFill>
        <p:spPr>
          <a:xfrm>
            <a:off x="647640" y="2209680"/>
            <a:ext cx="7864560" cy="243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902A-03F6-471F-8BE8-56E653DF0A16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5_19" descr=""/>
          <p:cNvPicPr/>
          <p:nvPr/>
        </p:nvPicPr>
        <p:blipFill>
          <a:blip r:embed="rId2"/>
          <a:stretch/>
        </p:blipFill>
        <p:spPr>
          <a:xfrm>
            <a:off x="647640" y="1434960"/>
            <a:ext cx="7864560" cy="39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F511A-AA84-45C8-AE3B-E9C79B2C0789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5_20" descr=""/>
          <p:cNvPicPr/>
          <p:nvPr/>
        </p:nvPicPr>
        <p:blipFill>
          <a:blip r:embed="rId2"/>
          <a:stretch/>
        </p:blipFill>
        <p:spPr>
          <a:xfrm>
            <a:off x="647640" y="495360"/>
            <a:ext cx="7864560" cy="58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659F-BF23-4F73-B5A7-83325F551368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25_21a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3EC8-E44C-4585-BFD8-6894FF560C9C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5_21b" descr=""/>
          <p:cNvPicPr/>
          <p:nvPr/>
        </p:nvPicPr>
        <p:blipFill>
          <a:blip r:embed="rId2"/>
          <a:stretch/>
        </p:blipFill>
        <p:spPr>
          <a:xfrm>
            <a:off x="647640" y="482760"/>
            <a:ext cx="78548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509F-E79A-4B2C-A258-8CF1B7E35C68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5_22a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7864560" cy="47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C584-6647-4957-9CE4-3D2E65856FD7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5_22b" descr=""/>
          <p:cNvPicPr/>
          <p:nvPr/>
        </p:nvPicPr>
        <p:blipFill>
          <a:blip r:embed="rId2"/>
          <a:stretch/>
        </p:blipFill>
        <p:spPr>
          <a:xfrm>
            <a:off x="647640" y="863640"/>
            <a:ext cx="7864560" cy="513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05F9-46A1-463F-993D-CF1D59CF69D0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25_22c" descr=""/>
          <p:cNvPicPr/>
          <p:nvPr/>
        </p:nvPicPr>
        <p:blipFill>
          <a:blip r:embed="rId2"/>
          <a:stretch/>
        </p:blipFill>
        <p:spPr>
          <a:xfrm>
            <a:off x="647640" y="2222640"/>
            <a:ext cx="7864560" cy="242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0BAB-BD63-4886-92C6-0F729D29721A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5_23a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7864560" cy="47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3F78-966D-41F5-B401-BFDEA7E40781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25_23b" descr=""/>
          <p:cNvPicPr/>
          <p:nvPr/>
        </p:nvPicPr>
        <p:blipFill>
          <a:blip r:embed="rId2"/>
          <a:stretch/>
        </p:blipFill>
        <p:spPr>
          <a:xfrm>
            <a:off x="647640" y="495360"/>
            <a:ext cx="7864560" cy="58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D383A-C75D-4C10-94A1-07556EFD8404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25_24a" descr=""/>
          <p:cNvPicPr/>
          <p:nvPr/>
        </p:nvPicPr>
        <p:blipFill>
          <a:blip r:embed="rId2"/>
          <a:stretch/>
        </p:blipFill>
        <p:spPr>
          <a:xfrm>
            <a:off x="647640" y="1600200"/>
            <a:ext cx="7864560" cy="367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99D9-644B-41E3-9D7E-311C37C998DE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5_02" descr=""/>
          <p:cNvPicPr/>
          <p:nvPr/>
        </p:nvPicPr>
        <p:blipFill>
          <a:blip r:embed="rId2"/>
          <a:stretch/>
        </p:blipFill>
        <p:spPr>
          <a:xfrm>
            <a:off x="647640" y="2082960"/>
            <a:ext cx="7864560" cy="268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12FD-8997-44DB-9A21-F9511D358CD1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25_24b" descr=""/>
          <p:cNvPicPr/>
          <p:nvPr/>
        </p:nvPicPr>
        <p:blipFill>
          <a:blip r:embed="rId2"/>
          <a:stretch/>
        </p:blipFill>
        <p:spPr>
          <a:xfrm>
            <a:off x="1498680" y="482760"/>
            <a:ext cx="6149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3542-7805-44C4-A07D-143311EC70B7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25_25" descr=""/>
          <p:cNvPicPr/>
          <p:nvPr/>
        </p:nvPicPr>
        <p:blipFill>
          <a:blip r:embed="rId2"/>
          <a:stretch/>
        </p:blipFill>
        <p:spPr>
          <a:xfrm>
            <a:off x="647640" y="1257480"/>
            <a:ext cx="7864560" cy="43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A272-60A9-4AD5-9800-E94C8419E9BD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5_26" descr=""/>
          <p:cNvPicPr/>
          <p:nvPr/>
        </p:nvPicPr>
        <p:blipFill>
          <a:blip r:embed="rId2"/>
          <a:stretch/>
        </p:blipFill>
        <p:spPr>
          <a:xfrm>
            <a:off x="1460520" y="482760"/>
            <a:ext cx="62276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B19B-BED7-49E9-8FA2-070C7A0AA5F1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25_27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C2B6-872B-48AB-A22C-5FC32FC93452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5_28" descr=""/>
          <p:cNvPicPr/>
          <p:nvPr/>
        </p:nvPicPr>
        <p:blipFill>
          <a:blip r:embed="rId2"/>
          <a:stretch/>
        </p:blipFill>
        <p:spPr>
          <a:xfrm>
            <a:off x="647640" y="1739880"/>
            <a:ext cx="786456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3092-9CE4-4BAC-9FF4-72A0F2DFC0FD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25_29" descr=""/>
          <p:cNvPicPr/>
          <p:nvPr/>
        </p:nvPicPr>
        <p:blipFill>
          <a:blip r:embed="rId2"/>
          <a:stretch/>
        </p:blipFill>
        <p:spPr>
          <a:xfrm>
            <a:off x="647640" y="1181160"/>
            <a:ext cx="7864560" cy="451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45B6F-E073-49E1-9C26-313A11AE3A1E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5_30" descr=""/>
          <p:cNvPicPr/>
          <p:nvPr/>
        </p:nvPicPr>
        <p:blipFill>
          <a:blip r:embed="rId2"/>
          <a:stretch/>
        </p:blipFill>
        <p:spPr>
          <a:xfrm>
            <a:off x="1905120" y="237960"/>
            <a:ext cx="5294160" cy="638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59AC-B1F9-44CE-814B-EB035BE422DD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25_31" descr=""/>
          <p:cNvPicPr/>
          <p:nvPr/>
        </p:nvPicPr>
        <p:blipFill>
          <a:blip r:embed="rId2"/>
          <a:stretch/>
        </p:blipFill>
        <p:spPr>
          <a:xfrm>
            <a:off x="647640" y="1092240"/>
            <a:ext cx="7864560" cy="46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AEBE-14AF-4A05-9D2D-3D129D2E838C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5_32" descr=""/>
          <p:cNvPicPr/>
          <p:nvPr/>
        </p:nvPicPr>
        <p:blipFill>
          <a:blip r:embed="rId2"/>
          <a:stretch/>
        </p:blipFill>
        <p:spPr>
          <a:xfrm>
            <a:off x="647640" y="660240"/>
            <a:ext cx="7864560" cy="554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C8EF-3B54-4C12-B913-8AE1A454C06F}" type="slidenum">
              <a:t>38</a:t>
            </a:fld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25_33" descr=""/>
          <p:cNvPicPr/>
          <p:nvPr/>
        </p:nvPicPr>
        <p:blipFill>
          <a:blip r:embed="rId2"/>
          <a:stretch/>
        </p:blipFill>
        <p:spPr>
          <a:xfrm>
            <a:off x="1270080" y="482760"/>
            <a:ext cx="66135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5EA3-E91F-41DD-88E8-C933DE92AD40}" type="slidenum">
              <a:t>39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5_03" descr=""/>
          <p:cNvPicPr/>
          <p:nvPr/>
        </p:nvPicPr>
        <p:blipFill>
          <a:blip r:embed="rId2"/>
          <a:stretch/>
        </p:blipFill>
        <p:spPr>
          <a:xfrm>
            <a:off x="647640" y="774720"/>
            <a:ext cx="7864560" cy="530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ADF5-3A3B-419A-8B63-738005EACF5F}" type="slidenum">
              <a:t>4</a:t>
            </a:fld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5_34" descr=""/>
          <p:cNvPicPr/>
          <p:nvPr/>
        </p:nvPicPr>
        <p:blipFill>
          <a:blip r:embed="rId2"/>
          <a:stretch/>
        </p:blipFill>
        <p:spPr>
          <a:xfrm>
            <a:off x="647640" y="1854360"/>
            <a:ext cx="7864560" cy="314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F3C4B-35DD-4F5B-97A4-C919E50E091A}" type="slidenum">
              <a:t>40</a:t>
            </a:fld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25_35" descr=""/>
          <p:cNvPicPr/>
          <p:nvPr/>
        </p:nvPicPr>
        <p:blipFill>
          <a:blip r:embed="rId2"/>
          <a:stretch/>
        </p:blipFill>
        <p:spPr>
          <a:xfrm>
            <a:off x="647640" y="2197080"/>
            <a:ext cx="7864560" cy="247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6551-7C6B-41C0-BC55-2D2C5E3CB1C3}" type="slidenum">
              <a:t>41</a:t>
            </a:fld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5_36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7864560" cy="374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5E81-D250-4175-947F-DDBCE9D4F803}" type="slidenum">
              <a:t>42</a:t>
            </a:fld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25_37" descr=""/>
          <p:cNvPicPr/>
          <p:nvPr/>
        </p:nvPicPr>
        <p:blipFill>
          <a:blip r:embed="rId2"/>
          <a:stretch/>
        </p:blipFill>
        <p:spPr>
          <a:xfrm>
            <a:off x="647640" y="1968480"/>
            <a:ext cx="7864560" cy="293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4095-E6DA-4F97-95C3-ED7966F3326D}" type="slidenum">
              <a:t>43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25_38" descr=""/>
          <p:cNvPicPr/>
          <p:nvPr/>
        </p:nvPicPr>
        <p:blipFill>
          <a:blip r:embed="rId2"/>
          <a:stretch/>
        </p:blipFill>
        <p:spPr>
          <a:xfrm>
            <a:off x="647640" y="1498680"/>
            <a:ext cx="7864560" cy="385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69BE-28D2-4D52-B442-C0F33237DDDA}" type="slidenum">
              <a:t>44</a:t>
            </a:fld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25_39" descr=""/>
          <p:cNvPicPr/>
          <p:nvPr/>
        </p:nvPicPr>
        <p:blipFill>
          <a:blip r:embed="rId2"/>
          <a:stretch/>
        </p:blipFill>
        <p:spPr>
          <a:xfrm>
            <a:off x="647640" y="2222640"/>
            <a:ext cx="7864560" cy="240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1E2E-F4EA-40EA-8793-080CD5BB8853}" type="slidenum">
              <a:t>45</a:t>
            </a:fld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25_40a" descr=""/>
          <p:cNvPicPr/>
          <p:nvPr/>
        </p:nvPicPr>
        <p:blipFill>
          <a:blip r:embed="rId2"/>
          <a:stretch/>
        </p:blipFill>
        <p:spPr>
          <a:xfrm>
            <a:off x="647640" y="1270080"/>
            <a:ext cx="7864560" cy="43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7487-FD5E-4104-8D53-BF3A8CC775A6}" type="slidenum">
              <a:t>46</a:t>
            </a:fld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25_40b" descr=""/>
          <p:cNvPicPr/>
          <p:nvPr/>
        </p:nvPicPr>
        <p:blipFill>
          <a:blip r:embed="rId2"/>
          <a:stretch/>
        </p:blipFill>
        <p:spPr>
          <a:xfrm>
            <a:off x="647640" y="1117440"/>
            <a:ext cx="7864560" cy="463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172C-EE2A-4B34-A65A-C6AA393023EB}" type="slidenum">
              <a:t>47</a:t>
            </a:fld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5_41" descr=""/>
          <p:cNvPicPr/>
          <p:nvPr/>
        </p:nvPicPr>
        <p:blipFill>
          <a:blip r:embed="rId2"/>
          <a:stretch/>
        </p:blipFill>
        <p:spPr>
          <a:xfrm>
            <a:off x="647640" y="1854360"/>
            <a:ext cx="7864560" cy="316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B839-74DD-40DE-9A1E-C1F743732504}" type="slidenum">
              <a:t>48</a:t>
            </a:fld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25_42" descr=""/>
          <p:cNvPicPr/>
          <p:nvPr/>
        </p:nvPicPr>
        <p:blipFill>
          <a:blip r:embed="rId2"/>
          <a:stretch/>
        </p:blipFill>
        <p:spPr>
          <a:xfrm>
            <a:off x="647640" y="1460520"/>
            <a:ext cx="7864560" cy="394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831C-9FD8-46C3-92CB-2BA35A1D296A}" type="slidenum">
              <a:t>49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5_04" descr=""/>
          <p:cNvPicPr/>
          <p:nvPr/>
        </p:nvPicPr>
        <p:blipFill>
          <a:blip r:embed="rId2"/>
          <a:stretch/>
        </p:blipFill>
        <p:spPr>
          <a:xfrm>
            <a:off x="647640" y="1041480"/>
            <a:ext cx="7864560" cy="477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5E2A-5D0A-424D-B223-D4C70A95FF0B}" type="slidenum">
              <a:t>5</a:t>
            </a:fld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5_43" descr=""/>
          <p:cNvPicPr/>
          <p:nvPr/>
        </p:nvPicPr>
        <p:blipFill>
          <a:blip r:embed="rId2"/>
          <a:stretch/>
        </p:blipFill>
        <p:spPr>
          <a:xfrm>
            <a:off x="647640" y="2235240"/>
            <a:ext cx="7864560" cy="23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F030-B567-4E24-A3CB-E4AA0A9C8936}" type="slidenum">
              <a:t>50</a:t>
            </a:fld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25_44" descr=""/>
          <p:cNvPicPr/>
          <p:nvPr/>
        </p:nvPicPr>
        <p:blipFill>
          <a:blip r:embed="rId2"/>
          <a:stretch/>
        </p:blipFill>
        <p:spPr>
          <a:xfrm>
            <a:off x="647640" y="2082960"/>
            <a:ext cx="7864560" cy="268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9C82-C35E-4E3D-AFD6-8B9AE2E4F40F}" type="slidenum">
              <a:t>51</a:t>
            </a:fld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25_45" descr=""/>
          <p:cNvPicPr/>
          <p:nvPr/>
        </p:nvPicPr>
        <p:blipFill>
          <a:blip r:embed="rId2"/>
          <a:stretch/>
        </p:blipFill>
        <p:spPr>
          <a:xfrm>
            <a:off x="1371600" y="482760"/>
            <a:ext cx="6418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51FE-40ED-4596-9178-EBEDDFD12F52}" type="slidenum">
              <a:t>52</a:t>
            </a:fld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25_46" descr=""/>
          <p:cNvPicPr/>
          <p:nvPr/>
        </p:nvPicPr>
        <p:blipFill>
          <a:blip r:embed="rId2"/>
          <a:stretch/>
        </p:blipFill>
        <p:spPr>
          <a:xfrm>
            <a:off x="647640" y="2133720"/>
            <a:ext cx="786456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384F-F3E5-41E9-BE71-6D73280323D0}" type="slidenum">
              <a:t>53</a:t>
            </a:fld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25_47" descr=""/>
          <p:cNvPicPr/>
          <p:nvPr/>
        </p:nvPicPr>
        <p:blipFill>
          <a:blip r:embed="rId2"/>
          <a:stretch/>
        </p:blipFill>
        <p:spPr>
          <a:xfrm>
            <a:off x="647640" y="2108160"/>
            <a:ext cx="7864560" cy="264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7EC1-FE7E-41E4-96B9-6DD19A79D394}" type="slidenum">
              <a:t>54</a:t>
            </a:fld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5_48" descr=""/>
          <p:cNvPicPr/>
          <p:nvPr/>
        </p:nvPicPr>
        <p:blipFill>
          <a:blip r:embed="rId2"/>
          <a:stretch/>
        </p:blipFill>
        <p:spPr>
          <a:xfrm>
            <a:off x="647640" y="1803240"/>
            <a:ext cx="7864560" cy="32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0449-7E7C-4D04-8703-09788CAD75ED}" type="slidenum">
              <a:t>55</a:t>
            </a:fld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25_49" descr=""/>
          <p:cNvPicPr/>
          <p:nvPr/>
        </p:nvPicPr>
        <p:blipFill>
          <a:blip r:embed="rId2"/>
          <a:stretch/>
        </p:blipFill>
        <p:spPr>
          <a:xfrm>
            <a:off x="647640" y="1041480"/>
            <a:ext cx="7864560" cy="477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43F4-8B74-4B6B-8D85-197AF3BF3060}" type="slidenum">
              <a:t>56</a:t>
            </a:fld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25_50" descr=""/>
          <p:cNvPicPr/>
          <p:nvPr/>
        </p:nvPicPr>
        <p:blipFill>
          <a:blip r:embed="rId2"/>
          <a:stretch/>
        </p:blipFill>
        <p:spPr>
          <a:xfrm>
            <a:off x="647640" y="1371600"/>
            <a:ext cx="7864560" cy="4111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ECB2-31DE-4B22-8D9B-D9FF44902F3A}" type="slidenum">
              <a:t>57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5_05" descr=""/>
          <p:cNvPicPr/>
          <p:nvPr/>
        </p:nvPicPr>
        <p:blipFill>
          <a:blip r:embed="rId2"/>
          <a:stretch/>
        </p:blipFill>
        <p:spPr>
          <a:xfrm>
            <a:off x="1486080" y="482760"/>
            <a:ext cx="6176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BC3F8-93C8-4558-BD5B-B4B729E9EE85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5_63" descr=""/>
          <p:cNvPicPr/>
          <p:nvPr/>
        </p:nvPicPr>
        <p:blipFill>
          <a:blip r:embed="rId2"/>
          <a:stretch/>
        </p:blipFill>
        <p:spPr>
          <a:xfrm>
            <a:off x="927000" y="482760"/>
            <a:ext cx="72900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B74A-BF43-4724-B8E8-D4635C252B2A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5_07" descr=""/>
          <p:cNvPicPr/>
          <p:nvPr/>
        </p:nvPicPr>
        <p:blipFill>
          <a:blip r:embed="rId2"/>
          <a:stretch/>
        </p:blipFill>
        <p:spPr>
          <a:xfrm>
            <a:off x="647640" y="2552760"/>
            <a:ext cx="7864560" cy="176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0A76-F8C7-4E0F-9F8E-407CB8C4977A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5_08" descr=""/>
          <p:cNvPicPr/>
          <p:nvPr/>
        </p:nvPicPr>
        <p:blipFill>
          <a:blip r:embed="rId2"/>
          <a:stretch/>
        </p:blipFill>
        <p:spPr>
          <a:xfrm>
            <a:off x="1511280" y="482760"/>
            <a:ext cx="61246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F1CD5-8395-4262-97C7-FCD65B521FA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7:17Z</dcterms:modified>
  <cp:revision>56</cp:revision>
  <dc:subject/>
  <dc:title>PowerPoint Presentation</dc:title>
</cp:coreProperties>
</file>