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BDA2C-440A-489F-A25C-C132F5DD6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94EE-8705-42B8-A025-856F0C641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2DA0-0D80-40DA-B95E-63BB95110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B653-0D14-46E4-A6C9-49AB6556A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7B23-08B2-4548-835D-9B965939F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3CE6-BAAB-4465-9658-7E3D3FC4A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310A-56F1-485C-BDF3-6F562DF3C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76E6-AC9D-479B-8825-82BA514EB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AA1EE-F74C-4AF9-BED2-1816D1BAB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DCE7-0A84-480A-AAE0-20696CE96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B1FD-63CC-4EEB-9B2A-F210C9986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2214-D563-4A39-8549-E65830D80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–</a:t>
            </a:r>
            <a:fld id="{775141D5-D0C6-456B-8A5B-2EB7A97F00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2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Distributed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4_01" descr=""/>
          <p:cNvPicPr/>
          <p:nvPr/>
        </p:nvPicPr>
        <p:blipFill>
          <a:blip r:embed="rId2"/>
          <a:stretch/>
        </p:blipFill>
        <p:spPr>
          <a:xfrm>
            <a:off x="647640" y="1549440"/>
            <a:ext cx="7864560" cy="37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E67A-9674-4F53-A2FA-5C62CF567190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4_02" descr=""/>
          <p:cNvPicPr/>
          <p:nvPr/>
        </p:nvPicPr>
        <p:blipFill>
          <a:blip r:embed="rId2"/>
          <a:stretch/>
        </p:blipFill>
        <p:spPr>
          <a:xfrm>
            <a:off x="647640" y="1257480"/>
            <a:ext cx="7864560" cy="43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9747-B28B-4BC3-AB75-12377B6AEB69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4_03" descr=""/>
          <p:cNvPicPr/>
          <p:nvPr/>
        </p:nvPicPr>
        <p:blipFill>
          <a:blip r:embed="rId2"/>
          <a:stretch/>
        </p:blipFill>
        <p:spPr>
          <a:xfrm>
            <a:off x="1905120" y="482760"/>
            <a:ext cx="53514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9EED-EEE0-4C8C-A849-EA755A036507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4_04" descr=""/>
          <p:cNvPicPr/>
          <p:nvPr/>
        </p:nvPicPr>
        <p:blipFill>
          <a:blip r:embed="rId2"/>
          <a:stretch/>
        </p:blipFill>
        <p:spPr>
          <a:xfrm>
            <a:off x="647640" y="990720"/>
            <a:ext cx="7864560" cy="488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F1B9C-349E-45DF-9CD5-B411CDDF12CD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4_05" descr=""/>
          <p:cNvPicPr/>
          <p:nvPr/>
        </p:nvPicPr>
        <p:blipFill>
          <a:blip r:embed="rId2"/>
          <a:stretch/>
        </p:blipFill>
        <p:spPr>
          <a:xfrm>
            <a:off x="647640" y="2540160"/>
            <a:ext cx="7864560" cy="179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8829-1DCC-4D43-8E5E-865DB883F07C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4_06" descr=""/>
          <p:cNvPicPr/>
          <p:nvPr/>
        </p:nvPicPr>
        <p:blipFill>
          <a:blip r:embed="rId2"/>
          <a:stretch/>
        </p:blipFill>
        <p:spPr>
          <a:xfrm>
            <a:off x="647640" y="1320840"/>
            <a:ext cx="7864560" cy="42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62A7-A693-4D4F-B0DE-22A6A0B7E19D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24_07" descr=""/>
          <p:cNvPicPr/>
          <p:nvPr/>
        </p:nvPicPr>
        <p:blipFill>
          <a:blip r:embed="rId2"/>
          <a:stretch/>
        </p:blipFill>
        <p:spPr>
          <a:xfrm>
            <a:off x="647640" y="2565360"/>
            <a:ext cx="7864560" cy="173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C4CAC-26E5-417D-A195-8CB4885EF534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4_08" descr=""/>
          <p:cNvPicPr/>
          <p:nvPr/>
        </p:nvPicPr>
        <p:blipFill>
          <a:blip r:embed="rId2"/>
          <a:stretch/>
        </p:blipFill>
        <p:spPr>
          <a:xfrm>
            <a:off x="647640" y="1409760"/>
            <a:ext cx="7864560" cy="404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5CE3-9BBD-47F7-982C-1D40DFC7403C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5:01Z</dcterms:modified>
  <cp:revision>53</cp:revision>
  <dc:subject/>
  <dc:title>PowerPoint Presentation</dc:title>
</cp:coreProperties>
</file>