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79812-D102-48F8-8D55-67353DA87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1DAE-BC01-4B65-8E39-3E8848A99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34F4-010B-4C45-85B2-A3A985E49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EFDA-70C3-471D-B6EF-86D7DB466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4A13-CB5B-41E9-A5DF-E7C9F2771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4C9D-3FE2-41FB-8AB1-860CA4661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98E9-0D94-4FE1-B916-E806291BC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6B07-A1A5-4994-B58C-15F9D0B62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56B3-773B-441B-B929-CBA328F72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A4C81-2BF6-4191-949F-913D5920B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A06EF-6067-4CA9-866C-EC55B42A5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2EB1-BB1A-42CE-86CC-0490E122F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3–</a:t>
            </a:r>
            <a:fld id="{8A9F7F6C-8F52-49AB-868C-F62944C7F99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of Transaction Process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3_09" descr=""/>
          <p:cNvPicPr/>
          <p:nvPr/>
        </p:nvPicPr>
        <p:blipFill>
          <a:blip r:embed="rId2"/>
          <a:stretch/>
        </p:blipFill>
        <p:spPr>
          <a:xfrm>
            <a:off x="647640" y="1625760"/>
            <a:ext cx="7864560" cy="361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4145-A6C4-4560-9288-A91657EC19C6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3_10" descr=""/>
          <p:cNvPicPr/>
          <p:nvPr/>
        </p:nvPicPr>
        <p:blipFill>
          <a:blip r:embed="rId2"/>
          <a:stretch/>
        </p:blipFill>
        <p:spPr>
          <a:xfrm>
            <a:off x="647640" y="939960"/>
            <a:ext cx="7864560" cy="49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F402-7BB2-4A7B-852A-3E7F3CC7BBE8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3_11" descr=""/>
          <p:cNvPicPr/>
          <p:nvPr/>
        </p:nvPicPr>
        <p:blipFill>
          <a:blip r:embed="rId2"/>
          <a:stretch/>
        </p:blipFill>
        <p:spPr>
          <a:xfrm>
            <a:off x="647640" y="1079640"/>
            <a:ext cx="7864560" cy="47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29EB-4938-4A4E-9067-4DFE7B773FA8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3_12" descr=""/>
          <p:cNvPicPr/>
          <p:nvPr/>
        </p:nvPicPr>
        <p:blipFill>
          <a:blip r:embed="rId2"/>
          <a:stretch/>
        </p:blipFill>
        <p:spPr>
          <a:xfrm>
            <a:off x="647640" y="851040"/>
            <a:ext cx="7864560" cy="51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289EB-2CE1-450C-ADC3-0B48A526838B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3_13" descr=""/>
          <p:cNvPicPr/>
          <p:nvPr/>
        </p:nvPicPr>
        <p:blipFill>
          <a:blip r:embed="rId2"/>
          <a:stretch/>
        </p:blipFill>
        <p:spPr>
          <a:xfrm>
            <a:off x="647640" y="901800"/>
            <a:ext cx="7864560" cy="50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0987-70C6-46B7-A0A7-FCFC66FCF391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3_14" descr=""/>
          <p:cNvPicPr/>
          <p:nvPr/>
        </p:nvPicPr>
        <p:blipFill>
          <a:blip r:embed="rId2"/>
          <a:stretch/>
        </p:blipFill>
        <p:spPr>
          <a:xfrm>
            <a:off x="647640" y="1828800"/>
            <a:ext cx="7864560" cy="321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41E9C-5C0C-4D8E-879C-88E33794D4FD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3_15" descr=""/>
          <p:cNvPicPr/>
          <p:nvPr/>
        </p:nvPicPr>
        <p:blipFill>
          <a:blip r:embed="rId2"/>
          <a:stretch/>
        </p:blipFill>
        <p:spPr>
          <a:xfrm>
            <a:off x="647640" y="965160"/>
            <a:ext cx="7864560" cy="49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17F7-1D9B-483B-B477-8B850318A51B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3_16" descr=""/>
          <p:cNvPicPr/>
          <p:nvPr/>
        </p:nvPicPr>
        <p:blipFill>
          <a:blip r:embed="rId2"/>
          <a:stretch/>
        </p:blipFill>
        <p:spPr>
          <a:xfrm>
            <a:off x="800280" y="482760"/>
            <a:ext cx="75531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FFC1-1F6C-4030-A393-1102D24B8461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3_17" descr=""/>
          <p:cNvPicPr/>
          <p:nvPr/>
        </p:nvPicPr>
        <p:blipFill>
          <a:blip r:embed="rId2"/>
          <a:stretch/>
        </p:blipFill>
        <p:spPr>
          <a:xfrm>
            <a:off x="647640" y="2146320"/>
            <a:ext cx="7864560" cy="257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D0A6-D811-4441-A543-CCD04CF14EDD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3_18" descr=""/>
          <p:cNvPicPr/>
          <p:nvPr/>
        </p:nvPicPr>
        <p:blipFill>
          <a:blip r:embed="rId2"/>
          <a:stretch/>
        </p:blipFill>
        <p:spPr>
          <a:xfrm>
            <a:off x="647640" y="2070000"/>
            <a:ext cx="7864560" cy="271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50EC-FE8A-4F97-99DD-C001220134C1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3_01" descr=""/>
          <p:cNvPicPr/>
          <p:nvPr/>
        </p:nvPicPr>
        <p:blipFill>
          <a:blip r:embed="rId2"/>
          <a:stretch/>
        </p:blipFill>
        <p:spPr>
          <a:xfrm>
            <a:off x="647640" y="2095560"/>
            <a:ext cx="786456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8473-2ED8-47D3-BC32-E3C08CA55B77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3_19" descr=""/>
          <p:cNvPicPr/>
          <p:nvPr/>
        </p:nvPicPr>
        <p:blipFill>
          <a:blip r:embed="rId2"/>
          <a:stretch/>
        </p:blipFill>
        <p:spPr>
          <a:xfrm>
            <a:off x="647640" y="2273400"/>
            <a:ext cx="7864560" cy="231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65C9-9FEE-4837-80D1-EF536A7D675E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3_20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E591-C433-4AAD-A6D3-EE3335CD15CC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23_21" descr=""/>
          <p:cNvPicPr/>
          <p:nvPr/>
        </p:nvPicPr>
        <p:blipFill>
          <a:blip r:embed="rId2"/>
          <a:stretch/>
        </p:blipFill>
        <p:spPr>
          <a:xfrm>
            <a:off x="647640" y="1625760"/>
            <a:ext cx="7864560" cy="36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234F-B5CE-4092-BDBE-E1CA948165AB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3_22" descr=""/>
          <p:cNvPicPr/>
          <p:nvPr/>
        </p:nvPicPr>
        <p:blipFill>
          <a:blip r:embed="rId2"/>
          <a:stretch/>
        </p:blipFill>
        <p:spPr>
          <a:xfrm>
            <a:off x="647640" y="1879560"/>
            <a:ext cx="7864560" cy="31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964F-6B98-41E4-9706-16DF8FBEDC3F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3_23" descr=""/>
          <p:cNvPicPr/>
          <p:nvPr/>
        </p:nvPicPr>
        <p:blipFill>
          <a:blip r:embed="rId2"/>
          <a:stretch/>
        </p:blipFill>
        <p:spPr>
          <a:xfrm>
            <a:off x="647640" y="736560"/>
            <a:ext cx="7864560" cy="53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B321-D9CF-4675-B41D-8AD3FA2141A5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23_24" descr=""/>
          <p:cNvPicPr/>
          <p:nvPr/>
        </p:nvPicPr>
        <p:blipFill>
          <a:blip r:embed="rId2"/>
          <a:stretch/>
        </p:blipFill>
        <p:spPr>
          <a:xfrm>
            <a:off x="1092240" y="482760"/>
            <a:ext cx="69642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5D6F7-FA23-4108-B132-4B91F488F6B1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23_25" descr=""/>
          <p:cNvPicPr/>
          <p:nvPr/>
        </p:nvPicPr>
        <p:blipFill>
          <a:blip r:embed="rId2"/>
          <a:stretch/>
        </p:blipFill>
        <p:spPr>
          <a:xfrm>
            <a:off x="647640" y="1892160"/>
            <a:ext cx="786456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6C33-85E8-4739-8366-9E7FB81A0373}" type="slidenum">
              <a:t>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3_02" descr=""/>
          <p:cNvPicPr/>
          <p:nvPr/>
        </p:nvPicPr>
        <p:blipFill>
          <a:blip r:embed="rId2"/>
          <a:stretch/>
        </p:blipFill>
        <p:spPr>
          <a:xfrm>
            <a:off x="647640" y="888840"/>
            <a:ext cx="7864560" cy="509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7F9B-286B-44C8-98A7-2EDC8F819782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3_03" descr=""/>
          <p:cNvPicPr/>
          <p:nvPr/>
        </p:nvPicPr>
        <p:blipFill>
          <a:blip r:embed="rId2"/>
          <a:stretch/>
        </p:blipFill>
        <p:spPr>
          <a:xfrm>
            <a:off x="647640" y="888840"/>
            <a:ext cx="7864560" cy="509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1FD86-1B31-4493-8E1E-FE087F1A19B7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3_04" descr=""/>
          <p:cNvPicPr/>
          <p:nvPr/>
        </p:nvPicPr>
        <p:blipFill>
          <a:blip r:embed="rId2"/>
          <a:stretch/>
        </p:blipFill>
        <p:spPr>
          <a:xfrm>
            <a:off x="647640" y="1104840"/>
            <a:ext cx="7864560" cy="46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3590-FC3B-405D-9EB9-EBB449CB588B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3_05" descr=""/>
          <p:cNvPicPr/>
          <p:nvPr/>
        </p:nvPicPr>
        <p:blipFill>
          <a:blip r:embed="rId2"/>
          <a:stretch/>
        </p:blipFill>
        <p:spPr>
          <a:xfrm>
            <a:off x="647640" y="1295280"/>
            <a:ext cx="7864560" cy="42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E079-4C7D-4089-B1AA-B3DD838B1BD8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3_06" descr=""/>
          <p:cNvPicPr/>
          <p:nvPr/>
        </p:nvPicPr>
        <p:blipFill>
          <a:blip r:embed="rId2"/>
          <a:stretch/>
        </p:blipFill>
        <p:spPr>
          <a:xfrm>
            <a:off x="647640" y="1155600"/>
            <a:ext cx="7864560" cy="456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C639-78FA-4F4F-BAE4-87899777805E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3_07" descr=""/>
          <p:cNvPicPr/>
          <p:nvPr/>
        </p:nvPicPr>
        <p:blipFill>
          <a:blip r:embed="rId2"/>
          <a:stretch/>
        </p:blipFill>
        <p:spPr>
          <a:xfrm>
            <a:off x="647640" y="1727280"/>
            <a:ext cx="7864560" cy="33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CD84-444E-4DFE-8ED1-953F58FB8344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3_08" descr=""/>
          <p:cNvPicPr/>
          <p:nvPr/>
        </p:nvPicPr>
        <p:blipFill>
          <a:blip r:embed="rId2"/>
          <a:stretch/>
        </p:blipFill>
        <p:spPr>
          <a:xfrm>
            <a:off x="647640" y="1104840"/>
            <a:ext cx="7864560" cy="46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D1EC-16CA-42D1-AF5E-A0E01AECB28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3:43Z</dcterms:modified>
  <cp:revision>50</cp:revision>
  <dc:subject/>
  <dc:title>PowerPoint Presentation</dc:title>
</cp:coreProperties>
</file>