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7EECE-EEC3-4624-89D0-8F9CE7F10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0EF73-28C3-46E3-8FF2-F98F55C6C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71EC1-B8AA-4FBB-80E7-FA1CE2BE55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EAE38-5332-4F29-BB72-8D82420BF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46F81-8335-4CCC-848F-EE4CE230D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21CC1-C98D-4878-8138-A6449A8F2F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4488C-8051-4973-AC42-F36254931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247B5-2DD1-46AF-8FF7-4152731F0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0B48F-E46D-485C-BF88-5E3139D680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4D540-CDF5-47C8-9F2A-CE7E6ECC6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25BDB-7FEB-480D-BBE5-EBA86558D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E2935-F74A-4818-9C2D-DCF8EBEBE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2–</a:t>
            </a:r>
            <a:fld id="{4500887C-5502-4B11-A551-2481A3FF4F8F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2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2920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ity and Du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22_09a" descr=""/>
          <p:cNvPicPr/>
          <p:nvPr/>
        </p:nvPicPr>
        <p:blipFill>
          <a:blip r:embed="rId2"/>
          <a:stretch/>
        </p:blipFill>
        <p:spPr>
          <a:xfrm>
            <a:off x="647640" y="1638360"/>
            <a:ext cx="7864560" cy="359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DCFBB-E4E6-46F6-8689-CAD894DFA706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22_09b" descr=""/>
          <p:cNvPicPr/>
          <p:nvPr/>
        </p:nvPicPr>
        <p:blipFill>
          <a:blip r:embed="rId2"/>
          <a:stretch/>
        </p:blipFill>
        <p:spPr>
          <a:xfrm>
            <a:off x="647640" y="1523880"/>
            <a:ext cx="7864560" cy="382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A7084-F661-4245-8B34-767050B65EEA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22_09c" descr=""/>
          <p:cNvPicPr/>
          <p:nvPr/>
        </p:nvPicPr>
        <p:blipFill>
          <a:blip r:embed="rId2"/>
          <a:stretch/>
        </p:blipFill>
        <p:spPr>
          <a:xfrm>
            <a:off x="647640" y="1359000"/>
            <a:ext cx="7864560" cy="4136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6CAB3-AD0E-4258-839D-B6E564B071D2}" type="slidenum">
              <a:t>12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22_01" descr=""/>
          <p:cNvPicPr/>
          <p:nvPr/>
        </p:nvPicPr>
        <p:blipFill>
          <a:blip r:embed="rId2"/>
          <a:stretch/>
        </p:blipFill>
        <p:spPr>
          <a:xfrm>
            <a:off x="647640" y="1206360"/>
            <a:ext cx="7864560" cy="444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832B7-60DB-4E37-802A-8D648A1DF1B3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22_02" descr=""/>
          <p:cNvPicPr/>
          <p:nvPr/>
        </p:nvPicPr>
        <p:blipFill>
          <a:blip r:embed="rId2"/>
          <a:stretch/>
        </p:blipFill>
        <p:spPr>
          <a:xfrm>
            <a:off x="647640" y="1219320"/>
            <a:ext cx="7864560" cy="441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53F32-1D2A-450A-813F-D3E96E6A7061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22_03" descr=""/>
          <p:cNvPicPr/>
          <p:nvPr/>
        </p:nvPicPr>
        <p:blipFill>
          <a:blip r:embed="rId2"/>
          <a:stretch/>
        </p:blipFill>
        <p:spPr>
          <a:xfrm>
            <a:off x="647640" y="1663560"/>
            <a:ext cx="7864560" cy="352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22FCE-9FB6-43E2-8765-9FD6E6D453CB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22_04" descr=""/>
          <p:cNvPicPr/>
          <p:nvPr/>
        </p:nvPicPr>
        <p:blipFill>
          <a:blip r:embed="rId2"/>
          <a:stretch/>
        </p:blipFill>
        <p:spPr>
          <a:xfrm>
            <a:off x="1092240" y="482760"/>
            <a:ext cx="697212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62F69-A8AF-46FA-AE33-05837B22B67E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22_05" descr=""/>
          <p:cNvPicPr/>
          <p:nvPr/>
        </p:nvPicPr>
        <p:blipFill>
          <a:blip r:embed="rId2"/>
          <a:stretch/>
        </p:blipFill>
        <p:spPr>
          <a:xfrm>
            <a:off x="952560" y="482760"/>
            <a:ext cx="725472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48444-0438-43EE-B1F1-67D352332104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22_06" descr=""/>
          <p:cNvPicPr/>
          <p:nvPr/>
        </p:nvPicPr>
        <p:blipFill>
          <a:blip r:embed="rId2"/>
          <a:stretch/>
        </p:blipFill>
        <p:spPr>
          <a:xfrm>
            <a:off x="647640" y="1155600"/>
            <a:ext cx="7864560" cy="455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0E7EF-2619-4635-B2E9-A4CBF0502047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22_07" descr=""/>
          <p:cNvPicPr/>
          <p:nvPr/>
        </p:nvPicPr>
        <p:blipFill>
          <a:blip r:embed="rId2"/>
          <a:stretch/>
        </p:blipFill>
        <p:spPr>
          <a:xfrm>
            <a:off x="647640" y="1587600"/>
            <a:ext cx="7864560" cy="369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A84F7-AAAC-40DF-B99D-2869E1BAF64F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22_08" descr=""/>
          <p:cNvPicPr/>
          <p:nvPr/>
        </p:nvPicPr>
        <p:blipFill>
          <a:blip r:embed="rId2"/>
          <a:stretch/>
        </p:blipFill>
        <p:spPr>
          <a:xfrm>
            <a:off x="647640" y="1955880"/>
            <a:ext cx="7864560" cy="294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A50DA-DAD4-41F6-9AE7-A1313E3648CD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24T16:51:18Z</dcterms:modified>
  <cp:revision>48</cp:revision>
  <dc:subject/>
  <dc:title>PowerPoint Presentation</dc:title>
</cp:coreProperties>
</file>