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A1C98-63E3-4523-A548-E74080788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98202-21E8-4546-A6A6-8BD939A71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E0248-1861-470D-ACC0-A6522021F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ABDE5-6245-4A16-800F-03D0F1E46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4D127-BC45-4224-810B-9A95A400A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7B8EF-B33C-4F0C-83AD-56E77D73A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3250C-C041-4289-B0B8-685BE400D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6A0E2-8F74-4A16-9ABF-1686B82A6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C9F68-2FC8-426A-962E-27266FF0C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A5216-F368-4880-8F82-23414981B8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8F60E-561C-45C9-9092-DB04ACEB1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C9999-862C-4CE4-8633-3F558475C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–</a:t>
            </a:r>
            <a:fld id="{985CB58B-0E36-4A84-8191-480B573DC28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2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ion in Relational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21_09" descr=""/>
          <p:cNvPicPr/>
          <p:nvPr/>
        </p:nvPicPr>
        <p:blipFill>
          <a:blip r:embed="rId2"/>
          <a:stretch/>
        </p:blipFill>
        <p:spPr>
          <a:xfrm>
            <a:off x="647640" y="2006640"/>
            <a:ext cx="7864560" cy="285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5DD12-1937-444D-8598-A8CB80BC72A0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21_10" descr=""/>
          <p:cNvPicPr/>
          <p:nvPr/>
        </p:nvPicPr>
        <p:blipFill>
          <a:blip r:embed="rId2"/>
          <a:stretch/>
        </p:blipFill>
        <p:spPr>
          <a:xfrm>
            <a:off x="647640" y="584280"/>
            <a:ext cx="7864560" cy="57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6B338-7148-4205-8F99-57D6B1B198A2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21_11" descr=""/>
          <p:cNvPicPr/>
          <p:nvPr/>
        </p:nvPicPr>
        <p:blipFill>
          <a:blip r:embed="rId2"/>
          <a:stretch/>
        </p:blipFill>
        <p:spPr>
          <a:xfrm>
            <a:off x="1689120" y="482760"/>
            <a:ext cx="578160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22326-3779-456D-8646-1F88C147BD44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21_12" descr=""/>
          <p:cNvPicPr/>
          <p:nvPr/>
        </p:nvPicPr>
        <p:blipFill>
          <a:blip r:embed="rId2"/>
          <a:stretch/>
        </p:blipFill>
        <p:spPr>
          <a:xfrm>
            <a:off x="647640" y="1041480"/>
            <a:ext cx="7864560" cy="478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79F20-137C-4BF5-83C0-8FFB4244AB30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21_13" descr=""/>
          <p:cNvPicPr/>
          <p:nvPr/>
        </p:nvPicPr>
        <p:blipFill>
          <a:blip r:embed="rId2"/>
          <a:stretch/>
        </p:blipFill>
        <p:spPr>
          <a:xfrm>
            <a:off x="647640" y="2793960"/>
            <a:ext cx="7864560" cy="126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56B91-351E-4E66-8843-048767575B89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21_14" descr=""/>
          <p:cNvPicPr/>
          <p:nvPr/>
        </p:nvPicPr>
        <p:blipFill>
          <a:blip r:embed="rId2"/>
          <a:stretch/>
        </p:blipFill>
        <p:spPr>
          <a:xfrm>
            <a:off x="647640" y="2705040"/>
            <a:ext cx="7864560" cy="146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ABD4F-45CB-43A3-B1AA-056E521E843D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21_15" descr=""/>
          <p:cNvPicPr/>
          <p:nvPr/>
        </p:nvPicPr>
        <p:blipFill>
          <a:blip r:embed="rId2"/>
          <a:stretch/>
        </p:blipFill>
        <p:spPr>
          <a:xfrm>
            <a:off x="647640" y="2654280"/>
            <a:ext cx="7864560" cy="154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539B8-5D59-4850-A975-102D10097E93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21_16" descr=""/>
          <p:cNvPicPr/>
          <p:nvPr/>
        </p:nvPicPr>
        <p:blipFill>
          <a:blip r:embed="rId2"/>
          <a:stretch/>
        </p:blipFill>
        <p:spPr>
          <a:xfrm>
            <a:off x="647640" y="2781360"/>
            <a:ext cx="7864560" cy="131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15108-BE56-4477-9335-1F751E59FB1A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1_17" descr=""/>
          <p:cNvPicPr/>
          <p:nvPr/>
        </p:nvPicPr>
        <p:blipFill>
          <a:blip r:embed="rId2"/>
          <a:stretch/>
        </p:blipFill>
        <p:spPr>
          <a:xfrm>
            <a:off x="647640" y="2654280"/>
            <a:ext cx="7864560" cy="155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F9CE1-97D5-4F68-AD92-14404FDBC5A4}" type="slidenum">
              <a:t>18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21_01" descr=""/>
          <p:cNvPicPr/>
          <p:nvPr/>
        </p:nvPicPr>
        <p:blipFill>
          <a:blip r:embed="rId2"/>
          <a:stretch/>
        </p:blipFill>
        <p:spPr>
          <a:xfrm>
            <a:off x="647640" y="1219320"/>
            <a:ext cx="7864560" cy="443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BA5AA-CC2C-4ED0-A2A3-63679F079A09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21_02" descr=""/>
          <p:cNvPicPr/>
          <p:nvPr/>
        </p:nvPicPr>
        <p:blipFill>
          <a:blip r:embed="rId2"/>
          <a:stretch/>
        </p:blipFill>
        <p:spPr>
          <a:xfrm>
            <a:off x="647640" y="1981080"/>
            <a:ext cx="7864560" cy="290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8A597-3B66-4CE2-A1F5-F548DED34D2A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21_03" descr=""/>
          <p:cNvPicPr/>
          <p:nvPr/>
        </p:nvPicPr>
        <p:blipFill>
          <a:blip r:embed="rId2"/>
          <a:stretch/>
        </p:blipFill>
        <p:spPr>
          <a:xfrm>
            <a:off x="647640" y="2235240"/>
            <a:ext cx="7864560" cy="239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1B8F5-BE1C-4406-8416-01AF953B1009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21_04" descr=""/>
          <p:cNvPicPr/>
          <p:nvPr/>
        </p:nvPicPr>
        <p:blipFill>
          <a:blip r:embed="rId2"/>
          <a:stretch/>
        </p:blipFill>
        <p:spPr>
          <a:xfrm>
            <a:off x="647640" y="2819520"/>
            <a:ext cx="7864560" cy="122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25D78-2D4B-4FF0-AF7C-C42DBC3E4EB1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21_05" descr=""/>
          <p:cNvPicPr/>
          <p:nvPr/>
        </p:nvPicPr>
        <p:blipFill>
          <a:blip r:embed="rId2"/>
          <a:stretch/>
        </p:blipFill>
        <p:spPr>
          <a:xfrm>
            <a:off x="647640" y="2882880"/>
            <a:ext cx="7864560" cy="108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609C3-582B-48D0-9891-04C8DC0A0EAA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21_06" descr=""/>
          <p:cNvPicPr/>
          <p:nvPr/>
        </p:nvPicPr>
        <p:blipFill>
          <a:blip r:embed="rId2"/>
          <a:stretch/>
        </p:blipFill>
        <p:spPr>
          <a:xfrm>
            <a:off x="647640" y="2908440"/>
            <a:ext cx="7864560" cy="10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64E76-9D11-4A3C-A26A-E13E6FC83D4A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21_07" descr=""/>
          <p:cNvPicPr/>
          <p:nvPr/>
        </p:nvPicPr>
        <p:blipFill>
          <a:blip r:embed="rId2"/>
          <a:stretch/>
        </p:blipFill>
        <p:spPr>
          <a:xfrm>
            <a:off x="647640" y="2819520"/>
            <a:ext cx="7864560" cy="123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C468A-B223-4A72-9FED-7E1BCD07F0A1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21_08" descr=""/>
          <p:cNvPicPr/>
          <p:nvPr/>
        </p:nvPicPr>
        <p:blipFill>
          <a:blip r:embed="rId2"/>
          <a:stretch/>
        </p:blipFill>
        <p:spPr>
          <a:xfrm>
            <a:off x="647640" y="2527200"/>
            <a:ext cx="7864560" cy="181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832DC-A866-4877-9907-526B9BF85D27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6:49:45Z</dcterms:modified>
  <cp:revision>46</cp:revision>
  <dc:subject/>
  <dc:title>PowerPoint Presentation</dc:title>
</cp:coreProperties>
</file>