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67EC-A1F1-4C14-9B40-6FBA779AD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C621-6C17-499D-BA73-A14E99336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255F-E781-4F43-B561-2659730D1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2452-6972-4C16-896A-C687D4169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9CC3-AA72-41F9-939C-15DB9E6AC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3AE4-96A2-4F26-91DF-80CA92578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4859-FD1D-4B80-9893-6BCBAE308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FE25-1070-4F4D-87C2-0B1FB3D55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72F3-4641-4221-81B0-021D8B48C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24237-E0FA-4DFD-8489-A27E51EAA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FB11-F80C-4BC1-AC06-0EE3A84F2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625E-44A6-42A2-B120-23C2F970F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–</a:t>
            </a:r>
            <a:fld id="{5215FDF9-6716-4C11-96BA-6B566FDD01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2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20_09" descr=""/>
          <p:cNvPicPr/>
          <p:nvPr/>
        </p:nvPicPr>
        <p:blipFill>
          <a:blip r:embed="rId2"/>
          <a:stretch/>
        </p:blipFill>
        <p:spPr>
          <a:xfrm>
            <a:off x="647640" y="2692440"/>
            <a:ext cx="7864560" cy="148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697F-A5C6-415E-866D-2A78318EB2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0_10" descr=""/>
          <p:cNvPicPr/>
          <p:nvPr/>
        </p:nvPicPr>
        <p:blipFill>
          <a:blip r:embed="rId2"/>
          <a:stretch/>
        </p:blipFill>
        <p:spPr>
          <a:xfrm>
            <a:off x="647640" y="2768760"/>
            <a:ext cx="7864560" cy="132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34DB0-C826-423D-A685-1FC0019248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0_11" descr=""/>
          <p:cNvPicPr/>
          <p:nvPr/>
        </p:nvPicPr>
        <p:blipFill>
          <a:blip r:embed="rId2"/>
          <a:stretch/>
        </p:blipFill>
        <p:spPr>
          <a:xfrm>
            <a:off x="647640" y="1689120"/>
            <a:ext cx="7864560" cy="348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C105-4CBE-4C50-B55C-49EB96A39A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20_12" descr=""/>
          <p:cNvPicPr/>
          <p:nvPr/>
        </p:nvPicPr>
        <p:blipFill>
          <a:blip r:embed="rId2"/>
          <a:stretch/>
        </p:blipFill>
        <p:spPr>
          <a:xfrm>
            <a:off x="647640" y="2844720"/>
            <a:ext cx="7864560" cy="116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CA6D-452E-4E59-BCBB-BBF8115294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0_13" descr=""/>
          <p:cNvPicPr/>
          <p:nvPr/>
        </p:nvPicPr>
        <p:blipFill>
          <a:blip r:embed="rId2"/>
          <a:stretch/>
        </p:blipFill>
        <p:spPr>
          <a:xfrm>
            <a:off x="647640" y="2832120"/>
            <a:ext cx="7864560" cy="119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8A2E-6498-4131-95EB-6A2A97B0EC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20_14" descr=""/>
          <p:cNvPicPr/>
          <p:nvPr/>
        </p:nvPicPr>
        <p:blipFill>
          <a:blip r:embed="rId2"/>
          <a:stretch/>
        </p:blipFill>
        <p:spPr>
          <a:xfrm>
            <a:off x="647640" y="2819520"/>
            <a:ext cx="7864560" cy="121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E807-D079-420F-9DFD-BE1274AA18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0_15" descr=""/>
          <p:cNvPicPr/>
          <p:nvPr/>
        </p:nvPicPr>
        <p:blipFill>
          <a:blip r:embed="rId2"/>
          <a:stretch/>
        </p:blipFill>
        <p:spPr>
          <a:xfrm>
            <a:off x="647640" y="2908440"/>
            <a:ext cx="7864560" cy="104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1474-AB9E-4181-8441-9E2386406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0_16" descr=""/>
          <p:cNvPicPr/>
          <p:nvPr/>
        </p:nvPicPr>
        <p:blipFill>
          <a:blip r:embed="rId2"/>
          <a:stretch/>
        </p:blipFill>
        <p:spPr>
          <a:xfrm>
            <a:off x="647640" y="2921040"/>
            <a:ext cx="7864560" cy="10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2C8A-9C7E-41C2-AE0D-C0AE8B3E0E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_17" descr=""/>
          <p:cNvPicPr/>
          <p:nvPr/>
        </p:nvPicPr>
        <p:blipFill>
          <a:blip r:embed="rId2"/>
          <a:stretch/>
        </p:blipFill>
        <p:spPr>
          <a:xfrm>
            <a:off x="647640" y="2425680"/>
            <a:ext cx="7864560" cy="202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64FD-2AF3-4F35-A261-3FB446E2A0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_18" descr=""/>
          <p:cNvPicPr/>
          <p:nvPr/>
        </p:nvPicPr>
        <p:blipFill>
          <a:blip r:embed="rId2"/>
          <a:stretch/>
        </p:blipFill>
        <p:spPr>
          <a:xfrm>
            <a:off x="647640" y="2235240"/>
            <a:ext cx="7864560" cy="238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3DB13-1B40-456C-92B6-FF751BF699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0_01" descr=""/>
          <p:cNvPicPr/>
          <p:nvPr/>
        </p:nvPicPr>
        <p:blipFill>
          <a:blip r:embed="rId2"/>
          <a:stretch/>
        </p:blipFill>
        <p:spPr>
          <a:xfrm>
            <a:off x="647640" y="1371600"/>
            <a:ext cx="7864560" cy="41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9371-EECB-4437-9F53-3FE78E751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20_19" descr=""/>
          <p:cNvPicPr/>
          <p:nvPr/>
        </p:nvPicPr>
        <p:blipFill>
          <a:blip r:embed="rId2"/>
          <a:stretch/>
        </p:blipFill>
        <p:spPr>
          <a:xfrm>
            <a:off x="647640" y="2476440"/>
            <a:ext cx="7864560" cy="19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218E-B8D9-4A69-9AD2-AD012AD6C3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0_20" descr=""/>
          <p:cNvPicPr/>
          <p:nvPr/>
        </p:nvPicPr>
        <p:blipFill>
          <a:blip r:embed="rId2"/>
          <a:stretch/>
        </p:blipFill>
        <p:spPr>
          <a:xfrm>
            <a:off x="647640" y="1257480"/>
            <a:ext cx="7864560" cy="43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C707-C083-4083-A4F2-4758C61410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20_21" descr=""/>
          <p:cNvPicPr/>
          <p:nvPr/>
        </p:nvPicPr>
        <p:blipFill>
          <a:blip r:embed="rId2"/>
          <a:stretch/>
        </p:blipFill>
        <p:spPr>
          <a:xfrm>
            <a:off x="698400" y="482760"/>
            <a:ext cx="77612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9F0C-29F6-426D-B6F9-39353D8F36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0_23a" descr=""/>
          <p:cNvPicPr/>
          <p:nvPr/>
        </p:nvPicPr>
        <p:blipFill>
          <a:blip r:embed="rId2"/>
          <a:stretch/>
        </p:blipFill>
        <p:spPr>
          <a:xfrm>
            <a:off x="647640" y="1130400"/>
            <a:ext cx="7864560" cy="46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E1E4-778D-4BFB-AE4F-50036681F7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20_23b" descr=""/>
          <p:cNvPicPr/>
          <p:nvPr/>
        </p:nvPicPr>
        <p:blipFill>
          <a:blip r:embed="rId2"/>
          <a:stretch/>
        </p:blipFill>
        <p:spPr>
          <a:xfrm>
            <a:off x="927000" y="482760"/>
            <a:ext cx="72900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C479-985F-42FC-9190-9B79CB82F5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0_02" descr=""/>
          <p:cNvPicPr/>
          <p:nvPr/>
        </p:nvPicPr>
        <p:blipFill>
          <a:blip r:embed="rId2"/>
          <a:stretch/>
        </p:blipFill>
        <p:spPr>
          <a:xfrm>
            <a:off x="647640" y="2006640"/>
            <a:ext cx="7864560" cy="28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B084-96B6-4C9A-A4F1-A0A069C34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20_03" descr=""/>
          <p:cNvPicPr/>
          <p:nvPr/>
        </p:nvPicPr>
        <p:blipFill>
          <a:blip r:embed="rId2"/>
          <a:stretch/>
        </p:blipFill>
        <p:spPr>
          <a:xfrm>
            <a:off x="647640" y="2895480"/>
            <a:ext cx="7864560" cy="10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D1E12-3CB1-4925-9C60-37FE624722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20_04" descr=""/>
          <p:cNvPicPr/>
          <p:nvPr/>
        </p:nvPicPr>
        <p:blipFill>
          <a:blip r:embed="rId2"/>
          <a:stretch/>
        </p:blipFill>
        <p:spPr>
          <a:xfrm>
            <a:off x="647640" y="2717640"/>
            <a:ext cx="7864560" cy="141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4087-BE19-48C3-8485-66D92E89F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0_05" descr=""/>
          <p:cNvPicPr/>
          <p:nvPr/>
        </p:nvPicPr>
        <p:blipFill>
          <a:blip r:embed="rId2"/>
          <a:stretch/>
        </p:blipFill>
        <p:spPr>
          <a:xfrm>
            <a:off x="647640" y="851040"/>
            <a:ext cx="7864560" cy="517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224A-4D1D-4223-A1E8-28858269ED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20_06" descr=""/>
          <p:cNvPicPr/>
          <p:nvPr/>
        </p:nvPicPr>
        <p:blipFill>
          <a:blip r:embed="rId2"/>
          <a:stretch/>
        </p:blipFill>
        <p:spPr>
          <a:xfrm>
            <a:off x="647640" y="1790640"/>
            <a:ext cx="7864560" cy="32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89B1-4343-41B3-A36F-B06C727A02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20_07" descr=""/>
          <p:cNvPicPr/>
          <p:nvPr/>
        </p:nvPicPr>
        <p:blipFill>
          <a:blip r:embed="rId2"/>
          <a:stretch/>
        </p:blipFill>
        <p:spPr>
          <a:xfrm>
            <a:off x="647640" y="2921040"/>
            <a:ext cx="7864560" cy="10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7FD80-A818-4475-BB12-548444AF6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0_08" descr=""/>
          <p:cNvPicPr/>
          <p:nvPr/>
        </p:nvPicPr>
        <p:blipFill>
          <a:blip r:embed="rId2"/>
          <a:stretch/>
        </p:blipFill>
        <p:spPr>
          <a:xfrm>
            <a:off x="647640" y="2908440"/>
            <a:ext cx="7864560" cy="104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BB27-34DE-443B-9638-54C1B9418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46:41Z</dcterms:modified>
  <cp:revision>44</cp:revision>
  <dc:subject/>
  <dc:title>PowerPoint Presentation</dc:title>
</cp:coreProperties>
</file>