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C35B4E-A833-45CE-B437-B014469FD3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D9165A-7653-42E9-90C3-49970874A5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1291D2-3573-4889-9447-B26ABDFB3B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881F08-BD2B-422A-8DD1-A2E1B85CB5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EDD2EF-8D0A-4655-B553-15C356EB06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1B20C2-A118-4F84-AECA-2ADA60D31D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6B9734-A62E-460E-A09E-F27EFAB636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C4A8AD-550A-4158-BFD4-E6531EA98E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B169AD-332C-4BBD-B2F2-31DF03826A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E1A8D7-9871-41E3-A5B8-D49910D242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0425CA-60BD-4430-BC00-B36664170B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16E6D5-5DF2-49A2-86F1-BD02D24431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85440" y="6362640"/>
            <a:ext cx="4343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pyright © 2006 Pearson Addison-Wesley. All rights reserved.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010280" y="63817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9–</a:t>
            </a:r>
            <a:fld id="{D5CFDD14-C6B4-49E5-9437-E027F1FADEC7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029200" y="1218960"/>
            <a:ext cx="36576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29200" y="1218960"/>
            <a:ext cx="36576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hapter  19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5029200" y="2209320"/>
            <a:ext cx="36576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els of Trans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19_09" descr=""/>
          <p:cNvPicPr/>
          <p:nvPr/>
        </p:nvPicPr>
        <p:blipFill>
          <a:blip r:embed="rId2"/>
          <a:stretch/>
        </p:blipFill>
        <p:spPr>
          <a:xfrm>
            <a:off x="647640" y="1714680"/>
            <a:ext cx="7864560" cy="3436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DCF112-9187-46A9-A3CF-AEF56F77B746}" type="slidenum">
              <a:t>10</a:t>
            </a:fld>
          </a:p>
        </p:txBody>
      </p:sp>
    </p:spTree>
  </p:cSld>
  <p:transition spd="med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19_10" descr=""/>
          <p:cNvPicPr/>
          <p:nvPr/>
        </p:nvPicPr>
        <p:blipFill>
          <a:blip r:embed="rId2"/>
          <a:stretch/>
        </p:blipFill>
        <p:spPr>
          <a:xfrm>
            <a:off x="647640" y="1714680"/>
            <a:ext cx="7864560" cy="3436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9F283F-C479-456B-A51D-18A0B73421C4}" type="slidenum">
              <a:t>11</a:t>
            </a:fld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19_01" descr=""/>
          <p:cNvPicPr/>
          <p:nvPr/>
        </p:nvPicPr>
        <p:blipFill>
          <a:blip r:embed="rId2"/>
          <a:stretch/>
        </p:blipFill>
        <p:spPr>
          <a:xfrm>
            <a:off x="647640" y="1676520"/>
            <a:ext cx="7864560" cy="3506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0BCDCB-D429-443C-8953-9DB3C4CD30F5}" type="slidenum">
              <a:t>2</a:t>
            </a:fld>
          </a:p>
        </p:txBody>
      </p: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19_02" descr=""/>
          <p:cNvPicPr/>
          <p:nvPr/>
        </p:nvPicPr>
        <p:blipFill>
          <a:blip r:embed="rId2"/>
          <a:stretch/>
        </p:blipFill>
        <p:spPr>
          <a:xfrm>
            <a:off x="647640" y="1536840"/>
            <a:ext cx="7864560" cy="3781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05B5D0-ADF1-49C4-B724-7BA30CEA36EE}" type="slidenum">
              <a:t>3</a:t>
            </a:fld>
          </a:p>
        </p:txBody>
      </p: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19_03" descr=""/>
          <p:cNvPicPr/>
          <p:nvPr/>
        </p:nvPicPr>
        <p:blipFill>
          <a:blip r:embed="rId2"/>
          <a:stretch/>
        </p:blipFill>
        <p:spPr>
          <a:xfrm>
            <a:off x="647640" y="1739880"/>
            <a:ext cx="7864560" cy="3381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3EFE8C-1CD1-4DF0-BECB-52F51748FA59}" type="slidenum">
              <a:t>4</a:t>
            </a:fld>
          </a:p>
        </p:txBody>
      </p:sp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19_04" descr=""/>
          <p:cNvPicPr/>
          <p:nvPr/>
        </p:nvPicPr>
        <p:blipFill>
          <a:blip r:embed="rId2"/>
          <a:stretch/>
        </p:blipFill>
        <p:spPr>
          <a:xfrm>
            <a:off x="1066680" y="482760"/>
            <a:ext cx="7005600" cy="5897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B3A40C-407E-4C13-A8F8-B3B8C31650D9}" type="slidenum">
              <a:t>5</a:t>
            </a:fld>
          </a:p>
        </p:txBody>
      </p:sp>
    </p:spTree>
  </p:cSld>
  <p:transition spd="med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19_05" descr=""/>
          <p:cNvPicPr/>
          <p:nvPr/>
        </p:nvPicPr>
        <p:blipFill>
          <a:blip r:embed="rId2"/>
          <a:stretch/>
        </p:blipFill>
        <p:spPr>
          <a:xfrm>
            <a:off x="647640" y="2425680"/>
            <a:ext cx="7864560" cy="2014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844A82-21FD-48E8-AE12-A019072BDB71}" type="slidenum">
              <a:t>6</a:t>
            </a:fld>
          </a:p>
        </p:txBody>
      </p:sp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19_06" descr=""/>
          <p:cNvPicPr/>
          <p:nvPr/>
        </p:nvPicPr>
        <p:blipFill>
          <a:blip r:embed="rId2"/>
          <a:stretch/>
        </p:blipFill>
        <p:spPr>
          <a:xfrm>
            <a:off x="647640" y="2006640"/>
            <a:ext cx="7864560" cy="2846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928D56-389E-49AB-BFD6-2B345BA77F9C}" type="slidenum">
              <a:t>7</a:t>
            </a:fld>
          </a:p>
        </p:txBody>
      </p:sp>
    </p:spTree>
  </p:cSld>
  <p:transition spd="med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19_07" descr=""/>
          <p:cNvPicPr/>
          <p:nvPr/>
        </p:nvPicPr>
        <p:blipFill>
          <a:blip r:embed="rId2"/>
          <a:stretch/>
        </p:blipFill>
        <p:spPr>
          <a:xfrm>
            <a:off x="647640" y="1701720"/>
            <a:ext cx="7864560" cy="3459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A23ABF-F95C-4F6E-80D2-1C46441D2412}" type="slidenum">
              <a:t>8</a:t>
            </a:fld>
          </a:p>
        </p:txBody>
      </p:sp>
    </p:spTree>
  </p:cSld>
  <p:transition spd="med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19_08" descr=""/>
          <p:cNvPicPr/>
          <p:nvPr/>
        </p:nvPicPr>
        <p:blipFill>
          <a:blip r:embed="rId2"/>
          <a:stretch/>
        </p:blipFill>
        <p:spPr>
          <a:xfrm>
            <a:off x="647640" y="1092240"/>
            <a:ext cx="7864560" cy="4678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B062F1-1538-4755-98F3-7DCA8971C81C}" type="slidenum">
              <a:t>9</a:t>
            </a:fld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6T20:11:54Z</dcterms:created>
  <dc:creator>Copyright ©2006 Pearson Addison-Wesley</dc:creator>
  <dc:description/>
  <dc:language>en-US</dc:language>
  <cp:lastModifiedBy>AnnMarie</cp:lastModifiedBy>
  <dcterms:modified xsi:type="dcterms:W3CDTF">2005-06-24T16:45:00Z</dcterms:modified>
  <cp:revision>45</cp:revision>
  <dc:subject/>
  <dc:title>PowerPoint Presentation</dc:title>
</cp:coreProperties>
</file>