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CCC8-2651-4C92-B88A-8DC5D6277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99E0-DB9F-4CA6-9D02-790E66B8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AD99A-B770-408E-8B06-B2BA2D5AC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D2DE-3F96-468A-9849-064A4D2CF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CD9A8-B6DD-4660-8A32-78B78D8EC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7CC72-3A30-4F52-9D9F-82D5302A5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4864C-9CD8-4D38-8BB1-CA61E1BC4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F24B-4311-4AF2-95A0-E7CD7B1E8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E23A-C9AD-4F70-BF81-394645419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5483-F70F-4148-B153-4ABFD3A60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B2EF-99AC-4F81-B0A1-D52C1E7A1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D02C-C690-47BD-8E79-7CE678DE6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–</a:t>
            </a:r>
            <a:fld id="{FBD53D56-EED7-405C-99F1-98E8D01D4F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8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Properties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8_01" descr=""/>
          <p:cNvPicPr/>
          <p:nvPr/>
        </p:nvPicPr>
        <p:blipFill>
          <a:blip r:embed="rId2"/>
          <a:stretch/>
        </p:blipFill>
        <p:spPr>
          <a:xfrm>
            <a:off x="647640" y="888840"/>
            <a:ext cx="7864560" cy="508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162B-8CF9-4007-9DBF-AD7D8B2A92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8_02" descr=""/>
          <p:cNvPicPr/>
          <p:nvPr/>
        </p:nvPicPr>
        <p:blipFill>
          <a:blip r:embed="rId2"/>
          <a:stretch/>
        </p:blipFill>
        <p:spPr>
          <a:xfrm>
            <a:off x="647640" y="2540160"/>
            <a:ext cx="7864560" cy="179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37CD-F422-471B-A5AB-FC3F97407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8_03" descr=""/>
          <p:cNvPicPr/>
          <p:nvPr/>
        </p:nvPicPr>
        <p:blipFill>
          <a:blip r:embed="rId2"/>
          <a:stretch/>
        </p:blipFill>
        <p:spPr>
          <a:xfrm>
            <a:off x="647640" y="2793960"/>
            <a:ext cx="7864560" cy="127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761F-0EFE-4E19-B850-DE95E24CC7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3:40Z</dcterms:modified>
  <cp:revision>42</cp:revision>
  <dc:subject/>
  <dc:title>PowerPoint Presentation</dc:title>
</cp:coreProperties>
</file>