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5F604-EA52-40BB-B98D-5C2A4F9ECB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32BD2-B185-4217-90A7-C2D0781F4A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34904-011F-47F5-B27C-8D8F4DB79E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25703-A205-46B7-807C-252012D8B0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7273D-2BDD-404F-9A00-19DB306B7A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15B31-4B48-4E98-8879-D70FE9057A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78452-B4CD-4FDE-B42B-239135ABC3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3215C-EC75-4EBD-A12B-94B551ED25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CF988-32B0-49C9-BA50-CF889115A7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B6504-28EC-476F-905B-F3DA3F10B2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20EE0-1FCD-485D-B79B-D32946DBCD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9F995-6572-4042-BE4F-117687966E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36264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pyright © 2006 Pearson Addison-Wesley. All rights reserved.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102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7–</a:t>
            </a:r>
            <a:fld id="{798EE1E5-9475-4656-B889-E53B7D85F7A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 17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029200" y="2209320"/>
            <a:ext cx="3657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AP and Data M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17_08" descr=""/>
          <p:cNvPicPr/>
          <p:nvPr/>
        </p:nvPicPr>
        <p:blipFill>
          <a:blip r:embed="rId2"/>
          <a:stretch/>
        </p:blipFill>
        <p:spPr>
          <a:xfrm>
            <a:off x="647640" y="1994040"/>
            <a:ext cx="7864560" cy="2877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54106-9553-4C32-ACFA-4CF570A247B6}" type="slidenum">
              <a:t>10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17_09" descr=""/>
          <p:cNvPicPr/>
          <p:nvPr/>
        </p:nvPicPr>
        <p:blipFill>
          <a:blip r:embed="rId2"/>
          <a:stretch/>
        </p:blipFill>
        <p:spPr>
          <a:xfrm>
            <a:off x="647640" y="952560"/>
            <a:ext cx="7864560" cy="4946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D2F5D-34C8-4057-8C26-D5E8C6190BE8}" type="slidenum">
              <a:t>11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17_10" descr=""/>
          <p:cNvPicPr/>
          <p:nvPr/>
        </p:nvPicPr>
        <p:blipFill>
          <a:blip r:embed="rId2"/>
          <a:stretch/>
        </p:blipFill>
        <p:spPr>
          <a:xfrm>
            <a:off x="647640" y="1727280"/>
            <a:ext cx="7864560" cy="342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FAA55-B1A7-4A72-9E3C-994B31FFDBAE}" type="slidenum">
              <a:t>12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17_11" descr=""/>
          <p:cNvPicPr/>
          <p:nvPr/>
        </p:nvPicPr>
        <p:blipFill>
          <a:blip r:embed="rId2"/>
          <a:stretch/>
        </p:blipFill>
        <p:spPr>
          <a:xfrm>
            <a:off x="2044800" y="482760"/>
            <a:ext cx="505440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53D51-FEE8-453D-92D5-EAF07088A948}" type="slidenum">
              <a:t>13</a:t>
            </a:fld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17_12" descr=""/>
          <p:cNvPicPr/>
          <p:nvPr/>
        </p:nvPicPr>
        <p:blipFill>
          <a:blip r:embed="rId2"/>
          <a:stretch/>
        </p:blipFill>
        <p:spPr>
          <a:xfrm>
            <a:off x="1511280" y="482760"/>
            <a:ext cx="613728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8034C-4D8A-4FD2-A055-E9EC32BF0217}" type="slidenum">
              <a:t>14</a:t>
            </a:fld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17_13a" descr=""/>
          <p:cNvPicPr/>
          <p:nvPr/>
        </p:nvPicPr>
        <p:blipFill>
          <a:blip r:embed="rId2"/>
          <a:stretch/>
        </p:blipFill>
        <p:spPr>
          <a:xfrm>
            <a:off x="1244520" y="482760"/>
            <a:ext cx="667224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D8A46-5499-43C1-9212-077F97EA5EF2}" type="slidenum">
              <a:t>15</a:t>
            </a:fld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17_13b" descr=""/>
          <p:cNvPicPr/>
          <p:nvPr/>
        </p:nvPicPr>
        <p:blipFill>
          <a:blip r:embed="rId2"/>
          <a:stretch/>
        </p:blipFill>
        <p:spPr>
          <a:xfrm>
            <a:off x="2832120" y="482760"/>
            <a:ext cx="348948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07905-48B6-46CD-AC2E-F7BE1874C0A5}" type="slidenum">
              <a:t>16</a:t>
            </a:fld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17_13c" descr=""/>
          <p:cNvPicPr/>
          <p:nvPr/>
        </p:nvPicPr>
        <p:blipFill>
          <a:blip r:embed="rId2"/>
          <a:stretch/>
        </p:blipFill>
        <p:spPr>
          <a:xfrm>
            <a:off x="647640" y="1308240"/>
            <a:ext cx="7864560" cy="425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E5916-D2CC-47C5-A7E2-2CB013690FF3}" type="slidenum">
              <a:t>17</a:t>
            </a:fld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17_14" descr=""/>
          <p:cNvPicPr/>
          <p:nvPr/>
        </p:nvPicPr>
        <p:blipFill>
          <a:blip r:embed="rId2"/>
          <a:stretch/>
        </p:blipFill>
        <p:spPr>
          <a:xfrm>
            <a:off x="647640" y="1282680"/>
            <a:ext cx="7864560" cy="429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7041A-5FD4-4262-AB5A-CDB03DF635EF}" type="slidenum">
              <a:t>18</a:t>
            </a:fld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17_15" descr=""/>
          <p:cNvPicPr/>
          <p:nvPr/>
        </p:nvPicPr>
        <p:blipFill>
          <a:blip r:embed="rId2"/>
          <a:stretch/>
        </p:blipFill>
        <p:spPr>
          <a:xfrm>
            <a:off x="1879560" y="482760"/>
            <a:ext cx="538164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6DC7D-85BC-48DD-9C24-7149E84774EC}" type="slidenum">
              <a:t>19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17_01a" descr=""/>
          <p:cNvPicPr/>
          <p:nvPr/>
        </p:nvPicPr>
        <p:blipFill>
          <a:blip r:embed="rId2"/>
          <a:stretch/>
        </p:blipFill>
        <p:spPr>
          <a:xfrm>
            <a:off x="1549440" y="482760"/>
            <a:ext cx="606096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284EB-F340-4011-ADB6-E4187C1D22A6}" type="slidenum">
              <a:t>2</a:t>
            </a:fld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17_16" descr=""/>
          <p:cNvPicPr/>
          <p:nvPr/>
        </p:nvPicPr>
        <p:blipFill>
          <a:blip r:embed="rId2"/>
          <a:stretch/>
        </p:blipFill>
        <p:spPr>
          <a:xfrm>
            <a:off x="1587600" y="482760"/>
            <a:ext cx="597528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14472-A7FC-48BC-ADB8-D54FA6B54129}" type="slidenum">
              <a:t>20</a:t>
            </a:fld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17_17" descr=""/>
          <p:cNvPicPr/>
          <p:nvPr/>
        </p:nvPicPr>
        <p:blipFill>
          <a:blip r:embed="rId2"/>
          <a:stretch/>
        </p:blipFill>
        <p:spPr>
          <a:xfrm>
            <a:off x="1739880" y="482760"/>
            <a:ext cx="567072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C1BA8-C27D-4DC6-8609-AE476537FE9B}" type="slidenum">
              <a:t>21</a:t>
            </a:fld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17_18" descr=""/>
          <p:cNvPicPr/>
          <p:nvPr/>
        </p:nvPicPr>
        <p:blipFill>
          <a:blip r:embed="rId2"/>
          <a:stretch/>
        </p:blipFill>
        <p:spPr>
          <a:xfrm>
            <a:off x="647640" y="1866960"/>
            <a:ext cx="7864560" cy="3130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ED5B2-F7B4-4266-BDC2-AC6519E95D88}" type="slidenum">
              <a:t>22</a:t>
            </a:fld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17_19" descr=""/>
          <p:cNvPicPr/>
          <p:nvPr/>
        </p:nvPicPr>
        <p:blipFill>
          <a:blip r:embed="rId2"/>
          <a:stretch/>
        </p:blipFill>
        <p:spPr>
          <a:xfrm>
            <a:off x="647640" y="558720"/>
            <a:ext cx="7864560" cy="574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586CC-289E-4907-A40F-9C3075BA9A03}" type="slidenum">
              <a:t>23</a:t>
            </a:fld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17_20" descr=""/>
          <p:cNvPicPr/>
          <p:nvPr/>
        </p:nvPicPr>
        <p:blipFill>
          <a:blip r:embed="rId2"/>
          <a:stretch/>
        </p:blipFill>
        <p:spPr>
          <a:xfrm>
            <a:off x="647640" y="2260440"/>
            <a:ext cx="7864560" cy="2343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86C75-69A7-4395-987E-4F007E79EE58}" type="slidenum">
              <a:t>24</a:t>
            </a:fld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17_21" descr=""/>
          <p:cNvPicPr/>
          <p:nvPr/>
        </p:nvPicPr>
        <p:blipFill>
          <a:blip r:embed="rId2"/>
          <a:stretch/>
        </p:blipFill>
        <p:spPr>
          <a:xfrm>
            <a:off x="647640" y="2336760"/>
            <a:ext cx="7864560" cy="2200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090AA-4387-4782-ABDB-287A58CD5856}" type="slidenum">
              <a:t>25</a:t>
            </a:fld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17_22" descr=""/>
          <p:cNvPicPr/>
          <p:nvPr/>
        </p:nvPicPr>
        <p:blipFill>
          <a:blip r:embed="rId2"/>
          <a:stretch/>
        </p:blipFill>
        <p:spPr>
          <a:xfrm>
            <a:off x="647640" y="977760"/>
            <a:ext cx="7864560" cy="4899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EF843-EA5B-4EEE-8801-4EC61AC13C2F}" type="slidenum">
              <a:t>26</a:t>
            </a:fld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17_23" descr=""/>
          <p:cNvPicPr/>
          <p:nvPr/>
        </p:nvPicPr>
        <p:blipFill>
          <a:blip r:embed="rId2"/>
          <a:stretch/>
        </p:blipFill>
        <p:spPr>
          <a:xfrm>
            <a:off x="647640" y="2286000"/>
            <a:ext cx="7864560" cy="2287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FD7DE-5967-44F9-8F24-2BB401F9C65F}" type="slidenum">
              <a:t>27</a:t>
            </a:fld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17_24" descr=""/>
          <p:cNvPicPr/>
          <p:nvPr/>
        </p:nvPicPr>
        <p:blipFill>
          <a:blip r:embed="rId2"/>
          <a:stretch/>
        </p:blipFill>
        <p:spPr>
          <a:xfrm>
            <a:off x="647640" y="2476440"/>
            <a:ext cx="7864560" cy="1903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9ACAB-1F32-4055-AC50-4B99CF862801}" type="slidenum">
              <a:t>28</a:t>
            </a:fld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17_25" descr=""/>
          <p:cNvPicPr/>
          <p:nvPr/>
        </p:nvPicPr>
        <p:blipFill>
          <a:blip r:embed="rId2"/>
          <a:stretch/>
        </p:blipFill>
        <p:spPr>
          <a:xfrm>
            <a:off x="647640" y="1397160"/>
            <a:ext cx="7864560" cy="4065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B8539-0DA3-48F6-AD6F-5A424839B833}" type="slidenum">
              <a:t>29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17_01b" descr=""/>
          <p:cNvPicPr/>
          <p:nvPr/>
        </p:nvPicPr>
        <p:blipFill>
          <a:blip r:embed="rId2"/>
          <a:stretch/>
        </p:blipFill>
        <p:spPr>
          <a:xfrm>
            <a:off x="1219320" y="482760"/>
            <a:ext cx="671040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5E71A-DA15-4174-A398-3E3FA99E64AC}" type="slidenum">
              <a:t>3</a:t>
            </a:fld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17_26" descr=""/>
          <p:cNvPicPr/>
          <p:nvPr/>
        </p:nvPicPr>
        <p:blipFill>
          <a:blip r:embed="rId2"/>
          <a:stretch/>
        </p:blipFill>
        <p:spPr>
          <a:xfrm>
            <a:off x="1612800" y="482760"/>
            <a:ext cx="591516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1D6C1-A40B-4921-B5DB-25F66B15AE60}" type="slidenum">
              <a:t>30</a:t>
            </a:fld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17_27" descr=""/>
          <p:cNvPicPr/>
          <p:nvPr/>
        </p:nvPicPr>
        <p:blipFill>
          <a:blip r:embed="rId2"/>
          <a:stretch/>
        </p:blipFill>
        <p:spPr>
          <a:xfrm>
            <a:off x="1181160" y="482760"/>
            <a:ext cx="678024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5C49C-EF18-473E-B195-178CF18930A5}" type="slidenum">
              <a:t>31</a:t>
            </a:fld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17_28" descr=""/>
          <p:cNvPicPr/>
          <p:nvPr/>
        </p:nvPicPr>
        <p:blipFill>
          <a:blip r:embed="rId2"/>
          <a:stretch/>
        </p:blipFill>
        <p:spPr>
          <a:xfrm>
            <a:off x="647640" y="1625760"/>
            <a:ext cx="7864560" cy="360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EA038-B2DA-4F49-969E-50C3BCC7E78D}" type="slidenum">
              <a:t>32</a:t>
            </a:fld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17_29" descr=""/>
          <p:cNvPicPr/>
          <p:nvPr/>
        </p:nvPicPr>
        <p:blipFill>
          <a:blip r:embed="rId2"/>
          <a:stretch/>
        </p:blipFill>
        <p:spPr>
          <a:xfrm>
            <a:off x="1003320" y="482760"/>
            <a:ext cx="713088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21307-D898-4807-9D35-45133F07E435}" type="slidenum">
              <a:t>33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17_02" descr=""/>
          <p:cNvPicPr/>
          <p:nvPr/>
        </p:nvPicPr>
        <p:blipFill>
          <a:blip r:embed="rId2"/>
          <a:stretch/>
        </p:blipFill>
        <p:spPr>
          <a:xfrm>
            <a:off x="647640" y="1587600"/>
            <a:ext cx="7864560" cy="3695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A712F-516E-40D4-8718-A5814FFCD183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17_03" descr=""/>
          <p:cNvPicPr/>
          <p:nvPr/>
        </p:nvPicPr>
        <p:blipFill>
          <a:blip r:embed="rId2"/>
          <a:stretch/>
        </p:blipFill>
        <p:spPr>
          <a:xfrm>
            <a:off x="1028880" y="482760"/>
            <a:ext cx="709740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712F6-BDB6-42AD-80E5-D1F352C1826A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17_04" descr=""/>
          <p:cNvPicPr/>
          <p:nvPr/>
        </p:nvPicPr>
        <p:blipFill>
          <a:blip r:embed="rId2"/>
          <a:stretch/>
        </p:blipFill>
        <p:spPr>
          <a:xfrm>
            <a:off x="647640" y="1600200"/>
            <a:ext cx="7864560" cy="366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E901B-5525-408F-8BE8-3B00EF082B52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17_05" descr=""/>
          <p:cNvPicPr/>
          <p:nvPr/>
        </p:nvPicPr>
        <p:blipFill>
          <a:blip r:embed="rId2"/>
          <a:stretch/>
        </p:blipFill>
        <p:spPr>
          <a:xfrm>
            <a:off x="647640" y="1270080"/>
            <a:ext cx="7864560" cy="4324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122FA-C9E4-4829-82C6-6BF399C879D9}" type="slidenum">
              <a:t>7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17_06" descr=""/>
          <p:cNvPicPr/>
          <p:nvPr/>
        </p:nvPicPr>
        <p:blipFill>
          <a:blip r:embed="rId2"/>
          <a:stretch/>
        </p:blipFill>
        <p:spPr>
          <a:xfrm>
            <a:off x="647640" y="2031840"/>
            <a:ext cx="7864560" cy="280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9BE54-3FFD-4877-82AC-7505D1C15921}" type="slidenum">
              <a:t>8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17_07" descr=""/>
          <p:cNvPicPr/>
          <p:nvPr/>
        </p:nvPicPr>
        <p:blipFill>
          <a:blip r:embed="rId2"/>
          <a:stretch/>
        </p:blipFill>
        <p:spPr>
          <a:xfrm>
            <a:off x="647640" y="1778040"/>
            <a:ext cx="7864560" cy="3317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D1A4F-DD71-4CC7-848A-1EBBDDE71E54}" type="slidenum">
              <a:t>9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6T20:11:54Z</dcterms:created>
  <dc:creator>Copyright ©2006 Pearson Addison-Wesley</dc:creator>
  <dc:description/>
  <dc:language>en-US</dc:language>
  <cp:lastModifiedBy>AnnMarie</cp:lastModifiedBy>
  <dcterms:modified xsi:type="dcterms:W3CDTF">2005-06-24T16:42:39Z</dcterms:modified>
  <cp:revision>40</cp:revision>
  <dc:subject/>
  <dc:title>PowerPoint Presentation</dc:title>
</cp:coreProperties>
</file>