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A64F-156B-4AE2-87EE-B95C54B69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9CDBE-663C-4F88-8698-84B1E6682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D564-3263-40F6-B577-CE41A98B2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0E27-14F4-4B3C-84F9-8EE00320A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A98B-B5EA-4DB8-B550-F508A275C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F1DE-B43D-4C44-A6C5-B824D8F96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1EA2-D937-4FB9-982B-C3E98AA9A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4A9E-1177-464F-81DD-EC24E4DF9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37221-0CBC-4669-8025-EF69E71C4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19DE-3822-42F3-8828-9FAC94A73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B6E8-FBD9-4539-A1EF-1CB60397A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A5C3-833F-4886-8BDC-D6B46329C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–</a:t>
            </a:r>
            <a:fld id="{FAC5E5AA-CC42-4AEF-9337-69C401AC431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6_01" descr=""/>
          <p:cNvPicPr/>
          <p:nvPr/>
        </p:nvPicPr>
        <p:blipFill>
          <a:blip r:embed="rId2"/>
          <a:stretch/>
        </p:blipFill>
        <p:spPr>
          <a:xfrm>
            <a:off x="647640" y="1130400"/>
            <a:ext cx="7864560" cy="460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E8A37-7F57-44D4-AB9E-51DB0A110483}" type="slidenum">
              <a:t>2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48:04Z</dcterms:modified>
  <cp:revision>40</cp:revision>
  <dc:subject/>
  <dc:title>PowerPoint Presentation</dc:title>
</cp:coreProperties>
</file>