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25C02-4E17-4134-86E2-84C097B5B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FA823-CF11-417F-B199-7BD1F5A5C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417C5-49F5-4F92-A97E-377306BC5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A042-6549-4B45-BC70-095D7266E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42576-08A4-43B6-BD8D-396381D2B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C3CB9-9916-47E7-8B04-23938B961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6EDDD-187B-42F1-A15A-14272E2A0F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149CC-36C9-4F98-91E2-CF325DB56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F181E-8B5E-4227-A2A0-3E8174215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64754-D0B7-46BB-837E-FB070B883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B4AF-B19A-42B8-8171-146C9B6DB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05026-6A9F-4612-98DE-99DAF691F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–</a:t>
            </a:r>
            <a:fld id="{AB46F207-27E9-4876-91E6-BE62BE09CC7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1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and Web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5_08" descr=""/>
          <p:cNvPicPr/>
          <p:nvPr/>
        </p:nvPicPr>
        <p:blipFill>
          <a:blip r:embed="rId2"/>
          <a:stretch/>
        </p:blipFill>
        <p:spPr>
          <a:xfrm>
            <a:off x="1371600" y="482760"/>
            <a:ext cx="639756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FC44-3C01-4B96-B5FA-65802D115900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15_09a" descr=""/>
          <p:cNvPicPr/>
          <p:nvPr/>
        </p:nvPicPr>
        <p:blipFill>
          <a:blip r:embed="rId2"/>
          <a:stretch/>
        </p:blipFill>
        <p:spPr>
          <a:xfrm>
            <a:off x="1434960" y="482760"/>
            <a:ext cx="62676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89F8E-470E-484F-B7E6-0EACABF16FFD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15_09b" descr=""/>
          <p:cNvPicPr/>
          <p:nvPr/>
        </p:nvPicPr>
        <p:blipFill>
          <a:blip r:embed="rId2"/>
          <a:stretch/>
        </p:blipFill>
        <p:spPr>
          <a:xfrm>
            <a:off x="647640" y="1752480"/>
            <a:ext cx="7864560" cy="336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1E167-97D7-418E-B90A-D33AA4A489CB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5_10" descr=""/>
          <p:cNvPicPr/>
          <p:nvPr/>
        </p:nvPicPr>
        <p:blipFill>
          <a:blip r:embed="rId2"/>
          <a:stretch/>
        </p:blipFill>
        <p:spPr>
          <a:xfrm>
            <a:off x="939960" y="482760"/>
            <a:ext cx="72720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6BA35-77E8-44AF-9F02-B46A2AA6B32B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15_11" descr=""/>
          <p:cNvPicPr/>
          <p:nvPr/>
        </p:nvPicPr>
        <p:blipFill>
          <a:blip r:embed="rId2"/>
          <a:stretch/>
        </p:blipFill>
        <p:spPr>
          <a:xfrm>
            <a:off x="647640" y="1549440"/>
            <a:ext cx="7864560" cy="377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9DF4E-23A8-4CC5-B8B6-5E4F8AC49072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15_12a" descr=""/>
          <p:cNvPicPr/>
          <p:nvPr/>
        </p:nvPicPr>
        <p:blipFill>
          <a:blip r:embed="rId2"/>
          <a:stretch/>
        </p:blipFill>
        <p:spPr>
          <a:xfrm>
            <a:off x="647640" y="1434960"/>
            <a:ext cx="7864560" cy="400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70437-1AD8-46A5-9DB7-1EF3178A645E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5_12b" descr=""/>
          <p:cNvPicPr/>
          <p:nvPr/>
        </p:nvPicPr>
        <p:blipFill>
          <a:blip r:embed="rId2"/>
          <a:stretch/>
        </p:blipFill>
        <p:spPr>
          <a:xfrm>
            <a:off x="647640" y="1079640"/>
            <a:ext cx="7864560" cy="470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FE955-0ACF-4CD3-AB7D-579A77DFC11B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15_13" descr=""/>
          <p:cNvPicPr/>
          <p:nvPr/>
        </p:nvPicPr>
        <p:blipFill>
          <a:blip r:embed="rId2"/>
          <a:stretch/>
        </p:blipFill>
        <p:spPr>
          <a:xfrm>
            <a:off x="647640" y="1333440"/>
            <a:ext cx="7864560" cy="419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3B935-AAC1-4E07-9F41-E6CA3268D3D7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15_14" descr=""/>
          <p:cNvPicPr/>
          <p:nvPr/>
        </p:nvPicPr>
        <p:blipFill>
          <a:blip r:embed="rId2"/>
          <a:stretch/>
        </p:blipFill>
        <p:spPr>
          <a:xfrm>
            <a:off x="647640" y="787320"/>
            <a:ext cx="7864560" cy="528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BA3A9-ECCA-497F-BF45-EA11D477DC61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15_15" descr=""/>
          <p:cNvPicPr/>
          <p:nvPr/>
        </p:nvPicPr>
        <p:blipFill>
          <a:blip r:embed="rId2"/>
          <a:stretch/>
        </p:blipFill>
        <p:spPr>
          <a:xfrm>
            <a:off x="647640" y="1498680"/>
            <a:ext cx="7864560" cy="386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F173-2803-46C9-B36D-30DE060236A8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5_01" descr=""/>
          <p:cNvPicPr/>
          <p:nvPr/>
        </p:nvPicPr>
        <p:blipFill>
          <a:blip r:embed="rId2"/>
          <a:stretch/>
        </p:blipFill>
        <p:spPr>
          <a:xfrm>
            <a:off x="647640" y="558720"/>
            <a:ext cx="7864560" cy="574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ED1D5-7A7C-493E-B83A-A8E772AE0CF9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5_16" descr=""/>
          <p:cNvPicPr/>
          <p:nvPr/>
        </p:nvPicPr>
        <p:blipFill>
          <a:blip r:embed="rId2"/>
          <a:stretch/>
        </p:blipFill>
        <p:spPr>
          <a:xfrm>
            <a:off x="647640" y="927000"/>
            <a:ext cx="7864560" cy="500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9EF0F-8786-493C-944A-AEE43E46B14C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15_17" descr=""/>
          <p:cNvPicPr/>
          <p:nvPr/>
        </p:nvPicPr>
        <p:blipFill>
          <a:blip r:embed="rId2"/>
          <a:stretch/>
        </p:blipFill>
        <p:spPr>
          <a:xfrm>
            <a:off x="660240" y="482760"/>
            <a:ext cx="782352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1CDD1-C8FB-4C82-A0A5-1854B3478B9F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5_18" descr=""/>
          <p:cNvPicPr/>
          <p:nvPr/>
        </p:nvPicPr>
        <p:blipFill>
          <a:blip r:embed="rId2"/>
          <a:stretch/>
        </p:blipFill>
        <p:spPr>
          <a:xfrm>
            <a:off x="647640" y="1473120"/>
            <a:ext cx="7864560" cy="39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52E7B-9E42-484F-BCEE-7E9886B499C3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15_19" descr=""/>
          <p:cNvPicPr/>
          <p:nvPr/>
        </p:nvPicPr>
        <p:blipFill>
          <a:blip r:embed="rId2"/>
          <a:stretch/>
        </p:blipFill>
        <p:spPr>
          <a:xfrm>
            <a:off x="927000" y="482760"/>
            <a:ext cx="72900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0A45-38B1-486E-A453-E8F89ED7FCE7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5_20" descr=""/>
          <p:cNvPicPr/>
          <p:nvPr/>
        </p:nvPicPr>
        <p:blipFill>
          <a:blip r:embed="rId2"/>
          <a:stretch/>
        </p:blipFill>
        <p:spPr>
          <a:xfrm>
            <a:off x="647640" y="1536840"/>
            <a:ext cx="7864560" cy="37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E57D1-F03A-418A-B7AA-F1A53604F21C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15_21" descr=""/>
          <p:cNvPicPr/>
          <p:nvPr/>
        </p:nvPicPr>
        <p:blipFill>
          <a:blip r:embed="rId2"/>
          <a:stretch/>
        </p:blipFill>
        <p:spPr>
          <a:xfrm>
            <a:off x="647640" y="596880"/>
            <a:ext cx="7864560" cy="567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88E80-D77A-42D6-8651-32E39B601D1A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15_22" descr=""/>
          <p:cNvPicPr/>
          <p:nvPr/>
        </p:nvPicPr>
        <p:blipFill>
          <a:blip r:embed="rId2"/>
          <a:stretch/>
        </p:blipFill>
        <p:spPr>
          <a:xfrm>
            <a:off x="647640" y="1117440"/>
            <a:ext cx="7864560" cy="462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17E68-B516-4B1B-8E2F-ACFE81B71BAC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15_23" descr=""/>
          <p:cNvPicPr/>
          <p:nvPr/>
        </p:nvPicPr>
        <p:blipFill>
          <a:blip r:embed="rId2"/>
          <a:stretch/>
        </p:blipFill>
        <p:spPr>
          <a:xfrm>
            <a:off x="647640" y="901800"/>
            <a:ext cx="7864560" cy="505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B69D0-1541-4EC3-BADF-CDDA736629EF}" type="slidenum">
              <a:t>27</a:t>
            </a:fld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5_24" descr=""/>
          <p:cNvPicPr/>
          <p:nvPr/>
        </p:nvPicPr>
        <p:blipFill>
          <a:blip r:embed="rId2"/>
          <a:stretch/>
        </p:blipFill>
        <p:spPr>
          <a:xfrm>
            <a:off x="647640" y="1219320"/>
            <a:ext cx="7864560" cy="442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9E750-CE69-4ED2-A124-17B967DA89C1}" type="slidenum">
              <a:t>28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15_02" descr=""/>
          <p:cNvPicPr/>
          <p:nvPr/>
        </p:nvPicPr>
        <p:blipFill>
          <a:blip r:embed="rId2"/>
          <a:stretch/>
        </p:blipFill>
        <p:spPr>
          <a:xfrm>
            <a:off x="647640" y="1638360"/>
            <a:ext cx="7864560" cy="3584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6139D-7874-4947-B1AB-611084530886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5_03" descr=""/>
          <p:cNvPicPr/>
          <p:nvPr/>
        </p:nvPicPr>
        <p:blipFill>
          <a:blip r:embed="rId2"/>
          <a:stretch/>
        </p:blipFill>
        <p:spPr>
          <a:xfrm>
            <a:off x="647640" y="596880"/>
            <a:ext cx="7864560" cy="566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FA872-5F4B-401B-80B0-7BF9BF224D4C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5_04" descr=""/>
          <p:cNvPicPr/>
          <p:nvPr/>
        </p:nvPicPr>
        <p:blipFill>
          <a:blip r:embed="rId2"/>
          <a:stretch/>
        </p:blipFill>
        <p:spPr>
          <a:xfrm>
            <a:off x="647640" y="787320"/>
            <a:ext cx="7864560" cy="529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CE529-A6A0-4C1F-8948-DE810692768E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5_04b" descr=""/>
          <p:cNvPicPr/>
          <p:nvPr/>
        </p:nvPicPr>
        <p:blipFill>
          <a:blip r:embed="rId2"/>
          <a:stretch/>
        </p:blipFill>
        <p:spPr>
          <a:xfrm>
            <a:off x="647640" y="851040"/>
            <a:ext cx="7864560" cy="515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08889-D9F4-457A-AADB-DB139B8805E5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15_05" descr=""/>
          <p:cNvPicPr/>
          <p:nvPr/>
        </p:nvPicPr>
        <p:blipFill>
          <a:blip r:embed="rId2"/>
          <a:stretch/>
        </p:blipFill>
        <p:spPr>
          <a:xfrm>
            <a:off x="647640" y="584280"/>
            <a:ext cx="7864560" cy="569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BAC1F-8066-4DF0-AA8A-58CF47134979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5_06" descr=""/>
          <p:cNvPicPr/>
          <p:nvPr/>
        </p:nvPicPr>
        <p:blipFill>
          <a:blip r:embed="rId2"/>
          <a:stretch/>
        </p:blipFill>
        <p:spPr>
          <a:xfrm>
            <a:off x="647640" y="1219320"/>
            <a:ext cx="7864560" cy="443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6BDB4-9511-48E0-9889-A8B3968B69B0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15_07" descr=""/>
          <p:cNvPicPr/>
          <p:nvPr/>
        </p:nvPicPr>
        <p:blipFill>
          <a:blip r:embed="rId2"/>
          <a:stretch/>
        </p:blipFill>
        <p:spPr>
          <a:xfrm>
            <a:off x="647640" y="1473120"/>
            <a:ext cx="7864560" cy="392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1E06D-E992-43C6-A990-3F506DD7DE06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7:01:29Z</dcterms:modified>
  <cp:revision>38</cp:revision>
  <dc:subject/>
  <dc:title>PowerPoint Presentation</dc:title>
</cp:coreProperties>
</file>