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FB59-AC42-4A7F-8341-8E065521A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8FF6-171E-4B97-8495-E3A016B29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8101-F0F7-4BAF-9E66-0EF1D1899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8FCD-33F8-4658-8B8A-E5D66C697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126ED-F417-4529-8208-81A3269AF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0FD3-E345-4A80-AFD4-31669EF1B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DE27-2E22-4A1D-846A-5570A256B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6E68-588B-48AD-AF0A-14850D78B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69ED-9972-445D-B813-59EB32CE7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6638-4B38-4C41-9E66-A59FC4A0B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04CED-A718-40BB-9333-C143ED2D9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7F74-3617-496B-8D7D-35B1E1F7D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–</a:t>
            </a:r>
            <a:fld id="{BD7E3F3E-B4DC-467C-A832-1E665A54772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4_01" descr=""/>
          <p:cNvPicPr/>
          <p:nvPr/>
        </p:nvPicPr>
        <p:blipFill>
          <a:blip r:embed="rId2"/>
          <a:stretch/>
        </p:blipFill>
        <p:spPr>
          <a:xfrm>
            <a:off x="647640" y="2095560"/>
            <a:ext cx="7864560" cy="26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6161-239E-4F3A-B34A-9BC914E8B11A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4_02" descr=""/>
          <p:cNvPicPr/>
          <p:nvPr/>
        </p:nvPicPr>
        <p:blipFill>
          <a:blip r:embed="rId2"/>
          <a:stretch/>
        </p:blipFill>
        <p:spPr>
          <a:xfrm>
            <a:off x="927000" y="482760"/>
            <a:ext cx="72993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0EB8-87B2-4EC4-8F37-5A733BC37118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4_03" descr=""/>
          <p:cNvPicPr/>
          <p:nvPr/>
        </p:nvPicPr>
        <p:blipFill>
          <a:blip r:embed="rId2"/>
          <a:stretch/>
        </p:blipFill>
        <p:spPr>
          <a:xfrm>
            <a:off x="787320" y="482760"/>
            <a:ext cx="7562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4C26-CA3B-43C0-BC36-2FE5A085B1F7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4_04" descr=""/>
          <p:cNvPicPr/>
          <p:nvPr/>
        </p:nvPicPr>
        <p:blipFill>
          <a:blip r:embed="rId2"/>
          <a:stretch/>
        </p:blipFill>
        <p:spPr>
          <a:xfrm>
            <a:off x="647640" y="749160"/>
            <a:ext cx="786456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8AF42-4F84-4635-AD89-03CF5AA5271A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4_05" descr=""/>
          <p:cNvPicPr/>
          <p:nvPr/>
        </p:nvPicPr>
        <p:blipFill>
          <a:blip r:embed="rId2"/>
          <a:stretch/>
        </p:blipFill>
        <p:spPr>
          <a:xfrm>
            <a:off x="647640" y="1434960"/>
            <a:ext cx="7864560" cy="399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A00BC-AFCE-4DB2-BCB8-CE60328757CF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4_06" descr=""/>
          <p:cNvPicPr/>
          <p:nvPr/>
        </p:nvPicPr>
        <p:blipFill>
          <a:blip r:embed="rId2"/>
          <a:stretch/>
        </p:blipFill>
        <p:spPr>
          <a:xfrm>
            <a:off x="812880" y="482760"/>
            <a:ext cx="75135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7C39-13E1-4EBE-98FB-73311F399AB6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4_07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3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4304-5538-493B-AEC7-E54A5FF6BB34}" type="slidenum">
              <a:t>8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9:01Z</dcterms:modified>
  <cp:revision>36</cp:revision>
  <dc:subject/>
  <dc:title>PowerPoint Presentation</dc:title>
</cp:coreProperties>
</file>