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031A-C808-4BE4-B24B-F882DB5F2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9DFC-84D4-4A3C-997B-F402747A2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1B14E-CE2E-423E-9E3C-8AA046F33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A9D16-5E13-4459-B85A-EC79C1420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92762-E858-434C-88F5-AC662988D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9A0B-CC7E-4C8E-9E1F-575D0DD08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BB06-6372-4604-9D22-8075ECC1D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99C6-3F7F-4E66-8C92-39E8DB70D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382B-3D70-4CCA-AA36-D63D93D90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3880-3F88-4E6F-9A4D-23D6389D0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043A-35CB-4F33-AFA7-CC3FF7493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4F06A-F8E8-48D8-B10E-BCEBAF914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–</a:t>
            </a:r>
            <a:fld id="{FC74F35A-937C-4951-A1C8-953AAD7D681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Calculus, Visual Query Languages, and Deductiv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3_01" descr=""/>
          <p:cNvPicPr/>
          <p:nvPr/>
        </p:nvPicPr>
        <p:blipFill>
          <a:blip r:embed="rId2"/>
          <a:stretch/>
        </p:blipFill>
        <p:spPr>
          <a:xfrm>
            <a:off x="1320840" y="482760"/>
            <a:ext cx="65088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842C9-D635-4F37-B379-015F7D8392FA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3_02" descr=""/>
          <p:cNvPicPr/>
          <p:nvPr/>
        </p:nvPicPr>
        <p:blipFill>
          <a:blip r:embed="rId2"/>
          <a:stretch/>
        </p:blipFill>
        <p:spPr>
          <a:xfrm>
            <a:off x="1689120" y="482760"/>
            <a:ext cx="57704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91938-9514-42EC-B154-CB8DB3AB1250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3_03" descr=""/>
          <p:cNvPicPr/>
          <p:nvPr/>
        </p:nvPicPr>
        <p:blipFill>
          <a:blip r:embed="rId2"/>
          <a:stretch/>
        </p:blipFill>
        <p:spPr>
          <a:xfrm>
            <a:off x="647640" y="1320840"/>
            <a:ext cx="7864560" cy="421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331A-3D36-4642-8AF1-1AC0F457DF61}" type="slidenum">
              <a:t>4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01:57Z</dcterms:modified>
  <cp:revision>34</cp:revision>
  <dc:subject/>
  <dc:title>PowerPoint Presentation</dc:title>
</cp:coreProperties>
</file>