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4C83-E8D4-43AA-8EC8-970AB73D1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6332C-B94E-4A3B-BECE-86D133555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59EE-5802-4690-AFD8-BB0CA7060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48A8-F663-460A-B9AA-14A820162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34EA-DCAA-4E1F-A161-5E9972861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0351-1697-4FC0-B046-285D39015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5FFAA-358E-4A34-A294-7D2D7C6C0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4B00-DE0C-4D4C-AC60-3BC229B20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4E6C-A3B3-423E-BCCF-888087110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EAE7-FCD7-479A-BF6E-979812A1E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A43C-D7D1-492C-A734-7FD7C3AC1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EBDA-B506-42FC-B90C-E712C75C5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–</a:t>
            </a:r>
            <a:fld id="{90C276F4-02C5-4567-A85A-55746A5F34C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Query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1_01" descr=""/>
          <p:cNvPicPr/>
          <p:nvPr/>
        </p:nvPicPr>
        <p:blipFill>
          <a:blip r:embed="rId2"/>
          <a:stretch/>
        </p:blipFill>
        <p:spPr>
          <a:xfrm>
            <a:off x="673200" y="482760"/>
            <a:ext cx="78026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BC59-688C-4E0A-9ADD-BAD02F73F5F1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1_02" descr=""/>
          <p:cNvPicPr/>
          <p:nvPr/>
        </p:nvPicPr>
        <p:blipFill>
          <a:blip r:embed="rId2"/>
          <a:stretch/>
        </p:blipFill>
        <p:spPr>
          <a:xfrm>
            <a:off x="1879560" y="482760"/>
            <a:ext cx="53816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EB19-EA3F-4030-B0BC-A809FA72EFDD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1_03" descr=""/>
          <p:cNvPicPr/>
          <p:nvPr/>
        </p:nvPicPr>
        <p:blipFill>
          <a:blip r:embed="rId2"/>
          <a:stretch/>
        </p:blipFill>
        <p:spPr>
          <a:xfrm>
            <a:off x="1549440" y="482760"/>
            <a:ext cx="60418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5C55-CCE5-444C-9E2B-9E8505ECD481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1_04" descr=""/>
          <p:cNvPicPr/>
          <p:nvPr/>
        </p:nvPicPr>
        <p:blipFill>
          <a:blip r:embed="rId2"/>
          <a:stretch/>
        </p:blipFill>
        <p:spPr>
          <a:xfrm>
            <a:off x="647640" y="1231920"/>
            <a:ext cx="7864560" cy="440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DCFF-7D83-4124-ACC9-49E86D74DBCE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1_05" descr=""/>
          <p:cNvPicPr/>
          <p:nvPr/>
        </p:nvPicPr>
        <p:blipFill>
          <a:blip r:embed="rId2"/>
          <a:stretch/>
        </p:blipFill>
        <p:spPr>
          <a:xfrm>
            <a:off x="1638360" y="482760"/>
            <a:ext cx="58798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A97D-1E9C-4FF3-9967-E7F96DBC2DBA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1_06" descr=""/>
          <p:cNvPicPr/>
          <p:nvPr/>
        </p:nvPicPr>
        <p:blipFill>
          <a:blip r:embed="rId2"/>
          <a:stretch/>
        </p:blipFill>
        <p:spPr>
          <a:xfrm>
            <a:off x="647640" y="1523880"/>
            <a:ext cx="7864560" cy="382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DE92-D5A8-44CD-8456-9F3B6CE4D66D}" type="slidenum">
              <a:t>7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7:00:48Z</dcterms:modified>
  <cp:revision>32</cp:revision>
  <dc:subject/>
  <dc:title>PowerPoint Presentation</dc:title>
</cp:coreProperties>
</file>