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BA8A8-229B-4BC7-9134-D79F371A4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C3DD5-338F-4B34-88BF-0432D0CB3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A7F5-A664-4290-829C-5F4F028C3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6F5A-193C-429E-BD6F-CDD9EF9AD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D5E4-4C06-4231-9DF7-E3D104CE7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F52F8-ABA4-4192-9317-5A319366B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C73F-82DE-4DDB-A014-B563A1B98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D397E-370C-4B96-B809-77557016B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14B3-6D1A-4151-9B6E-04A43242B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E536-7995-49F7-B2C1-DA4871D02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9FF5-A2F0-4ABC-B934-62C2E4DE8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2792-220C-4D66-8711-6A4ECC389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–</a:t>
            </a:r>
            <a:fld id="{81D97A7A-941A-4CFB-82F3-3AF10B4AC7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1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cs of Theory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0_09" descr=""/>
          <p:cNvPicPr/>
          <p:nvPr/>
        </p:nvPicPr>
        <p:blipFill>
          <a:blip r:embed="rId2"/>
          <a:stretch/>
        </p:blipFill>
        <p:spPr>
          <a:xfrm>
            <a:off x="647640" y="1168560"/>
            <a:ext cx="7864560" cy="453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9709A-F400-4810-9020-A5A60D380A50}" type="slidenum">
              <a:t>10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0_01" descr=""/>
          <p:cNvPicPr/>
          <p:nvPr/>
        </p:nvPicPr>
        <p:blipFill>
          <a:blip r:embed="rId2"/>
          <a:stretch/>
        </p:blipFill>
        <p:spPr>
          <a:xfrm>
            <a:off x="647640" y="2133720"/>
            <a:ext cx="7864560" cy="25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0955-0BA6-412C-B946-9E8F1E9DCAB5}" type="slidenum">
              <a:t>2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0_02" descr=""/>
          <p:cNvPicPr/>
          <p:nvPr/>
        </p:nvPicPr>
        <p:blipFill>
          <a:blip r:embed="rId2"/>
          <a:stretch/>
        </p:blipFill>
        <p:spPr>
          <a:xfrm>
            <a:off x="647640" y="1790640"/>
            <a:ext cx="7864560" cy="327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669E-C7FB-460F-8AAC-449D819574E9}" type="slidenum">
              <a:t>3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0_03" descr=""/>
          <p:cNvPicPr/>
          <p:nvPr/>
        </p:nvPicPr>
        <p:blipFill>
          <a:blip r:embed="rId2"/>
          <a:stretch/>
        </p:blipFill>
        <p:spPr>
          <a:xfrm>
            <a:off x="647640" y="1638360"/>
            <a:ext cx="7864560" cy="359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1CFBC-6766-4D2C-843F-395CFD768E6F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0_04" descr=""/>
          <p:cNvPicPr/>
          <p:nvPr/>
        </p:nvPicPr>
        <p:blipFill>
          <a:blip r:embed="rId2"/>
          <a:stretch/>
        </p:blipFill>
        <p:spPr>
          <a:xfrm>
            <a:off x="647640" y="2247840"/>
            <a:ext cx="7864560" cy="237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FF81-8C0B-492C-99A1-AEE244B483F8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0_05" descr=""/>
          <p:cNvPicPr/>
          <p:nvPr/>
        </p:nvPicPr>
        <p:blipFill>
          <a:blip r:embed="rId2"/>
          <a:stretch/>
        </p:blipFill>
        <p:spPr>
          <a:xfrm>
            <a:off x="647640" y="1879560"/>
            <a:ext cx="7864560" cy="310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3234-A5C5-43C8-89DA-5F99EE132A4C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0_06" descr=""/>
          <p:cNvPicPr/>
          <p:nvPr/>
        </p:nvPicPr>
        <p:blipFill>
          <a:blip r:embed="rId2"/>
          <a:stretch/>
        </p:blipFill>
        <p:spPr>
          <a:xfrm>
            <a:off x="647640" y="1866960"/>
            <a:ext cx="7864560" cy="313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9F06-1472-46F2-84A2-A08B80E7B6A3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0_07" descr=""/>
          <p:cNvPicPr/>
          <p:nvPr/>
        </p:nvPicPr>
        <p:blipFill>
          <a:blip r:embed="rId2"/>
          <a:stretch/>
        </p:blipFill>
        <p:spPr>
          <a:xfrm>
            <a:off x="647640" y="1003320"/>
            <a:ext cx="7864560" cy="485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911B-371F-42B8-900D-266D6A1E88EC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0_08" descr=""/>
          <p:cNvPicPr/>
          <p:nvPr/>
        </p:nvPicPr>
        <p:blipFill>
          <a:blip r:embed="rId2"/>
          <a:stretch/>
        </p:blipFill>
        <p:spPr>
          <a:xfrm>
            <a:off x="647640" y="1841400"/>
            <a:ext cx="7864560" cy="316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EDB9-FF37-47FC-BA48-18D5736589D5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6:59:37Z</dcterms:modified>
  <cp:revision>32</cp:revision>
  <dc:subject/>
  <dc:title>PowerPoint Presentation</dc:title>
</cp:coreProperties>
</file>