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01CF-1C03-4EC9-94A0-3609CC58B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9929A-B3D9-40FD-8FD1-75127C00E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ED67-7DFB-453E-84E7-BEB8C3B6B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4E192-0523-47AB-B243-4B86D8907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E025-4108-4F72-9BA5-2E8261B2C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80A9-A14C-4BD2-8BEA-9B80001E0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BAFC-2B44-42EA-9FB4-13ED50C1A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7A14-5963-4F1A-B204-7D890A10D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47802-9BEB-45E1-B805-A3AD93C0A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05E5D-9168-4335-8705-E5F933791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3B308-DB5C-495D-96A1-61BD518D5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C281-503F-4E58-BDFB-C30A4C876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36264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pyright © 2006 Pearson Addison-Wesley. All rights reserved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102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–</a:t>
            </a:r>
            <a:fld id="{0E16773B-EEC8-4133-9D06-A9C353DF43E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3657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 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29200" y="2209320"/>
            <a:ext cx="3657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ata Organization and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09_08" descr=""/>
          <p:cNvPicPr/>
          <p:nvPr/>
        </p:nvPicPr>
        <p:blipFill>
          <a:blip r:embed="rId2"/>
          <a:stretch/>
        </p:blipFill>
        <p:spPr>
          <a:xfrm>
            <a:off x="647640" y="888840"/>
            <a:ext cx="7864560" cy="508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B12F-C828-487D-AA14-C896DFC1D86E}" type="slidenum">
              <a:t>10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9_09" descr=""/>
          <p:cNvPicPr/>
          <p:nvPr/>
        </p:nvPicPr>
        <p:blipFill>
          <a:blip r:embed="rId2"/>
          <a:stretch/>
        </p:blipFill>
        <p:spPr>
          <a:xfrm>
            <a:off x="647640" y="787320"/>
            <a:ext cx="7864560" cy="52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3B7E-3787-4FB2-85B7-AFB9564C79AC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09_10" descr=""/>
          <p:cNvPicPr/>
          <p:nvPr/>
        </p:nvPicPr>
        <p:blipFill>
          <a:blip r:embed="rId2"/>
          <a:stretch/>
        </p:blipFill>
        <p:spPr>
          <a:xfrm>
            <a:off x="647640" y="1015920"/>
            <a:ext cx="7864560" cy="484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70EFE-391A-4C20-94ED-15DE25E2420C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09_11" descr=""/>
          <p:cNvPicPr/>
          <p:nvPr/>
        </p:nvPicPr>
        <p:blipFill>
          <a:blip r:embed="rId2"/>
          <a:stretch/>
        </p:blipFill>
        <p:spPr>
          <a:xfrm>
            <a:off x="647640" y="901800"/>
            <a:ext cx="7864560" cy="506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23434-497A-44DB-B56E-AA1A0F1B3750}" type="slidenum">
              <a:t>13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9_12" descr=""/>
          <p:cNvPicPr/>
          <p:nvPr/>
        </p:nvPicPr>
        <p:blipFill>
          <a:blip r:embed="rId2"/>
          <a:stretch/>
        </p:blipFill>
        <p:spPr>
          <a:xfrm>
            <a:off x="647640" y="1295280"/>
            <a:ext cx="7864560" cy="427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E1ED-BC62-4DE9-97B9-6DB6FB30B312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09_13" descr=""/>
          <p:cNvPicPr/>
          <p:nvPr/>
        </p:nvPicPr>
        <p:blipFill>
          <a:blip r:embed="rId2"/>
          <a:stretch/>
        </p:blipFill>
        <p:spPr>
          <a:xfrm>
            <a:off x="647640" y="2120760"/>
            <a:ext cx="7864560" cy="261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29A1-2EFE-48A5-BB7B-08AF5022AF22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09_14" descr=""/>
          <p:cNvPicPr/>
          <p:nvPr/>
        </p:nvPicPr>
        <p:blipFill>
          <a:blip r:embed="rId2"/>
          <a:stretch/>
        </p:blipFill>
        <p:spPr>
          <a:xfrm>
            <a:off x="647640" y="1701720"/>
            <a:ext cx="7864560" cy="346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2D671-1A60-4D8A-A97F-0DEB7A7F49B3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9_15" descr=""/>
          <p:cNvPicPr/>
          <p:nvPr/>
        </p:nvPicPr>
        <p:blipFill>
          <a:blip r:embed="rId2"/>
          <a:stretch/>
        </p:blipFill>
        <p:spPr>
          <a:xfrm>
            <a:off x="647640" y="2019240"/>
            <a:ext cx="7864560" cy="283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039B-3D8C-48DB-A4C9-27EAD4E079A6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9_16" descr=""/>
          <p:cNvPicPr/>
          <p:nvPr/>
        </p:nvPicPr>
        <p:blipFill>
          <a:blip r:embed="rId2"/>
          <a:stretch/>
        </p:blipFill>
        <p:spPr>
          <a:xfrm>
            <a:off x="647640" y="1333440"/>
            <a:ext cx="786456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8908-D75A-4B7B-86D2-EBF0B178E346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09_17" descr=""/>
          <p:cNvPicPr/>
          <p:nvPr/>
        </p:nvPicPr>
        <p:blipFill>
          <a:blip r:embed="rId2"/>
          <a:stretch/>
        </p:blipFill>
        <p:spPr>
          <a:xfrm>
            <a:off x="723960" y="482760"/>
            <a:ext cx="768996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75B8-8316-4F34-AAE2-A6C9178A31EB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9_01" descr=""/>
          <p:cNvPicPr/>
          <p:nvPr/>
        </p:nvPicPr>
        <p:blipFill>
          <a:blip r:embed="rId2"/>
          <a:stretch/>
        </p:blipFill>
        <p:spPr>
          <a:xfrm>
            <a:off x="838080" y="482760"/>
            <a:ext cx="74660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DD5F-932B-46C2-A2E1-64DA78F5B166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09_18" descr=""/>
          <p:cNvPicPr/>
          <p:nvPr/>
        </p:nvPicPr>
        <p:blipFill>
          <a:blip r:embed="rId2"/>
          <a:stretch/>
        </p:blipFill>
        <p:spPr>
          <a:xfrm>
            <a:off x="647640" y="1536840"/>
            <a:ext cx="7864560" cy="37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7021-85AE-4076-89C4-A45C775C41C4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9_19" descr=""/>
          <p:cNvPicPr/>
          <p:nvPr/>
        </p:nvPicPr>
        <p:blipFill>
          <a:blip r:embed="rId2"/>
          <a:stretch/>
        </p:blipFill>
        <p:spPr>
          <a:xfrm>
            <a:off x="647640" y="1397160"/>
            <a:ext cx="786456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76B3-2913-448A-B572-AECD85537E47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09_20" descr=""/>
          <p:cNvPicPr/>
          <p:nvPr/>
        </p:nvPicPr>
        <p:blipFill>
          <a:blip r:embed="rId2"/>
          <a:stretch/>
        </p:blipFill>
        <p:spPr>
          <a:xfrm>
            <a:off x="647640" y="1193760"/>
            <a:ext cx="7864560" cy="447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48FE-881D-4CB5-A3A4-EC49CF29860E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09_21" descr=""/>
          <p:cNvPicPr/>
          <p:nvPr/>
        </p:nvPicPr>
        <p:blipFill>
          <a:blip r:embed="rId2"/>
          <a:stretch/>
        </p:blipFill>
        <p:spPr>
          <a:xfrm>
            <a:off x="647640" y="1778040"/>
            <a:ext cx="7864560" cy="331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488DB-0C60-4D83-9701-46897BDF6AD9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9_22" descr=""/>
          <p:cNvPicPr/>
          <p:nvPr/>
        </p:nvPicPr>
        <p:blipFill>
          <a:blip r:embed="rId2"/>
          <a:stretch/>
        </p:blipFill>
        <p:spPr>
          <a:xfrm>
            <a:off x="647640" y="1092240"/>
            <a:ext cx="7864560" cy="467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1ECF1-9C45-4859-9A3B-EA87556F0171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09_23a" descr=""/>
          <p:cNvPicPr/>
          <p:nvPr/>
        </p:nvPicPr>
        <p:blipFill>
          <a:blip r:embed="rId2"/>
          <a:stretch/>
        </p:blipFill>
        <p:spPr>
          <a:xfrm>
            <a:off x="1384200" y="482760"/>
            <a:ext cx="63691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E8D32-ADA6-4A23-AC74-BC3120AFDDBF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09_23b" descr=""/>
          <p:cNvPicPr/>
          <p:nvPr/>
        </p:nvPicPr>
        <p:blipFill>
          <a:blip r:embed="rId2"/>
          <a:stretch/>
        </p:blipFill>
        <p:spPr>
          <a:xfrm>
            <a:off x="647640" y="1828800"/>
            <a:ext cx="7864560" cy="321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18A0-2281-4874-8629-3FA206A200B8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09_24" descr=""/>
          <p:cNvPicPr/>
          <p:nvPr/>
        </p:nvPicPr>
        <p:blipFill>
          <a:blip r:embed="rId2"/>
          <a:stretch/>
        </p:blipFill>
        <p:spPr>
          <a:xfrm>
            <a:off x="1193760" y="482760"/>
            <a:ext cx="677232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49F4-FE16-4138-A2C1-FB5FE8E2B48B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09_24b" descr=""/>
          <p:cNvPicPr/>
          <p:nvPr/>
        </p:nvPicPr>
        <p:blipFill>
          <a:blip r:embed="rId2"/>
          <a:stretch/>
        </p:blipFill>
        <p:spPr>
          <a:xfrm>
            <a:off x="647640" y="914400"/>
            <a:ext cx="7864560" cy="50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D343-7471-4940-A0BB-7C8D2369DDA0}" type="slidenum">
              <a:t>28</a:t>
            </a:fld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9_25" descr=""/>
          <p:cNvPicPr/>
          <p:nvPr/>
        </p:nvPicPr>
        <p:blipFill>
          <a:blip r:embed="rId2"/>
          <a:stretch/>
        </p:blipFill>
        <p:spPr>
          <a:xfrm>
            <a:off x="1244520" y="482760"/>
            <a:ext cx="665028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BC3B6-DD01-418E-88A1-B38D2536DF6E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9_02" descr=""/>
          <p:cNvPicPr/>
          <p:nvPr/>
        </p:nvPicPr>
        <p:blipFill>
          <a:blip r:embed="rId2"/>
          <a:stretch/>
        </p:blipFill>
        <p:spPr>
          <a:xfrm>
            <a:off x="647640" y="1981080"/>
            <a:ext cx="7864560" cy="289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7E69-DF76-429F-A3D9-27B73319D551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09_26" descr=""/>
          <p:cNvPicPr/>
          <p:nvPr/>
        </p:nvPicPr>
        <p:blipFill>
          <a:blip r:embed="rId2"/>
          <a:stretch/>
        </p:blipFill>
        <p:spPr>
          <a:xfrm>
            <a:off x="647640" y="1650960"/>
            <a:ext cx="7864560" cy="35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21A0-8AEF-46EA-92CD-CD87924B5EA0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09_27" descr=""/>
          <p:cNvPicPr/>
          <p:nvPr/>
        </p:nvPicPr>
        <p:blipFill>
          <a:blip r:embed="rId2"/>
          <a:stretch/>
        </p:blipFill>
        <p:spPr>
          <a:xfrm>
            <a:off x="647640" y="1193760"/>
            <a:ext cx="7864560" cy="44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85BE-B334-41A3-AB83-D32671ECE9EF}" type="slidenum">
              <a:t>31</a:t>
            </a:fld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9_28" descr=""/>
          <p:cNvPicPr/>
          <p:nvPr/>
        </p:nvPicPr>
        <p:blipFill>
          <a:blip r:embed="rId2"/>
          <a:stretch/>
        </p:blipFill>
        <p:spPr>
          <a:xfrm>
            <a:off x="647640" y="787320"/>
            <a:ext cx="7864560" cy="528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54A8-26AA-4172-8CDA-0535F85A078B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09_29" descr=""/>
          <p:cNvPicPr/>
          <p:nvPr/>
        </p:nvPicPr>
        <p:blipFill>
          <a:blip r:embed="rId2"/>
          <a:stretch/>
        </p:blipFill>
        <p:spPr>
          <a:xfrm>
            <a:off x="647640" y="1130400"/>
            <a:ext cx="7864560" cy="46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EABF-34CC-4628-873F-59BE25370461}" type="slidenum">
              <a:t>33</a:t>
            </a:fld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09_30" descr=""/>
          <p:cNvPicPr/>
          <p:nvPr/>
        </p:nvPicPr>
        <p:blipFill>
          <a:blip r:embed="rId2"/>
          <a:stretch/>
        </p:blipFill>
        <p:spPr>
          <a:xfrm>
            <a:off x="647640" y="571680"/>
            <a:ext cx="7864560" cy="570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EE33-84E2-4E5A-BFA1-6BEBFA17C73D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09_31" descr=""/>
          <p:cNvPicPr/>
          <p:nvPr/>
        </p:nvPicPr>
        <p:blipFill>
          <a:blip r:embed="rId2"/>
          <a:stretch/>
        </p:blipFill>
        <p:spPr>
          <a:xfrm>
            <a:off x="647640" y="482760"/>
            <a:ext cx="785484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36B1-3CE8-44E5-A67E-4438775E4E79}" type="slidenum">
              <a:t>35</a:t>
            </a:fld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09_32" descr=""/>
          <p:cNvPicPr/>
          <p:nvPr/>
        </p:nvPicPr>
        <p:blipFill>
          <a:blip r:embed="rId2"/>
          <a:stretch/>
        </p:blipFill>
        <p:spPr>
          <a:xfrm>
            <a:off x="647640" y="698400"/>
            <a:ext cx="7864560" cy="546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7597-8C58-4438-8669-56E6BD90AE94}" type="slidenum">
              <a:t>36</a:t>
            </a:fld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09_33a" descr=""/>
          <p:cNvPicPr/>
          <p:nvPr/>
        </p:nvPicPr>
        <p:blipFill>
          <a:blip r:embed="rId2"/>
          <a:stretch/>
        </p:blipFill>
        <p:spPr>
          <a:xfrm>
            <a:off x="647640" y="495360"/>
            <a:ext cx="7864560" cy="58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0D1D-98CD-483E-88A8-1432997A4C7F}" type="slidenum">
              <a:t>37</a:t>
            </a:fld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09_33b" descr=""/>
          <p:cNvPicPr/>
          <p:nvPr/>
        </p:nvPicPr>
        <p:blipFill>
          <a:blip r:embed="rId2"/>
          <a:stretch/>
        </p:blipFill>
        <p:spPr>
          <a:xfrm>
            <a:off x="647640" y="520560"/>
            <a:ext cx="7864560" cy="582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C224-021E-4F00-A6B9-A12C5143EE02}" type="slidenum">
              <a:t>38</a:t>
            </a:fld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9_33c" descr=""/>
          <p:cNvPicPr/>
          <p:nvPr/>
        </p:nvPicPr>
        <p:blipFill>
          <a:blip r:embed="rId2"/>
          <a:stretch/>
        </p:blipFill>
        <p:spPr>
          <a:xfrm>
            <a:off x="647640" y="1193760"/>
            <a:ext cx="7864560" cy="44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41D1-0776-4E6D-8F66-D4A23338B26E}" type="slidenum">
              <a:t>39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09_03" descr=""/>
          <p:cNvPicPr/>
          <p:nvPr/>
        </p:nvPicPr>
        <p:blipFill>
          <a:blip r:embed="rId2"/>
          <a:stretch/>
        </p:blipFill>
        <p:spPr>
          <a:xfrm>
            <a:off x="647640" y="507960"/>
            <a:ext cx="7864560" cy="583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70F9-6B93-49C7-ADB2-6FA2D82A3176}" type="slidenum">
              <a:t>4</a:t>
            </a:fld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09_34" descr=""/>
          <p:cNvPicPr/>
          <p:nvPr/>
        </p:nvPicPr>
        <p:blipFill>
          <a:blip r:embed="rId2"/>
          <a:stretch/>
        </p:blipFill>
        <p:spPr>
          <a:xfrm>
            <a:off x="647640" y="1511280"/>
            <a:ext cx="7864560" cy="38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E1D2-6B73-49B6-8A7B-83E977AFDE62}" type="slidenum">
              <a:t>40</a:t>
            </a:fld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09_35" descr=""/>
          <p:cNvPicPr/>
          <p:nvPr/>
        </p:nvPicPr>
        <p:blipFill>
          <a:blip r:embed="rId2"/>
          <a:stretch/>
        </p:blipFill>
        <p:spPr>
          <a:xfrm>
            <a:off x="647640" y="1079640"/>
            <a:ext cx="7864560" cy="470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1B67-A257-47CC-8C7A-4F2AEA2FDCE1}" type="slidenum">
              <a:t>41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9_04" descr=""/>
          <p:cNvPicPr/>
          <p:nvPr/>
        </p:nvPicPr>
        <p:blipFill>
          <a:blip r:embed="rId2"/>
          <a:stretch/>
        </p:blipFill>
        <p:spPr>
          <a:xfrm>
            <a:off x="1066680" y="482760"/>
            <a:ext cx="70218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C359-34E4-4A89-8D5D-0BF73A172FED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09_05" descr=""/>
          <p:cNvPicPr/>
          <p:nvPr/>
        </p:nvPicPr>
        <p:blipFill>
          <a:blip r:embed="rId2"/>
          <a:stretch/>
        </p:blipFill>
        <p:spPr>
          <a:xfrm>
            <a:off x="1523880" y="482760"/>
            <a:ext cx="60930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1219-B312-4C25-9594-A63BA3797C38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9_06a" descr=""/>
          <p:cNvPicPr/>
          <p:nvPr/>
        </p:nvPicPr>
        <p:blipFill>
          <a:blip r:embed="rId2"/>
          <a:stretch/>
        </p:blipFill>
        <p:spPr>
          <a:xfrm>
            <a:off x="1638360" y="482760"/>
            <a:ext cx="5875200" cy="589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4E51-BC21-4B30-B831-9DC88A85C8F2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9_06b" descr=""/>
          <p:cNvPicPr/>
          <p:nvPr/>
        </p:nvPicPr>
        <p:blipFill>
          <a:blip r:embed="rId2"/>
          <a:stretch/>
        </p:blipFill>
        <p:spPr>
          <a:xfrm>
            <a:off x="647640" y="609480"/>
            <a:ext cx="7864560" cy="56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E5C0-3807-44DE-825D-1FA34825699B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9_07" descr=""/>
          <p:cNvPicPr/>
          <p:nvPr/>
        </p:nvPicPr>
        <p:blipFill>
          <a:blip r:embed="rId2"/>
          <a:stretch/>
        </p:blipFill>
        <p:spPr>
          <a:xfrm>
            <a:off x="647640" y="1320840"/>
            <a:ext cx="7864560" cy="42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7D6E-E723-4629-867E-B6D59F8B6C27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20:11:54Z</dcterms:created>
  <dc:creator>Copyright ©2006 Pearson Addison-Wesley</dc:creator>
  <dc:description/>
  <dc:language>en-US</dc:language>
  <cp:lastModifiedBy>AnnMarie</cp:lastModifiedBy>
  <dcterms:modified xsi:type="dcterms:W3CDTF">2005-06-24T17:01:04Z</dcterms:modified>
  <cp:revision>30</cp:revision>
  <dc:subject/>
  <dc:title>PowerPoint Presentation</dc:title>
</cp:coreProperties>
</file>