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3D5B1-F96B-42E5-BB21-F0DF2C2C5C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F0E64-A55E-4B40-934D-748034B858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758BC-F162-4907-A553-5876D287F1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D336C-CAD6-4582-9431-D40DB60596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CF6EC-4466-4316-A4D9-C512ABFFDA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86092-454B-4E2F-99D6-722CFCC09E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CC9EF-4039-41FD-B7B6-276B3DA2A9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CFF1D-34F8-4495-9A8E-1D2700768F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42D5B-29FE-4618-95C7-04B99B7BF7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9D359-93D2-4C3F-8966-9722BFBE39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C1F3C-0347-4821-BAA7-9EFB44DF40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01DF4-D3BB-4AAF-BF9E-F0852E3EB2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36264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pyright © 2006 Pearson Addison-Wesley. All rights reserved.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102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–</a:t>
            </a:r>
            <a:fld id="{A2468A12-148A-417E-8B76-F70EAD88E14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 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029200" y="2209320"/>
            <a:ext cx="3657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SQL in an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08_07b" descr=""/>
          <p:cNvPicPr/>
          <p:nvPr/>
        </p:nvPicPr>
        <p:blipFill>
          <a:blip r:embed="rId2"/>
          <a:stretch/>
        </p:blipFill>
        <p:spPr>
          <a:xfrm>
            <a:off x="647640" y="1498680"/>
            <a:ext cx="7864560" cy="3860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692EB-FA76-4D29-8922-F061E3F7888B}" type="slidenum">
              <a:t>10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08_08" descr=""/>
          <p:cNvPicPr/>
          <p:nvPr/>
        </p:nvPicPr>
        <p:blipFill>
          <a:blip r:embed="rId2"/>
          <a:stretch/>
        </p:blipFill>
        <p:spPr>
          <a:xfrm>
            <a:off x="1892160" y="482760"/>
            <a:ext cx="535788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35EA5-2FF2-4F3F-AEC8-BC3138D1DB57}" type="slidenum">
              <a:t>11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08_09" descr=""/>
          <p:cNvPicPr/>
          <p:nvPr/>
        </p:nvPicPr>
        <p:blipFill>
          <a:blip r:embed="rId2"/>
          <a:stretch/>
        </p:blipFill>
        <p:spPr>
          <a:xfrm>
            <a:off x="647640" y="2006640"/>
            <a:ext cx="7864560" cy="283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77673-61B7-415F-9874-4E523F8F03D3}" type="slidenum">
              <a:t>12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08_10" descr=""/>
          <p:cNvPicPr/>
          <p:nvPr/>
        </p:nvPicPr>
        <p:blipFill>
          <a:blip r:embed="rId2"/>
          <a:stretch/>
        </p:blipFill>
        <p:spPr>
          <a:xfrm>
            <a:off x="774720" y="482760"/>
            <a:ext cx="760104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915BC-09A6-43BE-B675-8F2AC0FB2F03}" type="slidenum">
              <a:t>13</a:t>
            </a:fld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08_11" descr=""/>
          <p:cNvPicPr/>
          <p:nvPr/>
        </p:nvPicPr>
        <p:blipFill>
          <a:blip r:embed="rId2"/>
          <a:stretch/>
        </p:blipFill>
        <p:spPr>
          <a:xfrm>
            <a:off x="1511280" y="482760"/>
            <a:ext cx="612468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A77A9-EBE9-4F81-B740-B33C9B204446}" type="slidenum">
              <a:t>14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08_12a" descr=""/>
          <p:cNvPicPr/>
          <p:nvPr/>
        </p:nvPicPr>
        <p:blipFill>
          <a:blip r:embed="rId2"/>
          <a:stretch/>
        </p:blipFill>
        <p:spPr>
          <a:xfrm>
            <a:off x="1257480" y="482760"/>
            <a:ext cx="662616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8FA48-9D41-4C51-9688-27A37631B24C}" type="slidenum">
              <a:t>15</a:t>
            </a:fld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08_12b" descr=""/>
          <p:cNvPicPr/>
          <p:nvPr/>
        </p:nvPicPr>
        <p:blipFill>
          <a:blip r:embed="rId2"/>
          <a:stretch/>
        </p:blipFill>
        <p:spPr>
          <a:xfrm>
            <a:off x="647640" y="1562040"/>
            <a:ext cx="7864560" cy="37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3F2B0-DAAD-4511-8990-5EF32845EEA4}" type="slidenum">
              <a:t>16</a:t>
            </a:fld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08_13" descr=""/>
          <p:cNvPicPr/>
          <p:nvPr/>
        </p:nvPicPr>
        <p:blipFill>
          <a:blip r:embed="rId2"/>
          <a:stretch/>
        </p:blipFill>
        <p:spPr>
          <a:xfrm>
            <a:off x="647640" y="838080"/>
            <a:ext cx="7864560" cy="5181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32640-6842-4542-96F2-ACD5A5105985}" type="slidenum">
              <a:t>17</a:t>
            </a:fld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08_14" descr=""/>
          <p:cNvPicPr/>
          <p:nvPr/>
        </p:nvPicPr>
        <p:blipFill>
          <a:blip r:embed="rId2"/>
          <a:stretch/>
        </p:blipFill>
        <p:spPr>
          <a:xfrm>
            <a:off x="647640" y="1892160"/>
            <a:ext cx="7864560" cy="307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33AAF-024C-4441-95F3-08318ED2323F}" type="slidenum">
              <a:t>18</a:t>
            </a:fld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08_15" descr=""/>
          <p:cNvPicPr/>
          <p:nvPr/>
        </p:nvPicPr>
        <p:blipFill>
          <a:blip r:embed="rId2"/>
          <a:stretch/>
        </p:blipFill>
        <p:spPr>
          <a:xfrm>
            <a:off x="647640" y="1994040"/>
            <a:ext cx="7864560" cy="287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952D6-84DA-4B73-B189-E76545362E79}" type="slidenum">
              <a:t>19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08_01" descr=""/>
          <p:cNvPicPr/>
          <p:nvPr/>
        </p:nvPicPr>
        <p:blipFill>
          <a:blip r:embed="rId2"/>
          <a:stretch/>
        </p:blipFill>
        <p:spPr>
          <a:xfrm>
            <a:off x="647640" y="1270080"/>
            <a:ext cx="7864560" cy="431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0B493-129A-4AB7-825D-9F51EC5C11F3}" type="slidenum">
              <a:t>2</a:t>
            </a:fld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08_16a" descr=""/>
          <p:cNvPicPr/>
          <p:nvPr/>
        </p:nvPicPr>
        <p:blipFill>
          <a:blip r:embed="rId2"/>
          <a:stretch/>
        </p:blipFill>
        <p:spPr>
          <a:xfrm>
            <a:off x="1104840" y="482760"/>
            <a:ext cx="693108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0BC0B-5211-49DB-98EE-58D29D3623C4}" type="slidenum">
              <a:t>20</a:t>
            </a:fld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08_16b" descr=""/>
          <p:cNvPicPr/>
          <p:nvPr/>
        </p:nvPicPr>
        <p:blipFill>
          <a:blip r:embed="rId2"/>
          <a:stretch/>
        </p:blipFill>
        <p:spPr>
          <a:xfrm>
            <a:off x="647640" y="1371600"/>
            <a:ext cx="7864560" cy="411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69066-2983-4588-88B4-B69881A6E064}" type="slidenum">
              <a:t>21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08_02" descr=""/>
          <p:cNvPicPr/>
          <p:nvPr/>
        </p:nvPicPr>
        <p:blipFill>
          <a:blip r:embed="rId2"/>
          <a:stretch/>
        </p:blipFill>
        <p:spPr>
          <a:xfrm>
            <a:off x="647640" y="1460520"/>
            <a:ext cx="7864560" cy="395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1C53E-FBD4-4097-B084-62BC06BFCEA1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08_03a" descr=""/>
          <p:cNvPicPr/>
          <p:nvPr/>
        </p:nvPicPr>
        <p:blipFill>
          <a:blip r:embed="rId2"/>
          <a:stretch/>
        </p:blipFill>
        <p:spPr>
          <a:xfrm>
            <a:off x="647640" y="507960"/>
            <a:ext cx="7864560" cy="5843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7C551-0732-446D-9743-6FF1CFDAEC1D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08_03b" descr=""/>
          <p:cNvPicPr/>
          <p:nvPr/>
        </p:nvPicPr>
        <p:blipFill>
          <a:blip r:embed="rId2"/>
          <a:stretch/>
        </p:blipFill>
        <p:spPr>
          <a:xfrm>
            <a:off x="647640" y="1155600"/>
            <a:ext cx="7864560" cy="454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96DE5-8D9F-4D3C-83E3-43D709152E8C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08_04" descr=""/>
          <p:cNvPicPr/>
          <p:nvPr/>
        </p:nvPicPr>
        <p:blipFill>
          <a:blip r:embed="rId2"/>
          <a:stretch/>
        </p:blipFill>
        <p:spPr>
          <a:xfrm>
            <a:off x="1028880" y="482760"/>
            <a:ext cx="708012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62808-E487-4516-9FCB-1406B5141986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08_05" descr=""/>
          <p:cNvPicPr/>
          <p:nvPr/>
        </p:nvPicPr>
        <p:blipFill>
          <a:blip r:embed="rId2"/>
          <a:stretch/>
        </p:blipFill>
        <p:spPr>
          <a:xfrm>
            <a:off x="647640" y="1968480"/>
            <a:ext cx="7864560" cy="2925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A8646-0A53-4EEF-8743-1CDE77D30EBC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08_06a" descr=""/>
          <p:cNvPicPr/>
          <p:nvPr/>
        </p:nvPicPr>
        <p:blipFill>
          <a:blip r:embed="rId2"/>
          <a:stretch/>
        </p:blipFill>
        <p:spPr>
          <a:xfrm>
            <a:off x="1774800" y="152280"/>
            <a:ext cx="5532480" cy="6477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88EFF-2BB9-495C-BFCF-8825DC2E8D0F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08_07a" descr=""/>
          <p:cNvPicPr/>
          <p:nvPr/>
        </p:nvPicPr>
        <p:blipFill>
          <a:blip r:embed="rId2"/>
          <a:stretch/>
        </p:blipFill>
        <p:spPr>
          <a:xfrm>
            <a:off x="1206360" y="482760"/>
            <a:ext cx="672480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8169B-18B0-44FA-8EB0-74DE57D86466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20:11:54Z</dcterms:created>
  <dc:creator>Copyright ©2006 Pearson Addison-Wesley</dc:creator>
  <dc:description/>
  <dc:language>en-US</dc:language>
  <cp:lastModifiedBy>AnnMarie</cp:lastModifiedBy>
  <dcterms:modified xsi:type="dcterms:W3CDTF">2005-06-24T17:00:21Z</dcterms:modified>
  <cp:revision>29</cp:revision>
  <dc:subject/>
  <dc:title>PowerPoint Presentation</dc:title>
</cp:coreProperties>
</file>