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82384-3BC7-4E34-9C9F-F12DB79FF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5417-CA6F-41CF-81DF-B41C7A94B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EDBF-C0C6-45A3-9073-09CC67F04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F8D4-B80B-4349-A6F8-071A6295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B915-1CE1-4D3E-B0F9-C309F9D6B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B6A1-78E3-4C08-85C7-FEA801736C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4A4F-EE65-49C2-9EBE-B621BF4E1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4B46-292D-426F-A9FC-44CA58F75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83C5-6F25-464C-8622-64663F02E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B227-D99B-4185-8713-08D9FCC8A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2F8F-C135-41BC-9BCD-E0D920D5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1DC2-F9A8-41B5-A702-F53D4F6EB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–</a:t>
            </a:r>
            <a:fld id="{45A93D76-8307-49C7-B6C0-29F97CAC4D4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s and Activ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7_01" descr=""/>
          <p:cNvPicPr/>
          <p:nvPr/>
        </p:nvPicPr>
        <p:blipFill>
          <a:blip r:embed="rId2"/>
          <a:stretch/>
        </p:blipFill>
        <p:spPr>
          <a:xfrm>
            <a:off x="647640" y="2438280"/>
            <a:ext cx="7864560" cy="199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466D-533F-4588-8A55-A10F3EFBC452}" type="slidenum">
              <a:t>2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1:16Z</dcterms:modified>
  <cp:revision>27</cp:revision>
  <dc:subject/>
  <dc:title>PowerPoint Presentation</dc:title>
</cp:coreProperties>
</file>