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9A19F-5EC4-43FE-83E3-E751FBD60D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7E881-6E2B-443E-B58F-3B588992DB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40DA1-7164-499D-845A-4CD07097DB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71CB6-8D48-403E-BBD4-8AFF309EEB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FE98B-B1D7-44BA-A749-B2DA07C1D7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4067A-5B3B-460C-BA5A-4DCDB9954E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15E8F-5F3A-488F-BF7F-F4207F16CB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0A38D-B25E-4A34-BB36-E99777428B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81778-0E69-4C8E-A81F-E3B13DBBF7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1C191-553A-4459-ADA9-5B49FE1711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8D548-3FE6-41EB-88BE-D57D2DEC81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1A7B9-BB13-4D55-9F69-2FB1496C24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36264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pyright © 2006 Pearson Addison-Wesley. All rights reserved.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102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–</a:t>
            </a:r>
            <a:fld id="{1A21F985-3EE5-409F-A1B8-63257DC65CC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 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029200" y="2209320"/>
            <a:ext cx="3657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base Design with the Relational Normalization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06_09" descr=""/>
          <p:cNvPicPr/>
          <p:nvPr/>
        </p:nvPicPr>
        <p:blipFill>
          <a:blip r:embed="rId2"/>
          <a:stretch/>
        </p:blipFill>
        <p:spPr>
          <a:xfrm>
            <a:off x="647640" y="1841400"/>
            <a:ext cx="7864560" cy="318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370EB-41E3-4424-A66D-8ADE878553FD}" type="slidenum">
              <a:t>10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06_10" descr=""/>
          <p:cNvPicPr/>
          <p:nvPr/>
        </p:nvPicPr>
        <p:blipFill>
          <a:blip r:embed="rId2"/>
          <a:stretch/>
        </p:blipFill>
        <p:spPr>
          <a:xfrm>
            <a:off x="647640" y="1994040"/>
            <a:ext cx="7864560" cy="287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DE22E-A8B7-48E5-90B2-178E1BFA1995}" type="slidenum">
              <a:t>11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06_01" descr=""/>
          <p:cNvPicPr/>
          <p:nvPr/>
        </p:nvPicPr>
        <p:blipFill>
          <a:blip r:embed="rId2"/>
          <a:stretch/>
        </p:blipFill>
        <p:spPr>
          <a:xfrm>
            <a:off x="647640" y="1752480"/>
            <a:ext cx="7864560" cy="336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BD87F-2D1D-4955-B511-0E1F6EC5837D}" type="slidenum">
              <a:t>2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06_02" descr=""/>
          <p:cNvPicPr/>
          <p:nvPr/>
        </p:nvPicPr>
        <p:blipFill>
          <a:blip r:embed="rId2"/>
          <a:stretch/>
        </p:blipFill>
        <p:spPr>
          <a:xfrm>
            <a:off x="647640" y="2057400"/>
            <a:ext cx="7864560" cy="273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F3725-A43A-44FB-A40C-07C741553580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06_03" descr=""/>
          <p:cNvPicPr/>
          <p:nvPr/>
        </p:nvPicPr>
        <p:blipFill>
          <a:blip r:embed="rId2"/>
          <a:stretch/>
        </p:blipFill>
        <p:spPr>
          <a:xfrm>
            <a:off x="647640" y="2298600"/>
            <a:ext cx="7864560" cy="2265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F914E-2F7F-4EAC-92F6-F9F5A2CB1408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06_04" descr=""/>
          <p:cNvPicPr/>
          <p:nvPr/>
        </p:nvPicPr>
        <p:blipFill>
          <a:blip r:embed="rId2"/>
          <a:stretch/>
        </p:blipFill>
        <p:spPr>
          <a:xfrm>
            <a:off x="647640" y="2324160"/>
            <a:ext cx="7864560" cy="222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A547A-E074-46D5-94E9-BD2CDF761440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06_05" descr=""/>
          <p:cNvPicPr/>
          <p:nvPr/>
        </p:nvPicPr>
        <p:blipFill>
          <a:blip r:embed="rId2"/>
          <a:stretch/>
        </p:blipFill>
        <p:spPr>
          <a:xfrm>
            <a:off x="647640" y="2362320"/>
            <a:ext cx="7864560" cy="213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7EDDD-5BA6-407A-B838-A1DB8132CDFB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06_06" descr=""/>
          <p:cNvPicPr/>
          <p:nvPr/>
        </p:nvPicPr>
        <p:blipFill>
          <a:blip r:embed="rId2"/>
          <a:stretch/>
        </p:blipFill>
        <p:spPr>
          <a:xfrm>
            <a:off x="647640" y="1346040"/>
            <a:ext cx="7864560" cy="4183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944DE-45F1-489D-97E0-2D3746DD97BA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06_07" descr=""/>
          <p:cNvPicPr/>
          <p:nvPr/>
        </p:nvPicPr>
        <p:blipFill>
          <a:blip r:embed="rId2"/>
          <a:stretch/>
        </p:blipFill>
        <p:spPr>
          <a:xfrm>
            <a:off x="647640" y="1308240"/>
            <a:ext cx="7864560" cy="425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3D059-752B-4D2A-8373-D5E634F8A54C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06_08" descr=""/>
          <p:cNvPicPr/>
          <p:nvPr/>
        </p:nvPicPr>
        <p:blipFill>
          <a:blip r:embed="rId2"/>
          <a:stretch/>
        </p:blipFill>
        <p:spPr>
          <a:xfrm>
            <a:off x="647640" y="1130400"/>
            <a:ext cx="7864560" cy="459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8823F-765A-4D17-A76B-6120259C9084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20:11:54Z</dcterms:created>
  <dc:creator>Copyright ©2006 Pearson Addison-Wesley</dc:creator>
  <dc:description/>
  <dc:language>en-US</dc:language>
  <cp:lastModifiedBy>AnnMarie</cp:lastModifiedBy>
  <dcterms:modified xsi:type="dcterms:W3CDTF">2005-06-24T17:00:34Z</dcterms:modified>
  <cp:revision>26</cp:revision>
  <dc:subject/>
  <dc:title>PowerPoint Presentation</dc:title>
</cp:coreProperties>
</file>