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2DCBF-EBA8-4133-993B-2DC3BD147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E6F9-F75C-4280-8B68-C121B40B1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F2E8-895C-4358-9E4F-112F40270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4788-B4C5-4AD5-90CF-FF2B40612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6CBC-C28C-40A6-8466-0CF70CFFC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959A1-B91B-413B-AA38-F9EE22780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24FA-1670-4D9A-B2FF-48BFBA5B0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EB4C9-EFCD-48BB-A1F8-0FB7CBCC9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0CDC-CDE4-4496-87B8-8DE923423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C6147-F7D4-43B5-B83D-E3CB1D24B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672D-4D51-4D3E-B8BA-5A877283B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37A3-E3AC-4880-8EF7-46D54BFC2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–</a:t>
            </a:r>
            <a:fld id="{94D1EA0B-016B-4C5B-8456-A40D8E47FB3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 Algebra and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5_08" descr=""/>
          <p:cNvPicPr/>
          <p:nvPr/>
        </p:nvPicPr>
        <p:blipFill>
          <a:blip r:embed="rId2"/>
          <a:stretch/>
        </p:blipFill>
        <p:spPr>
          <a:xfrm>
            <a:off x="647640" y="1219320"/>
            <a:ext cx="7864560" cy="44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9469-08E4-41E8-AD5A-3A96FDAA2E81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5_09" descr=""/>
          <p:cNvPicPr/>
          <p:nvPr/>
        </p:nvPicPr>
        <p:blipFill>
          <a:blip r:embed="rId2"/>
          <a:stretch/>
        </p:blipFill>
        <p:spPr>
          <a:xfrm>
            <a:off x="647640" y="762120"/>
            <a:ext cx="7864560" cy="53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13472-A62A-4BF3-9B56-267947AD6924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05_10" descr=""/>
          <p:cNvPicPr/>
          <p:nvPr/>
        </p:nvPicPr>
        <p:blipFill>
          <a:blip r:embed="rId2"/>
          <a:stretch/>
        </p:blipFill>
        <p:spPr>
          <a:xfrm>
            <a:off x="1270080" y="482760"/>
            <a:ext cx="66038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B949-D833-4BBD-8D56-577443C20D8A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05_11" descr=""/>
          <p:cNvPicPr/>
          <p:nvPr/>
        </p:nvPicPr>
        <p:blipFill>
          <a:blip r:embed="rId2"/>
          <a:stretch/>
        </p:blipFill>
        <p:spPr>
          <a:xfrm>
            <a:off x="647640" y="2120760"/>
            <a:ext cx="7864560" cy="261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3516-BB2E-4C77-9533-20443DA351F9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5_12" descr=""/>
          <p:cNvPicPr/>
          <p:nvPr/>
        </p:nvPicPr>
        <p:blipFill>
          <a:blip r:embed="rId2"/>
          <a:stretch/>
        </p:blipFill>
        <p:spPr>
          <a:xfrm>
            <a:off x="647640" y="1765440"/>
            <a:ext cx="7864560" cy="33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D017-CA02-4357-9598-0D7D594320FB}" type="slidenum">
              <a:t>14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5_01" descr=""/>
          <p:cNvPicPr/>
          <p:nvPr/>
        </p:nvPicPr>
        <p:blipFill>
          <a:blip r:embed="rId2"/>
          <a:stretch/>
        </p:blipFill>
        <p:spPr>
          <a:xfrm>
            <a:off x="647640" y="1181160"/>
            <a:ext cx="7864560" cy="450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044E-2B38-41CA-B33A-BA1DBC39A5B4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5_02" descr=""/>
          <p:cNvPicPr/>
          <p:nvPr/>
        </p:nvPicPr>
        <p:blipFill>
          <a:blip r:embed="rId2"/>
          <a:stretch/>
        </p:blipFill>
        <p:spPr>
          <a:xfrm>
            <a:off x="1384200" y="482760"/>
            <a:ext cx="63756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51DA-897D-45DB-B59D-E0986505C83D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5_03" descr=""/>
          <p:cNvPicPr/>
          <p:nvPr/>
        </p:nvPicPr>
        <p:blipFill>
          <a:blip r:embed="rId2"/>
          <a:stretch/>
        </p:blipFill>
        <p:spPr>
          <a:xfrm>
            <a:off x="1612800" y="482760"/>
            <a:ext cx="59342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6209-5847-41B8-A468-A0790862B076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5_04" descr=""/>
          <p:cNvPicPr/>
          <p:nvPr/>
        </p:nvPicPr>
        <p:blipFill>
          <a:blip r:embed="rId2"/>
          <a:stretch/>
        </p:blipFill>
        <p:spPr>
          <a:xfrm>
            <a:off x="647640" y="2057400"/>
            <a:ext cx="7864560" cy="275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306C-EEB6-487B-BF4D-FFD6336442F1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5_05a" descr=""/>
          <p:cNvPicPr/>
          <p:nvPr/>
        </p:nvPicPr>
        <p:blipFill>
          <a:blip r:embed="rId2"/>
          <a:stretch/>
        </p:blipFill>
        <p:spPr>
          <a:xfrm>
            <a:off x="647640" y="1333440"/>
            <a:ext cx="786456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B6623-A22F-452D-AD3B-88E8F0E73F0D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5_05b" descr=""/>
          <p:cNvPicPr/>
          <p:nvPr/>
        </p:nvPicPr>
        <p:blipFill>
          <a:blip r:embed="rId2"/>
          <a:stretch/>
        </p:blipFill>
        <p:spPr>
          <a:xfrm>
            <a:off x="647640" y="1257480"/>
            <a:ext cx="7864560" cy="434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75C0A-DE46-4D2E-BD9B-34C67C0138E0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5_06" descr=""/>
          <p:cNvPicPr/>
          <p:nvPr/>
        </p:nvPicPr>
        <p:blipFill>
          <a:blip r:embed="rId2"/>
          <a:stretch/>
        </p:blipFill>
        <p:spPr>
          <a:xfrm>
            <a:off x="965160" y="482760"/>
            <a:ext cx="72104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E6F9-2748-499C-B87C-AEF7C28B604C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5_07" descr=""/>
          <p:cNvPicPr/>
          <p:nvPr/>
        </p:nvPicPr>
        <p:blipFill>
          <a:blip r:embed="rId2"/>
          <a:stretch/>
        </p:blipFill>
        <p:spPr>
          <a:xfrm>
            <a:off x="1104840" y="482760"/>
            <a:ext cx="69310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00AF-A08C-4499-9324-1AFD1A5C8ECD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59:51Z</dcterms:modified>
  <cp:revision>25</cp:revision>
  <dc:subject/>
  <dc:title>PowerPoint Presentation</dc:title>
</cp:coreProperties>
</file>