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CB77-E4D3-48F0-A4AC-B220ECD75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7DBCA-A11E-4DE6-95B5-B13AB6913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2FCA-F3F1-43FA-82E1-56BD1867F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3D5F-8F45-4FB8-886E-085CB6016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4A08-9641-4543-8C70-28756DBE6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5870-533D-4DDA-9A37-788B97564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63FA-68D0-4760-B37E-1A3529FC4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50FE-7F8F-4202-BB00-AF1D86DC3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D244-4A9E-4F62-AAB7-8B5DF93E1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18A6-A8CB-4EAE-808E-3823923F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474C-8BB4-4A3F-AF6F-FAE78676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4029-D483-49CC-98D4-C339DE756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–</a:t>
            </a:r>
            <a:fld id="{7D5CA1FC-B36E-422A-A342-DC7B04F64DA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Modeling of Database with Entity-Relationshi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s and the Unified Model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4_09" descr=""/>
          <p:cNvPicPr/>
          <p:nvPr/>
        </p:nvPicPr>
        <p:blipFill>
          <a:blip r:embed="rId2"/>
          <a:stretch/>
        </p:blipFill>
        <p:spPr>
          <a:xfrm>
            <a:off x="647640" y="1943280"/>
            <a:ext cx="7864560" cy="298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F93B-292A-4C52-8867-43B6AB04D418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4_10" descr=""/>
          <p:cNvPicPr/>
          <p:nvPr/>
        </p:nvPicPr>
        <p:blipFill>
          <a:blip r:embed="rId2"/>
          <a:stretch/>
        </p:blipFill>
        <p:spPr>
          <a:xfrm>
            <a:off x="647640" y="1714680"/>
            <a:ext cx="7864560" cy="34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4C90-5BB6-49D3-83EE-28923D5F4373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4_11" descr=""/>
          <p:cNvPicPr/>
          <p:nvPr/>
        </p:nvPicPr>
        <p:blipFill>
          <a:blip r:embed="rId2"/>
          <a:stretch/>
        </p:blipFill>
        <p:spPr>
          <a:xfrm>
            <a:off x="647640" y="1663560"/>
            <a:ext cx="7864560" cy="352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7F935-B5CA-4D87-8E2E-403E7814D54F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4_12" descr=""/>
          <p:cNvPicPr/>
          <p:nvPr/>
        </p:nvPicPr>
        <p:blipFill>
          <a:blip r:embed="rId2"/>
          <a:stretch/>
        </p:blipFill>
        <p:spPr>
          <a:xfrm>
            <a:off x="736560" y="482760"/>
            <a:ext cx="76690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6DE9-10E4-41B1-A910-73C16925B97C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4_13" descr=""/>
          <p:cNvPicPr/>
          <p:nvPr/>
        </p:nvPicPr>
        <p:blipFill>
          <a:blip r:embed="rId2"/>
          <a:stretch/>
        </p:blipFill>
        <p:spPr>
          <a:xfrm>
            <a:off x="647640" y="2031840"/>
            <a:ext cx="7864560" cy="27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D83C-97F8-4864-B1FC-6B3935050EBD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4_14" descr=""/>
          <p:cNvPicPr/>
          <p:nvPr/>
        </p:nvPicPr>
        <p:blipFill>
          <a:blip r:embed="rId2"/>
          <a:stretch/>
        </p:blipFill>
        <p:spPr>
          <a:xfrm>
            <a:off x="698400" y="482760"/>
            <a:ext cx="7750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E5FD3-787D-47B0-957B-CDD832DD444F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04_15" descr=""/>
          <p:cNvPicPr/>
          <p:nvPr/>
        </p:nvPicPr>
        <p:blipFill>
          <a:blip r:embed="rId2"/>
          <a:stretch/>
        </p:blipFill>
        <p:spPr>
          <a:xfrm>
            <a:off x="647640" y="1587600"/>
            <a:ext cx="7864560" cy="36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3286-8F19-4031-AEDC-5F9A70B2CB59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4_16" descr=""/>
          <p:cNvPicPr/>
          <p:nvPr/>
        </p:nvPicPr>
        <p:blipFill>
          <a:blip r:embed="rId2"/>
          <a:stretch/>
        </p:blipFill>
        <p:spPr>
          <a:xfrm>
            <a:off x="647640" y="1689120"/>
            <a:ext cx="7864560" cy="34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4E44-6584-43DD-A3F9-EBCA4BE8F70A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4_17" descr=""/>
          <p:cNvPicPr/>
          <p:nvPr/>
        </p:nvPicPr>
        <p:blipFill>
          <a:blip r:embed="rId2"/>
          <a:stretch/>
        </p:blipFill>
        <p:spPr>
          <a:xfrm>
            <a:off x="647640" y="1486080"/>
            <a:ext cx="786456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E41B-6A12-4D3B-A96A-0B91559726B8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4_18" descr=""/>
          <p:cNvPicPr/>
          <p:nvPr/>
        </p:nvPicPr>
        <p:blipFill>
          <a:blip r:embed="rId2"/>
          <a:stretch/>
        </p:blipFill>
        <p:spPr>
          <a:xfrm>
            <a:off x="647640" y="2095560"/>
            <a:ext cx="7864560" cy="268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1838-3356-4345-B57D-AE7EE10D9672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4_01" descr=""/>
          <p:cNvPicPr/>
          <p:nvPr/>
        </p:nvPicPr>
        <p:blipFill>
          <a:blip r:embed="rId2"/>
          <a:stretch/>
        </p:blipFill>
        <p:spPr>
          <a:xfrm>
            <a:off x="647640" y="2184480"/>
            <a:ext cx="7864560" cy="250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EC84-DA86-4B01-A156-81FC3897D80A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4_19" descr=""/>
          <p:cNvPicPr/>
          <p:nvPr/>
        </p:nvPicPr>
        <p:blipFill>
          <a:blip r:embed="rId2"/>
          <a:stretch/>
        </p:blipFill>
        <p:spPr>
          <a:xfrm>
            <a:off x="647640" y="1917720"/>
            <a:ext cx="7864560" cy="303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5C288-2513-41A8-98D2-84C0EBFE3182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4_20" descr=""/>
          <p:cNvPicPr/>
          <p:nvPr/>
        </p:nvPicPr>
        <p:blipFill>
          <a:blip r:embed="rId2"/>
          <a:stretch/>
        </p:blipFill>
        <p:spPr>
          <a:xfrm>
            <a:off x="647640" y="2133720"/>
            <a:ext cx="786456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FFBA-1030-4776-B2AF-7F2502819005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04_21" descr=""/>
          <p:cNvPicPr/>
          <p:nvPr/>
        </p:nvPicPr>
        <p:blipFill>
          <a:blip r:embed="rId2"/>
          <a:stretch/>
        </p:blipFill>
        <p:spPr>
          <a:xfrm>
            <a:off x="990720" y="482760"/>
            <a:ext cx="7157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5B0C-0E3B-429C-B8C4-7AA58E0D8C0C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04_22" descr=""/>
          <p:cNvPicPr/>
          <p:nvPr/>
        </p:nvPicPr>
        <p:blipFill>
          <a:blip r:embed="rId2"/>
          <a:stretch/>
        </p:blipFill>
        <p:spPr>
          <a:xfrm>
            <a:off x="647640" y="660240"/>
            <a:ext cx="786456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7F39-FEB7-484C-8540-9AD168EE382B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4_23" descr=""/>
          <p:cNvPicPr/>
          <p:nvPr/>
        </p:nvPicPr>
        <p:blipFill>
          <a:blip r:embed="rId2"/>
          <a:stretch/>
        </p:blipFill>
        <p:spPr>
          <a:xfrm>
            <a:off x="647640" y="2666880"/>
            <a:ext cx="7864560" cy="15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48FF-2676-4CAA-AF02-CE777F6D39D3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04_24" descr=""/>
          <p:cNvPicPr/>
          <p:nvPr/>
        </p:nvPicPr>
        <p:blipFill>
          <a:blip r:embed="rId2"/>
          <a:stretch/>
        </p:blipFill>
        <p:spPr>
          <a:xfrm>
            <a:off x="647640" y="2044800"/>
            <a:ext cx="7864560" cy="277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4620-D82E-4EB8-95BD-FE6584FE826D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4_25" descr=""/>
          <p:cNvPicPr/>
          <p:nvPr/>
        </p:nvPicPr>
        <p:blipFill>
          <a:blip r:embed="rId2"/>
          <a:stretch/>
        </p:blipFill>
        <p:spPr>
          <a:xfrm>
            <a:off x="647640" y="2527200"/>
            <a:ext cx="7864560" cy="181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8C84-67AF-4FE7-8A81-0F40255CC2B2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04_26" descr=""/>
          <p:cNvPicPr/>
          <p:nvPr/>
        </p:nvPicPr>
        <p:blipFill>
          <a:blip r:embed="rId2"/>
          <a:stretch/>
        </p:blipFill>
        <p:spPr>
          <a:xfrm>
            <a:off x="647640" y="2502000"/>
            <a:ext cx="7864560" cy="185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4464-3A29-4A25-AF59-FF0D69D58B4F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4_27" descr=""/>
          <p:cNvPicPr/>
          <p:nvPr/>
        </p:nvPicPr>
        <p:blipFill>
          <a:blip r:embed="rId2"/>
          <a:stretch/>
        </p:blipFill>
        <p:spPr>
          <a:xfrm>
            <a:off x="647640" y="1028880"/>
            <a:ext cx="7864560" cy="481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B7C6-1476-4576-876C-98EFAEFF3747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4_28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7864560" cy="374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756AC-0280-4BD5-9DA6-257F605E41C1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4_02" descr=""/>
          <p:cNvPicPr/>
          <p:nvPr/>
        </p:nvPicPr>
        <p:blipFill>
          <a:blip r:embed="rId2"/>
          <a:stretch/>
        </p:blipFill>
        <p:spPr>
          <a:xfrm>
            <a:off x="1079640" y="482760"/>
            <a:ext cx="6995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52E9-7AF0-4614-85FC-3F27E8781B96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4_29" descr=""/>
          <p:cNvPicPr/>
          <p:nvPr/>
        </p:nvPicPr>
        <p:blipFill>
          <a:blip r:embed="rId2"/>
          <a:stretch/>
        </p:blipFill>
        <p:spPr>
          <a:xfrm>
            <a:off x="901800" y="482760"/>
            <a:ext cx="73357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7130-FB3F-4905-B001-3373B1C6340D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4_30" descr=""/>
          <p:cNvPicPr/>
          <p:nvPr/>
        </p:nvPicPr>
        <p:blipFill>
          <a:blip r:embed="rId2"/>
          <a:stretch/>
        </p:blipFill>
        <p:spPr>
          <a:xfrm>
            <a:off x="876240" y="482760"/>
            <a:ext cx="73915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DBC-C7BC-4426-B51E-CBB06A27BF8B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4_31" descr=""/>
          <p:cNvPicPr/>
          <p:nvPr/>
        </p:nvPicPr>
        <p:blipFill>
          <a:blip r:embed="rId2"/>
          <a:stretch/>
        </p:blipFill>
        <p:spPr>
          <a:xfrm>
            <a:off x="914400" y="482760"/>
            <a:ext cx="7327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E555-C11D-4BF5-83EC-24756E6E3EDE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04_32" descr=""/>
          <p:cNvPicPr/>
          <p:nvPr/>
        </p:nvPicPr>
        <p:blipFill>
          <a:blip r:embed="rId2"/>
          <a:stretch/>
        </p:blipFill>
        <p:spPr>
          <a:xfrm>
            <a:off x="1854360" y="482760"/>
            <a:ext cx="54306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857A-E17C-4333-9A3F-5E772BB87CD5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4_33" descr=""/>
          <p:cNvPicPr/>
          <p:nvPr/>
        </p:nvPicPr>
        <p:blipFill>
          <a:blip r:embed="rId2"/>
          <a:stretch/>
        </p:blipFill>
        <p:spPr>
          <a:xfrm>
            <a:off x="1562040" y="482760"/>
            <a:ext cx="60372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99F0-4AA0-4351-A95D-55CC06BF4B26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04_34" descr=""/>
          <p:cNvPicPr/>
          <p:nvPr/>
        </p:nvPicPr>
        <p:blipFill>
          <a:blip r:embed="rId2"/>
          <a:stretch/>
        </p:blipFill>
        <p:spPr>
          <a:xfrm>
            <a:off x="1727280" y="482760"/>
            <a:ext cx="56991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1F69-D98C-472C-B899-0776A78EE86D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04_35a" descr=""/>
          <p:cNvPicPr/>
          <p:nvPr/>
        </p:nvPicPr>
        <p:blipFill>
          <a:blip r:embed="rId2"/>
          <a:stretch/>
        </p:blipFill>
        <p:spPr>
          <a:xfrm>
            <a:off x="1549440" y="482760"/>
            <a:ext cx="6041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2915-7205-4B98-B519-0362F8B9F038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04_35b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86456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75FC-15D8-40CD-9FCF-D0B659F5C789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04_36" descr=""/>
          <p:cNvPicPr/>
          <p:nvPr/>
        </p:nvPicPr>
        <p:blipFill>
          <a:blip r:embed="rId2"/>
          <a:stretch/>
        </p:blipFill>
        <p:spPr>
          <a:xfrm>
            <a:off x="647640" y="1231920"/>
            <a:ext cx="7864560" cy="44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A36A-B6D7-4824-AF36-EA34907FDFC4}" type="slidenum">
              <a:t>38</a:t>
            </a:fld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4_37" descr=""/>
          <p:cNvPicPr/>
          <p:nvPr/>
        </p:nvPicPr>
        <p:blipFill>
          <a:blip r:embed="rId2"/>
          <a:stretch/>
        </p:blipFill>
        <p:spPr>
          <a:xfrm>
            <a:off x="647640" y="2031840"/>
            <a:ext cx="786456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676C-8065-445E-90F1-0833161658BB}" type="slidenum">
              <a:t>39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4_03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6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8BDE-05DA-41A4-85F8-7FC1D9B6CA46}" type="slidenum">
              <a:t>4</a:t>
            </a:fld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4_38" descr=""/>
          <p:cNvPicPr/>
          <p:nvPr/>
        </p:nvPicPr>
        <p:blipFill>
          <a:blip r:embed="rId2"/>
          <a:stretch/>
        </p:blipFill>
        <p:spPr>
          <a:xfrm>
            <a:off x="647640" y="1968480"/>
            <a:ext cx="7864560" cy="293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1420-BD23-4507-954A-DC9F84F76B54}" type="slidenum">
              <a:t>40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4_04" descr=""/>
          <p:cNvPicPr/>
          <p:nvPr/>
        </p:nvPicPr>
        <p:blipFill>
          <a:blip r:embed="rId2"/>
          <a:stretch/>
        </p:blipFill>
        <p:spPr>
          <a:xfrm>
            <a:off x="647640" y="2120760"/>
            <a:ext cx="7864560" cy="26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ABDE-D478-4747-B07D-3C62E304923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4_05" descr=""/>
          <p:cNvPicPr/>
          <p:nvPr/>
        </p:nvPicPr>
        <p:blipFill>
          <a:blip r:embed="rId2"/>
          <a:stretch/>
        </p:blipFill>
        <p:spPr>
          <a:xfrm>
            <a:off x="647640" y="1765440"/>
            <a:ext cx="7864560" cy="333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26A5-F4D9-4677-B98B-03A669C7EEF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4_06" descr=""/>
          <p:cNvPicPr/>
          <p:nvPr/>
        </p:nvPicPr>
        <p:blipFill>
          <a:blip r:embed="rId2"/>
          <a:stretch/>
        </p:blipFill>
        <p:spPr>
          <a:xfrm>
            <a:off x="965160" y="482760"/>
            <a:ext cx="7210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4FCB-D460-449F-8FE3-820BEF7F3F1B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4_07" descr=""/>
          <p:cNvPicPr/>
          <p:nvPr/>
        </p:nvPicPr>
        <p:blipFill>
          <a:blip r:embed="rId2"/>
          <a:stretch/>
        </p:blipFill>
        <p:spPr>
          <a:xfrm>
            <a:off x="647640" y="1765440"/>
            <a:ext cx="7864560" cy="33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EC04-E207-4B23-B437-686227C68B7D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4_08" descr=""/>
          <p:cNvPicPr/>
          <p:nvPr/>
        </p:nvPicPr>
        <p:blipFill>
          <a:blip r:embed="rId2"/>
          <a:stretch/>
        </p:blipFill>
        <p:spPr>
          <a:xfrm>
            <a:off x="647640" y="1092240"/>
            <a:ext cx="7864560" cy="467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0142-043D-4C67-920E-DB476C603391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9:21Z</dcterms:modified>
  <cp:revision>24</cp:revision>
  <dc:subject/>
  <dc:title>PowerPoint Presentation</dc:title>
</cp:coreProperties>
</file>