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D8E7-E03A-442E-9E46-A9F2EEF01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6316-91B4-4786-A55D-98260C0E0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8299-6EEF-4762-82A2-0930E8284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E32F-F32E-4C2B-8FA0-9147CE7CF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4FEA-030B-470A-9751-A26C5456B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1AFB6-C4F4-488F-A4CA-6B2456F83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E363-4A20-467F-ADD1-B21DFDA2E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A019-9CAD-4049-9CAD-3AA813012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386C-6FAA-41B3-BFB5-D47741C78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EEEC-6390-492B-8747-8635F73E5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F686-68EE-4255-AB40-C6741F7A2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267B-A957-4952-925F-24375B2FC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–</a:t>
            </a:r>
            <a:fld id="{6C7CB4BD-2BDB-4298-BCBC-E29FE593B0F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3_06" descr=""/>
          <p:cNvPicPr/>
          <p:nvPr/>
        </p:nvPicPr>
        <p:blipFill>
          <a:blip r:embed="rId2"/>
          <a:stretch/>
        </p:blipFill>
        <p:spPr>
          <a:xfrm>
            <a:off x="647640" y="2006640"/>
            <a:ext cx="7864560" cy="28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59A4-4D7B-4791-AE73-69F247E8C266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3_07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9D0A-4AE1-4EEE-805D-EB1704219E58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3_08" descr=""/>
          <p:cNvPicPr/>
          <p:nvPr/>
        </p:nvPicPr>
        <p:blipFill>
          <a:blip r:embed="rId2"/>
          <a:stretch/>
        </p:blipFill>
        <p:spPr>
          <a:xfrm>
            <a:off x="711360" y="482760"/>
            <a:ext cx="77389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1D05-D3BB-4804-8D25-2D3C5A6447AD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3_09" descr=""/>
          <p:cNvPicPr/>
          <p:nvPr/>
        </p:nvPicPr>
        <p:blipFill>
          <a:blip r:embed="rId2"/>
          <a:stretch/>
        </p:blipFill>
        <p:spPr>
          <a:xfrm>
            <a:off x="647640" y="1257480"/>
            <a:ext cx="7864560" cy="43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50AB-4475-403D-B30C-B2364B8CBF81}" type="slidenum">
              <a:t>13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3_01" descr=""/>
          <p:cNvPicPr/>
          <p:nvPr/>
        </p:nvPicPr>
        <p:blipFill>
          <a:blip r:embed="rId2"/>
          <a:stretch/>
        </p:blipFill>
        <p:spPr>
          <a:xfrm>
            <a:off x="1066680" y="482760"/>
            <a:ext cx="70218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7FCC0-7B88-4287-BD17-49E139CD2F02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3_02" descr=""/>
          <p:cNvPicPr/>
          <p:nvPr/>
        </p:nvPicPr>
        <p:blipFill>
          <a:blip r:embed="rId2"/>
          <a:stretch/>
        </p:blipFill>
        <p:spPr>
          <a:xfrm>
            <a:off x="647640" y="1994040"/>
            <a:ext cx="7864560" cy="28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B47E-41AB-4D8D-AC47-861B7F0629C5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3_03" descr=""/>
          <p:cNvPicPr/>
          <p:nvPr/>
        </p:nvPicPr>
        <p:blipFill>
          <a:blip r:embed="rId2"/>
          <a:stretch/>
        </p:blipFill>
        <p:spPr>
          <a:xfrm>
            <a:off x="647640" y="1994040"/>
            <a:ext cx="7864560" cy="28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F3CF-14A4-4E96-9E33-1FB893758E06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3_04" descr=""/>
          <p:cNvPicPr/>
          <p:nvPr/>
        </p:nvPicPr>
        <p:blipFill>
          <a:blip r:embed="rId2"/>
          <a:stretch/>
        </p:blipFill>
        <p:spPr>
          <a:xfrm>
            <a:off x="647640" y="2527200"/>
            <a:ext cx="7864560" cy="18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2B8C-9D8E-4D1F-A8AE-0331D022B91C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3_05a" descr=""/>
          <p:cNvPicPr/>
          <p:nvPr/>
        </p:nvPicPr>
        <p:blipFill>
          <a:blip r:embed="rId2"/>
          <a:stretch/>
        </p:blipFill>
        <p:spPr>
          <a:xfrm>
            <a:off x="647640" y="1409760"/>
            <a:ext cx="7864560" cy="404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91888-5E5C-4E47-A0D3-EA932FC0AD5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3_05b" descr=""/>
          <p:cNvPicPr/>
          <p:nvPr/>
        </p:nvPicPr>
        <p:blipFill>
          <a:blip r:embed="rId2"/>
          <a:stretch/>
        </p:blipFill>
        <p:spPr>
          <a:xfrm>
            <a:off x="647640" y="1663560"/>
            <a:ext cx="7864560" cy="35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36A0-881E-4A2D-9DFC-8594CD006785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3_05c" descr=""/>
          <p:cNvPicPr/>
          <p:nvPr/>
        </p:nvPicPr>
        <p:blipFill>
          <a:blip r:embed="rId2"/>
          <a:stretch/>
        </p:blipFill>
        <p:spPr>
          <a:xfrm>
            <a:off x="901800" y="482760"/>
            <a:ext cx="73454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3A90-D4C6-4BEE-8444-04CA4A648EE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3_05d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3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4333-515B-4F84-A917-16D698CDB7A7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1:43Z</dcterms:modified>
  <cp:revision>23</cp:revision>
  <dc:subject/>
  <dc:title>PowerPoint Presentation</dc:title>
</cp:coreProperties>
</file>