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DF81-647B-43C6-A14E-9B4151C33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791C-6B50-4E48-8C10-D90DEF7BB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84C3-269A-491A-A36C-434490DFA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8DDF-D780-41D4-B31E-E591C3F57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65B6-0DCE-49F2-80D9-2CEBEFC68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E5AF-7D31-40A3-9B36-4594A10F7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73BBA-0827-4370-8244-4B0C062E9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22C0-733E-4F95-8D74-616282314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E1D8-BB4C-4817-A448-3D03DACE7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F60C-E3BF-4002-BCA2-EB79DBABD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34D6-9279-42D7-B768-CCEA7C589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68A5-4C3B-4616-BB50-AFCA4AB66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–</a:t>
            </a:r>
            <a:fld id="{3C3C20A9-6F61-4E1A-81FA-051472EA7C6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2_01" descr=""/>
          <p:cNvPicPr/>
          <p:nvPr/>
        </p:nvPicPr>
        <p:blipFill>
          <a:blip r:embed="rId2"/>
          <a:stretch/>
        </p:blipFill>
        <p:spPr>
          <a:xfrm>
            <a:off x="647640" y="1689120"/>
            <a:ext cx="7864560" cy="34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0461-3561-4CD4-BF8E-3EE49244B0F8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2_02" descr=""/>
          <p:cNvPicPr/>
          <p:nvPr/>
        </p:nvPicPr>
        <p:blipFill>
          <a:blip r:embed="rId2"/>
          <a:stretch/>
        </p:blipFill>
        <p:spPr>
          <a:xfrm>
            <a:off x="647640" y="2489040"/>
            <a:ext cx="7864560" cy="18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FBB27-25E1-4096-A1D0-8C80D2F2D1BD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2_03" descr=""/>
          <p:cNvPicPr/>
          <p:nvPr/>
        </p:nvPicPr>
        <p:blipFill>
          <a:blip r:embed="rId2"/>
          <a:stretch/>
        </p:blipFill>
        <p:spPr>
          <a:xfrm>
            <a:off x="647640" y="1028880"/>
            <a:ext cx="7864560" cy="480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CA4BB-0FA0-4D2A-AFBA-48CDF11C5100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2_04" descr=""/>
          <p:cNvPicPr/>
          <p:nvPr/>
        </p:nvPicPr>
        <p:blipFill>
          <a:blip r:embed="rId2"/>
          <a:stretch/>
        </p:blipFill>
        <p:spPr>
          <a:xfrm>
            <a:off x="647640" y="927000"/>
            <a:ext cx="786456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E18A-A90E-4C10-B9D0-601176503711}" type="slidenum">
              <a:t>5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0:04Z</dcterms:modified>
  <cp:revision>22</cp:revision>
  <dc:subject/>
  <dc:title>PowerPoint Presentation</dc:title>
</cp:coreProperties>
</file>