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0DA3-A85C-4FC2-9B92-76D89E1C0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1FF2-91E3-47A4-993F-A889FB8A7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DD29-08C4-4B6E-B8B8-BB64F1EBC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0130-3671-4D9E-97CC-9410CE86D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0EC7-BB21-4CD6-B05F-1D4570B65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E3C8-A2CF-4134-B149-266EE70BB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475E-A27C-4078-9303-F052ED4A0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5CA6-09FE-4AF5-A60D-65A0603A2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F040-A610-421C-82C0-ADCE26C45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08A6-4045-42B4-B52F-B9A79C164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53FEE-E348-4500-A099-4AAA601E2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40E6-E15A-41F7-A855-8A1615711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–</a:t>
            </a:r>
            <a:fld id="{9329F865-D4E9-49CF-8E79-3255286C80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s of Databases and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1_01" descr=""/>
          <p:cNvPicPr/>
          <p:nvPr/>
        </p:nvPicPr>
        <p:blipFill>
          <a:blip r:embed="rId2"/>
          <a:stretch/>
        </p:blipFill>
        <p:spPr>
          <a:xfrm>
            <a:off x="825480" y="482760"/>
            <a:ext cx="74944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DBEE-47FF-4E67-AF60-409BFA76D05E}" type="slidenum">
              <a:t>2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58:47Z</dcterms:modified>
  <cp:revision>23</cp:revision>
  <dc:subject/>
  <dc:title>PowerPoint Presentation</dc:title>
</cp:coreProperties>
</file>