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F27-62FB-4114-B838-A27C8C7A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56A-2CE6-497F-B132-2159995C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3DD-09AD-4364-94D8-5A91FE76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60C9-3218-42AF-88BA-303BD4FE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9D61-D510-4091-9D32-D5AF8B01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661-CA6D-412D-8264-499AB73A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DC8-FAE7-4045-9E3F-B4231897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F30-A566-4489-85BF-54CE45C3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B98-657B-4872-9359-5DEDF9E2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856-7AED-456E-A4EF-D9211A38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E9D-0739-4821-902E-C98F8536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9D3-048D-4878-B89A-E96CF239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E2B8-8AF4-45B3-AE3F-12CDE0F00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2520" y="9903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2520" y="99036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endix 3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952520" y="2286000"/>
            <a:ext cx="358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, Coding, and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 Diagram for Clas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has two sta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integrity constraint that class size can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Enro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ons between states are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u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peration /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: specifies when the transition can take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: the method that causes the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: how the internal attributes of the object change when the transaction takes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8B2-632E-4AC7-9B4B-62CF1DA8BB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s of Stat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to communicate the design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desig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rs who must implement th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designers who must test the final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ood test set must visit all the states in the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A4D-B670-47F6-B33C-E58440CFFF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tion of a Trans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ef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s -- in and out, and Return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from, and Ca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or procedure that calls it and those it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onditions (what is true when it star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ion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description of what it does, what tables it accesses, what validity checks it makes, what constraints it checks, what it does if it finds an error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9E2-7DF1-46C7-9E49-E15CF66414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Design Document is complete, designers hold a Design Review with technical p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Design Document consistent with the Specification  Docu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Design Document inconsistent, incomplete, ambigio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he design be impro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risks involved in the desig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512-F634-4B6C-AC00-2A6D6C8F13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ing is an important part of the project, not an informal ad hoc activity that starts after the code is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 tests – each programmer checks his code before submi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Tests – as the modules are integrated into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Assurance Tests – when the implementers think the system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E1A-5ECF-4317-AAEA-8196385375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Assurance T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 Box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without looking inside the design and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system meet its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must be at least one test for each numbered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s Box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looking at the design and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 must visit every line of code, every branch,  check boundary conditions of every loop, invoke every event, execute every integrity check, check all error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system meet its specifications for throughput and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F47-7E6A-4622-9E22-99B7980668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lan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scripts of all tests and the correct result for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desirable to employ a test driver or scripting mechanism to perform test automatically because tests will be repeated many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nclude some mechanism for reporting bugs and ensuring that the final version includes all bug f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the rationale for each test, so test plan can be  maintained and enhanced as the system evo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implementors are in a different organization than the customer, the Test Plan  Document is often a deliverable with th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4E4-D4AE-4304-8A9F-840575105F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ptance and Beta T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ptance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accepting and paying for the system, the customer runs its own acceptance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real data from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ystem is a product and there are many customers, developers might select a subset of the customers to be beta te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a testers use the system and report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delivery, the system is often run in parallel with the existing system until its reliability has been demonst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749-06CB-4975-9E5C-5F1ACB52D6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Planning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Planning is a key aspect of any Software Engineering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plan should be made while specification is being done and refined while design is being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 divides the project in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letion of each task can be precisely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can be completed in some short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ng the time for task completion takes experience and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 then determines task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 6 cannot be started until Task 2 compl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s 1 and Task 2 can be done at the sam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can be documented using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27B-F6BC-4EED-A41E-A5B9C5C6A2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cy Chart (PERT Char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9400" y="1676520"/>
            <a:ext cx="899460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FD3-F392-4D3D-88C0-E305D3489D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xt step in the Software Engineering process after preparing the Specification Document is to perform the design and prepare the Design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ontrast with the Specification Document that describ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ystem is supposed to do, the Design Document describ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ystem is to do what it d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88A-5398-48D3-9E81-51E83EDF40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ngest path through the PERT chart is call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bound on the time required to complete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xample, Tasks 2, 6, and 7 form the critical path and the corresponding lower bound on project completion time is 2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667-B49C-4CF5-ADE2-F97578ACD4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Chart (Gantt Char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04880" y="2057400"/>
            <a:ext cx="7734240" cy="38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68C-914C-4E00-A032-782302C8B6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ff Allocation 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5680" y="2057400"/>
            <a:ext cx="8972640" cy="27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34EC-03A0-48DA-9D04-829DC3069B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accurate, charts must take into account such factors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ence and competence of people assigned to each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idays and va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 of time people will spend on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project planning software can automate the generation of charts, the preparation and monitoring of a project plan requires considerable skill and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project management is the cause of mos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FFD-B406-4CD5-9C66-D486945E1D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ject manager schedules periodic (weekly) project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 members report on status and expected completion time of their tasks compared to scheduled completi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manager takes appropriate steps to ensure project completes o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707-F0BC-475D-89D6-CAEE3B21D1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st priorities are correctness and c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ders should use the sam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odule and procedure should have a preamble, including a description of what the code is supposed to do and a revision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 in code should be application-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ive all employees a 5% r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7FC-AB0C-4F6F-91D5-BCF59DA804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mental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rojects take a long period of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requirements might change during tha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al development involves building the system in stages, each of which can be implemented in a short period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ly a core version with limited capability is bu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, new versions are built with increased functionality and based on new customer requirements and on customer experience with older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CAAD-3D5D-467F-B404-622A8B3976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and Code for Student Registration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cont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design of database schema, including integrity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design of Registration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 code for Registration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FCEF-3865-4D3E-8599-1B8484961B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ers of the Design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Group, which use it to produce th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Control Group, which use it to design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enance Group, which will use it, at a later time, to implement system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D21-6FAA-4442-BF8F-07C20E7F83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Contrast: Readers of the Specification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, who uses it to determine that the system will satisfy its needs and that the delivered version is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Group, which uses it to perform th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Control Group, which uses it to design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enance Group, which will use it, at a later time, to implement system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F13-83BE-4377-9281-DDE1F38190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Document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sign document inclu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(compilable) declaration of every global data structure used in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lete database schema (possible with an E-R diag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objects used in the application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omposition of each database interaction into transactions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description of the behavior of every module, object, procedure, and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CC4-EEAB-41C6-844E-005343E95E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sign Document must contain a complete design of the database including executable statements that declare the databas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R or UML diagrams are used to model the business objects in the 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diagrams are converted into relation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mas are normalized and tu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opics were discussed in Chapters 4, 6, 9, and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9412-E9B4-4994-BD7B-B2090B65C2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main concern in this chapter is with transaction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important part of transaction design is specifying how the execution of a transaction changes the internal state of the objects in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75D-3114-4FCD-9336-D005760571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 Stat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L class diagrams and E-R diagrams provi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els of the business objects in an 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L state diagrams can be used to model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havior of thos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heir internal state changes when their methods are invo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7B2-808E-4403-A56E-6C599511C8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2743200"/>
            <a:ext cx="1066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2666880"/>
            <a:ext cx="10670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124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6576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06840" y="1828800"/>
            <a:ext cx="995040" cy="928800"/>
          </a:xfrm>
          <a:custGeom>
            <a:avLst/>
            <a:gdLst/>
            <a:ahLst/>
            <a:rect l="l" t="t" r="r" b="b"/>
            <a:pathLst>
              <a:path w="627" h="585">
                <a:moveTo>
                  <a:pt x="107" y="585"/>
                </a:moveTo>
                <a:cubicBezTo>
                  <a:pt x="94" y="567"/>
                  <a:pt x="84" y="546"/>
                  <a:pt x="69" y="530"/>
                </a:cubicBezTo>
                <a:cubicBezTo>
                  <a:pt x="60" y="521"/>
                  <a:pt x="50" y="512"/>
                  <a:pt x="42" y="502"/>
                </a:cubicBezTo>
                <a:cubicBezTo>
                  <a:pt x="28" y="484"/>
                  <a:pt x="4" y="446"/>
                  <a:pt x="4" y="446"/>
                </a:cubicBezTo>
                <a:cubicBezTo>
                  <a:pt x="15" y="287"/>
                  <a:pt x="0" y="351"/>
                  <a:pt x="32" y="251"/>
                </a:cubicBezTo>
                <a:cubicBezTo>
                  <a:pt x="46" y="206"/>
                  <a:pt x="87" y="174"/>
                  <a:pt x="116" y="139"/>
                </a:cubicBezTo>
                <a:cubicBezTo>
                  <a:pt x="167" y="77"/>
                  <a:pt x="233" y="25"/>
                  <a:pt x="311" y="0"/>
                </a:cubicBezTo>
                <a:cubicBezTo>
                  <a:pt x="384" y="9"/>
                  <a:pt x="419" y="22"/>
                  <a:pt x="478" y="65"/>
                </a:cubicBezTo>
                <a:cubicBezTo>
                  <a:pt x="491" y="74"/>
                  <a:pt x="502" y="84"/>
                  <a:pt x="515" y="93"/>
                </a:cubicBezTo>
                <a:cubicBezTo>
                  <a:pt x="533" y="106"/>
                  <a:pt x="571" y="130"/>
                  <a:pt x="571" y="130"/>
                </a:cubicBezTo>
                <a:cubicBezTo>
                  <a:pt x="601" y="176"/>
                  <a:pt x="611" y="193"/>
                  <a:pt x="627" y="242"/>
                </a:cubicBezTo>
                <a:cubicBezTo>
                  <a:pt x="615" y="352"/>
                  <a:pt x="604" y="391"/>
                  <a:pt x="534" y="474"/>
                </a:cubicBezTo>
                <a:cubicBezTo>
                  <a:pt x="509" y="504"/>
                  <a:pt x="494" y="526"/>
                  <a:pt x="460" y="548"/>
                </a:cubicBezTo>
                <a:cubicBezTo>
                  <a:pt x="454" y="557"/>
                  <a:pt x="441" y="576"/>
                  <a:pt x="441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3500280"/>
            <a:ext cx="987480" cy="787680"/>
          </a:xfrm>
          <a:custGeom>
            <a:avLst/>
            <a:gdLst/>
            <a:ahLst/>
            <a:rect l="l" t="t" r="r" b="b"/>
            <a:pathLst>
              <a:path w="622" h="496">
                <a:moveTo>
                  <a:pt x="102" y="15"/>
                </a:moveTo>
                <a:cubicBezTo>
                  <a:pt x="85" y="32"/>
                  <a:pt x="61" y="43"/>
                  <a:pt x="46" y="62"/>
                </a:cubicBezTo>
                <a:cubicBezTo>
                  <a:pt x="33" y="78"/>
                  <a:pt x="30" y="101"/>
                  <a:pt x="19" y="118"/>
                </a:cubicBezTo>
                <a:cubicBezTo>
                  <a:pt x="12" y="145"/>
                  <a:pt x="0" y="183"/>
                  <a:pt x="0" y="210"/>
                </a:cubicBezTo>
                <a:cubicBezTo>
                  <a:pt x="0" y="266"/>
                  <a:pt x="1" y="322"/>
                  <a:pt x="9" y="378"/>
                </a:cubicBezTo>
                <a:cubicBezTo>
                  <a:pt x="17" y="431"/>
                  <a:pt x="159" y="454"/>
                  <a:pt x="204" y="461"/>
                </a:cubicBezTo>
                <a:cubicBezTo>
                  <a:pt x="223" y="467"/>
                  <a:pt x="241" y="474"/>
                  <a:pt x="260" y="480"/>
                </a:cubicBezTo>
                <a:cubicBezTo>
                  <a:pt x="307" y="496"/>
                  <a:pt x="409" y="461"/>
                  <a:pt x="409" y="461"/>
                </a:cubicBezTo>
                <a:cubicBezTo>
                  <a:pt x="450" y="448"/>
                  <a:pt x="479" y="419"/>
                  <a:pt x="520" y="406"/>
                </a:cubicBezTo>
                <a:cubicBezTo>
                  <a:pt x="552" y="359"/>
                  <a:pt x="575" y="314"/>
                  <a:pt x="604" y="266"/>
                </a:cubicBezTo>
                <a:cubicBezTo>
                  <a:pt x="609" y="241"/>
                  <a:pt x="622" y="217"/>
                  <a:pt x="622" y="192"/>
                </a:cubicBezTo>
                <a:cubicBezTo>
                  <a:pt x="622" y="146"/>
                  <a:pt x="594" y="103"/>
                  <a:pt x="567" y="71"/>
                </a:cubicBezTo>
                <a:cubicBezTo>
                  <a:pt x="548" y="49"/>
                  <a:pt x="551" y="34"/>
                  <a:pt x="520" y="25"/>
                </a:cubicBezTo>
                <a:cubicBezTo>
                  <a:pt x="436" y="0"/>
                  <a:pt x="473" y="33"/>
                  <a:pt x="446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429000" y="2590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819520" y="342864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28195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514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/Enrollmen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4343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register/Enrollment=Enrollment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12193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nrollment&lt;MaxEnrollment-1] Register/Enrollment=Enrollment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1981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nrollment=MaxEnrollment-1] Register/Enrollment=Enrollment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3657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register/Enrollment=Enrollment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3341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UML State Diagram for the Class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1F9-AFF9-4938-9964-496DBAC4BD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6:23:29Z</dcterms:created>
  <dc:creator>Computer Science Department</dc:creator>
  <dc:description/>
  <dc:language>en-US</dc:language>
  <cp:lastModifiedBy>Pearson Education</cp:lastModifiedBy>
  <dcterms:modified xsi:type="dcterms:W3CDTF">2005-04-06T15:53:10Z</dcterms:modified>
  <cp:revision>69</cp:revision>
  <dc:subject/>
  <dc:title>Case  Study: Completing the Student Registration System</dc:title>
</cp:coreProperties>
</file>