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5009-E1F1-4CAE-A1EA-7FA9823BC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197C-1F1B-445F-8D68-C0B56DF21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C8D0-CD99-435F-8A2B-2A4354336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C4AC-2135-4791-96BB-421DDF022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9843-E79E-4BD5-90D7-2EC379D6F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2E8B-982F-4845-BD2C-BA62E9984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3F89-7462-4935-BB35-AD0356A8A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E51B-284C-462F-9F56-A2FF279E1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5332-92AF-4793-8103-C10A13AA3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3863-F0FB-4247-A825-8A0DBC844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7879-6C2C-43B7-AF90-6E7A58FE3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43A0-2E58-4B65-8BBA-7C7DFE94D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45C95-FF58-4AFF-B490-96FA32FE50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952880" y="914040"/>
            <a:ext cx="373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952880" y="914040"/>
            <a:ext cx="373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hapter 2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952880" y="2209320"/>
            <a:ext cx="3733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irements and Specif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st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urpos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gister a student for a cour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ctor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A stud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nput: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urse nu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esul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 The student is registered for the course and an appropriate message is display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xception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The student shall not be registered for the course for any of the following reasons, which shall be contained in the outp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exists a prerequisite course that the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tc. etc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4C58-D7BE-43DC-B97F-59A6496EA66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versal Modeling Language UM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cases are part of the U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ML is a graphic language for modeling various static and dynamic aspects of a systems 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a set of diagrams, each of which models a different aspect of the system behavi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UML is graphic it is particularly appropriate for communicating between the analyst and the customer and between various members of the implementation te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0D2C-78D8-4BF3-8116-55A5324B479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e Case Dia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ML provides a graphic way to display all the use cases in an appl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se diagrams can be used to communicate with t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stomer to determine if the current set of use cases is adequ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ors to determine what the system is supposed to do from the customer’s viewpo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D5F9-6B09-4488-A545-018EDAA90FE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7086600" y="2971800"/>
            <a:ext cx="152388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162920" y="1295280"/>
            <a:ext cx="1523880" cy="609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162920" y="304920"/>
            <a:ext cx="144756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udentG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086600" y="2209680"/>
            <a:ext cx="152388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934320" y="4876920"/>
            <a:ext cx="160020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10280" y="3962520"/>
            <a:ext cx="160020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10280" y="5867280"/>
            <a:ext cx="1524240" cy="609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733920" y="3124080"/>
            <a:ext cx="144756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581280" y="1905120"/>
            <a:ext cx="152424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581280" y="914400"/>
            <a:ext cx="144792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657600" y="4267080"/>
            <a:ext cx="152388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581280" y="5410080"/>
            <a:ext cx="167652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" y="2514600"/>
            <a:ext cx="129528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gi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" y="3809880"/>
            <a:ext cx="137160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regi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362320" y="2743200"/>
            <a:ext cx="45720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867280" y="2743200"/>
            <a:ext cx="45720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590920" y="31240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95880" y="31240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86000" y="3276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15000" y="3276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2209320" y="3809880"/>
            <a:ext cx="3812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5715000" y="388620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590920" y="388620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172200" y="388620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 flipV="1">
            <a:off x="1600200" y="304812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1523880" y="34290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3200400" y="1371240"/>
            <a:ext cx="457200" cy="19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3200400" y="2514600"/>
            <a:ext cx="6094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00400" y="3352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200400" y="3352680"/>
            <a:ext cx="4572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200400" y="3352680"/>
            <a:ext cx="457200" cy="2210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4952880" y="1371600"/>
            <a:ext cx="533520" cy="190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4800240" y="2514240"/>
            <a:ext cx="685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5105520" y="327672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4952880" y="3276720"/>
            <a:ext cx="53352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5105520" y="3352680"/>
            <a:ext cx="380880" cy="213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6705720" y="685440"/>
            <a:ext cx="53316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6705720" y="1828440"/>
            <a:ext cx="45720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6705720" y="2590920"/>
            <a:ext cx="4572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705720" y="3276720"/>
            <a:ext cx="38088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3276720"/>
            <a:ext cx="53316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3276720"/>
            <a:ext cx="45720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705720" y="3276720"/>
            <a:ext cx="304560" cy="2819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05120" y="4572000"/>
            <a:ext cx="112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ud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562720" y="4419720"/>
            <a:ext cx="129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culty 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679920" y="1058760"/>
            <a:ext cx="1272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603600" y="2049480"/>
            <a:ext cx="142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tGradeHist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886200" y="3048120"/>
            <a:ext cx="12952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tRegister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ur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9880" y="4343400"/>
            <a:ext cx="129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Enrolled Cour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809880" y="556272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dOfSe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162920" y="601992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LAP Que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238880" y="495288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o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086600" y="403848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ClassRo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162920" y="3124080"/>
            <a:ext cx="17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dOfSeme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391520" y="213372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urse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391520" y="137160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tudent/Faculty 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315200" y="304920"/>
            <a:ext cx="121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280" y="228600"/>
            <a:ext cx="281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ase Diagram for the Student Registration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B98E-530A-4ADF-BF45-A8CEF34312E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ss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equently while analyzing the Requirements Document to produce the Specification Document, issues arise that must be brought to the attention of the customer and resolv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equirements Document might be inconsistent or incomplete in certain ar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s important to get such issues resolved early in the project, since it becomes increasingly expensive to made changes as the project procee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F6D0-9B0E-4D3A-A090-53E3798303B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tial Contents of a Specification Docu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icture of every form on the GUI with every control specifi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description of what happens when each control is u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application procedure is execu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changes in the form occ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error situations can occur and what happ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description of each interaction with th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ation input by u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xtual description of what happ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 of conditions under which it succeeds or fails and what happens in each 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45F7-508E-4468-9CB6-905945A8634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artial Contents of a Specification Document (cont’d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grity constraints of the enterpr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stem iss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rdware and software used by the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roughput and response time constrai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ject planning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lest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liver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D7B9-161E-4C80-BEE8-6FAD36FC5E0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ML Sequence Dia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 of the plan for preparing the Specification Document might be to expand each use case into a UML Sequence Dia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graphic display of the temporal ordering of the interactions between the actors in a use case and the other modules in the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1A5C-6451-473D-9BD3-1582F78D583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600200" y="9144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371600" y="152388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495680" y="9144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600200" y="1981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295280" y="2514600"/>
            <a:ext cx="60984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0200" y="3886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295280" y="4419720"/>
            <a:ext cx="685800" cy="205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267080" y="1447920"/>
            <a:ext cx="5335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495680" y="2743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267080" y="3276720"/>
            <a:ext cx="533520" cy="3124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0" y="838080"/>
            <a:ext cx="0" cy="2667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629400" y="3505320"/>
            <a:ext cx="4572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752480" y="175248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1904760" y="259092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905120" y="3048120"/>
            <a:ext cx="2590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905120" y="365760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1981080" y="457200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1981080" y="487692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1981080" y="548640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981080" y="586728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981080" y="617220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800600" y="38098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800600" y="41148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400800" y="45720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86200" y="45720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80880" y="457200"/>
            <a:ext cx="335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udent or Faculty Me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876920" y="3429000"/>
            <a:ext cx="190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idate Log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876920" y="419112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turn  Stat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133720" y="1371600"/>
            <a:ext cx="190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ter UR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33720" y="2057400"/>
            <a:ext cx="1981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splay Welcome P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133720" y="274320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ter ID &amp; Passw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133720" y="335268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O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981080" y="4038480"/>
            <a:ext cx="236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[Status=Student] Display Student Options P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4648320"/>
            <a:ext cx="2514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[Status=Faculty] Display Faculty Options [ P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057400" y="5181480"/>
            <a:ext cx="236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[Status=Error] Display Authentication Error P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981080" y="5791320"/>
            <a:ext cx="21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[Status=Fail] Click O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057400" y="6095880"/>
            <a:ext cx="2133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[Status=Fail] Display Welcome P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105520" y="5181480"/>
            <a:ext cx="373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equence Diagram for the Authentication Use 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0CB2-571C-4CB0-9B85-F886EF4C4FB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quence Dia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ctors and pertinent modules are labelled at the top of the dia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 moves down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boxes show when a module or actor is ac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horizontal lines show the actions taken by the modules or ac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 the notation for conditional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status=student] Display Student Options P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2A3D-693E-49E5-A028-3AD46C8C945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ftware Enginee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implementation of a transaction processing application is a significant engineering endeav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oject must comple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 budg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mpleted system mu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tisfy the customer’s nee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et every one of its requir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e efficiently and relia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CBA9-09CD-4AD6-A154-F283CF40E07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ecification Document for the Student Registration Syst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ing the Specification Document for the Student Registration System is an exercise for the stud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tial portions of some sections are given in the tex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6BF6-E06B-4526-A9E0-99E72599878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ftware Enginee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ose goals are surprisingly difficult to achie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ording to a published study of 16,000 IT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16% completed successfully – on time and on bud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those that did not complete successfu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erage completion time was 222% over schedu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erage cost was 189% over budg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1% were cancelled before they were comple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5726-A9CE-4ADA-940F-4C8125CD9CE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od Software Engineering Pract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es on many years of experience, the recommended steps in carrying out a Software Engineering project a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ement of Object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ief statement made by the customer of what the objectives of  the system 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7CD6-20F4-4162-8465-3AE83439D0B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s in a Software Engineering Project (cont’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irements Docu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ansion of Statement of Object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cribes what the system is supposed to 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how it does it (that is in the Design Docu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pared by custom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some contexts, the Requirements Document is a request for proposal from the customer to various implementation groups that might want to build the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AA6C-A27E-4723-9E83-D92470B4851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s in a Software Engineering Project (cont’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cation Docu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expanded version of the Requirements Docu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cribes in great detail exactly what the system is supposed to 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particular the entire user interface must be specified, including all screens, all controls, et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pared by implementation group in collaboration with custo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ome contexts, the Specification Document is a contract between the implementation group and the customer as to what will be deliv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67C4-F3DB-4AEE-A8FD-E52969781A1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s in a Software Engineering Project (cont’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remaining steps are described in Chapter 1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ign Docu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1D1C-D20B-4600-A80D-85D2B0CD8C7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quirements Document for the Student Registration Syst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mplete Requirements Document for the Student Registration System is given in the t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ments are numbered so they can be referred to in other documents, such as the Test Plan, which must ensure that a test exists for each requi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ments are stated with words such as “must” and “shall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ords such as “should” and “can” do not connote a mandatory requirement and should be avoid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081B-B225-46B0-AD2B-3EF7A06AD98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e Ca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mmon way to describe requirements is with Use C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use case is a set of actions that produce benefits to one or more users called ac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ents register for a cou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alysts develop the requirements as a set of use c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ysts work with the users to develop the use cases by asking them “how do you want to do such and such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EA7D-0CBB-4D12-B6B3-2E3119D94DD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0T13:49:49Z</dcterms:created>
  <dc:creator>Computer Science Department</dc:creator>
  <dc:description/>
  <dc:language>en-US</dc:language>
  <cp:lastModifiedBy>Pearson Education</cp:lastModifiedBy>
  <dcterms:modified xsi:type="dcterms:W3CDTF">2005-04-06T15:52:13Z</dcterms:modified>
  <cp:revision>88</cp:revision>
  <dc:subject/>
  <dc:title>Case Study:  Starting the Student Registration System</dc:title>
</cp:coreProperties>
</file>