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CAAAE-FCC1-461F-AECF-731077314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79F21-2422-469E-8AB2-2F267135CD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F5E28-9170-4AC9-829D-3EF53531D1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DD852-5D5B-4812-B4A5-B7631B36B7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9F2CB-611D-4247-B7B9-CDD29FD4C2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AD0FD-FFC4-471F-97D0-AFD08A83AC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C497C-2EE5-4DB2-B024-4316DFE810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97396-7A8B-43CF-AD22-6B0A0DB0F1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31FB7-7196-4471-BCE3-C8BE2CAC3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A581B-EB6F-43EE-966F-C7C2A5BF83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A7A19-8C89-4CC1-9BD8-2A4EC21B85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25744-D769-4EC7-90FC-0FB9D74C76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2006 Pearson Addison-Wesle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8AA7-6003-456F-8FCD-2C1B4EEA8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800240" y="990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00240" y="990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ppendix 1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800240" y="2362320"/>
            <a:ext cx="3809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Transaction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Serializable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 course registration;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ur_re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number of current registr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0880" y="3343320"/>
            <a:ext cx="817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1: r(cur_reg : 29)                                  w(cur_reg : 3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2:                 r(cur_reg : 29) w(cur_reg : 3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2040" y="4572000"/>
            <a:ext cx="7846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e not equivalent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1, T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2, T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state no longer corresponds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-world state, integrity constraint vio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7B8A7-2569-4800-BDD1-35455E456E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ta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commute if, when executed in either or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lues returned by both are the same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tabase is left in the same final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schedules are equivalent if one can be derived from the other by a series of simple interchanges of commutative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hedule is serializable if it is equivalent to a serial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18B82-637C-4B25-8165-1D35B4140A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requirements might not be achievable if schedules are serializ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ddition to serializable, DBMSs implement less stringent isolation leve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ializable schedules correct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pplic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stringent leve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 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uarantee correctness for all applications, but are correct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currency control of a DBMS is responsible for implementing isolation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programmer is responsible for choosing appropriat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EAFBD-A9A3-4EC5-B1F9-43881EFD58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Serializability: Two-Phase Lo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ks are associated with each data i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ansaction must acquire a read (shared) or write (exclusive) lock on an item in order to read or writ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rite lock on an ite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flic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all other locks on the item; a read lock conflicts with a write 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quests a lock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lds a conflicting lock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, T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ust w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1E689-200E-40EE-AF29-AF2E060A0C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 Rel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880" y="1219320"/>
            <a:ext cx="793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-Phase locking: All locks are acquired before an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 is rele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447920" y="22093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342900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447920" y="2590920"/>
            <a:ext cx="167616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2590920"/>
            <a:ext cx="1371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2019240" y="285732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12"/>
                </a:lnTo>
                <a:cubicBezTo>
                  <a:pt x="10800" y="10012"/>
                  <a:pt x="5400" y="10912"/>
                  <a:pt x="0" y="10912"/>
                </a:cubicBezTo>
                <a:cubicBezTo>
                  <a:pt x="5400" y="10912"/>
                  <a:pt x="10800" y="11812"/>
                  <a:pt x="10800" y="1271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3619440" y="285732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12"/>
                </a:lnTo>
                <a:cubicBezTo>
                  <a:pt x="10800" y="10012"/>
                  <a:pt x="5400" y="10912"/>
                  <a:pt x="0" y="10912"/>
                </a:cubicBezTo>
                <a:cubicBezTo>
                  <a:pt x="5400" y="10912"/>
                  <a:pt x="10800" y="11812"/>
                  <a:pt x="10800" y="1271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09120" y="3699000"/>
            <a:ext cx="28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1           Ph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9320" y="4257720"/>
            <a:ext cx="73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ct: Transaction holds all locks until compl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447920" y="5105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63244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447920" y="5486400"/>
            <a:ext cx="167616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54864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5486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14440" y="3241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8400" y="217476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90760" y="61372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8400" y="49942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CA417-F4DB-4C31-8451-8401CD3F23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ctness of Strict Two-Phase Lo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uition: Active transactions cannot have executed operations that do not commute (since locks required for non-commutative operations confli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, a schedule produced by a two-phase locking concurrency control is serializable since operations of concurrent transactions can always be reordered to produce a serial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EA8D4-931F-4C54-B099-C5C05EB7CB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Strict Concurrency Contr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strict controls: locks can be released before compl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  (Bank account examp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Bal) 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Bal) 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Bal) 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Cred-Lim) commi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abor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or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oll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ack, the new valu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ed-Li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have been aff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credit limit might have been based on a deposit that never hap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an effect even though it is ab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atomicity is vio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1FF96-60A9-4033-B192-078E738AA0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malies in Non-Serializable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ty read  (previous example – write lock given up earl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) 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) abor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Repeatable Read (read lock given up earl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) 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) commi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t Update (result of non-repeatable read – read lock given up ear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transactions trying to deposit in the same bank account – the deposit of transaction 2 is 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Bal) 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Bal) 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Bal) commi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Bal) commi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803B6-8A94-4D4D-B831-CC1292E279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dlo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transaction can hold locks and request another lock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, in two-phase locking), a cycle of waiting transactions can resul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two transactions are both trying to update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example to deposit in the same bank accou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) 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)  request_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)  request_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ransaction in the cycle must be aborted by DBMS (since transactions will wait forev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MS uses deadlock detection algorithms or timeout to deal with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AE0F2-8C13-4BE6-B7D9-A64FA47279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ing in Relational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2437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king entire table restricts concur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king only rows returned yields new anoma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9920" y="1138320"/>
            <a:ext cx="747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nscript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CrsCode = ‘CS305’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Semester = ‘F2000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36640" y="3733920"/>
            <a:ext cx="60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:  execut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SEL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:  insert a new row satisfying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:  execute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1320" y="4952880"/>
            <a:ext cx="814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ed row is called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antom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ct two-phase row locking do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ev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n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28409-4F77-487B-A351-7147C13D36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enterprises use databases to store information about their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, balances of all depos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n event occurs in the real world that changes the state of the enterprise, a program is executed to change the database state in a corresponding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, balance must be updated when you depos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a program is called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5E1DC-D340-4239-9549-45A2A1CB03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I Standard Isolation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d in terms of anoma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maly prohibited at one level is also prohibited at all higher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AD UNCOMMIT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all anomalie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AD COMMIT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dirty read prohib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PEATABLE R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reads of individual tuples are repeatable (but phantoms are possi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RIALIZ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phantoms prohibited; transaction execution is serializ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A006D-152A-4A85-BB5E-3D103579CB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s in Relational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 guarantees that each SQL statement is iso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(non-strict) lock release used to implement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-term locks - held for duration of single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-term locks - held until transaction completes (stri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all levels, transactions obtain long-term write 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D020B-A639-40FB-AA3D-C5135D7753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ing Implementation of Isolation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EAD UNCOMMIT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no read locks (dirty reads possible since transaction can read a write-locked ite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EAD COMMITT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short-term read locks on rows (non-repeatable reads possible since transaction releases read lock after read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EPEATABLE REA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long-term read locks on rows (phantoms possib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RIALIZ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combination of table, row, and index 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AA22E-B348-4309-AF89-A79272FD23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Is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n ANSI standard isolation level, but used in a major DBMS (Orac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ultiversion data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old value of an item is not overwritten when it is updated.  Instead, a new version is c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MS can construct, for an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state of an item as a result of the execution of the first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ansactions to com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apshot:  The database state produced by the execution of the fir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ansactions to commit (snapshots never chan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6D18E-4340-4D4B-A159-FE9C845B40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 of Snapshot Is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ead locks necessary: a transaction reads all values from latest snapshot at time it started. Thus, read/only transactions do not wa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(read/write) transac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has updat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ommit if no other transaction that updat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s executing has commit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-committer-w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6E4D3-5DE8-485B-902E-F4C5C762A7F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Isolation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izability not guarante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40320" y="3733920"/>
            <a:ext cx="5286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x) 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y) 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x) 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y) 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x) 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4640" y="4495680"/>
            <a:ext cx="775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 complicated by need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 multiversion database.  Eventu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versions must be discarded (cre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s for long-running transac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6ED40-E84E-41CB-BEF4-8CBF4105256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 Granula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of implementing lock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data structure in DBMS for each 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: handling of lock request and rel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ks can be associated with different size items:  row (fine granularity), page, table (coarse granular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eoff: Coarse granularity locks have lower cost than fine granularity locks, but they reduce concur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1E6F0-B541-4C85-9A06-52C24BB7EB4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Granularity Lo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DBMSs implement a lock granularity hierarchy based on contai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.g.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ad lock on a table implies read locks on all the table’s pages (or row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 A read lock on a table should conflict with a write lock on a page (or row) in the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es DBMS detect this since different items are involv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: Intentions 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F2ED8-14E4-49CE-A83E-A8C2FEAC5A1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ntions 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being granted a read (S) or write (X) lock on an item, a transaction must acquire an intention read (IS) or intention write (IX) lock on the containing i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nd IX locks do not conflict with each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licts between locks at different levels in hierarchy detected at the intentions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update a row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ets an IX lock on the table (and an X lock on the page containing the row). To read all rows in the tabl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ets an S lock on the table. R and IX locks confli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4D884-68E6-4040-B7A2-592581265B9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ntom: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ads tabl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sing predic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.  T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s row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satisfi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s IX lock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X lock on page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 index availabl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ds S lock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rder to scan entire table.  Thus no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 index is availabl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s IS lock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, using the index, gets S locks only on pages containing rows satisfy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Thus locking does not prevent phantoms since IS and IX do not conflict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be inserted in a different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6938D-210B-4E2D-9E55-23A2C71CEBC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 Properties  of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execution must maintain the correctness of the databas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 additional requirements are placed on the execution of transactions beyond those placed on ordinary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m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sis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7556C-C6CB-4203-9C1F-6F29D978BA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: Lock the index.  In add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s IS lock on index, and S locks on index pages it scan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tisf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index entry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st be inserted in one of those pages.  T2 gets IX lock on index (this is a slight simplification) and X lock on that page.  Hence, conflict is det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29999-F9BF-4989-BE11-F03245E0162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omicity and Dur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omicity deals with fail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aborts transaction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cel butt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aborts transaction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dlo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 aborts itself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xpec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 st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cras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ability deals with fail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sm for dealing with failures is the 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7F249-BD83-40D7-9A94-ECB2793425D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nd-only sequence of records used to restore database to a consistent state after a fail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d on non-volatile device distinct from mass storage device that contains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ives processor crash and media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pdate reco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nded to log when a transaction updates an i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fore im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lue of item prior to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store item when transaction is abor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D89B8-6E72-4447-B3A9-5E7DA8867DC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orting a Trans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abo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n log backward; apply before image in each of the transaction’s update records to database items to restore them to their original state.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gin Rec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erminates s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3A0D9-8911-4D09-B41D-AE7281EE569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2209680"/>
            <a:ext cx="5331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2209680"/>
            <a:ext cx="5335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2209680"/>
            <a:ext cx="5335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2209680"/>
            <a:ext cx="5331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95480" y="2209680"/>
            <a:ext cx="5335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2209680"/>
            <a:ext cx="5335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2209680"/>
            <a:ext cx="5331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6360" y="3505320"/>
            <a:ext cx="243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scan 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b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7000" y="4537080"/>
            <a:ext cx="14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-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 -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057400" y="2971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68160" y="3429000"/>
            <a:ext cx="220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log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b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267080" y="2971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3E81F-F895-4A19-A5EE-C69FBCD0EFD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From Cra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as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 transactions must be identified and aborted when system reco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ort Recor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dentify completed transactions.  If, during a backward log scan, the first record encountered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update record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 active at time of crash and must be rolled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85F0F-6D2B-49D6-A9C9-B4ECD622360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2209680"/>
            <a:ext cx="5331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2209680"/>
            <a:ext cx="5335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28800" y="2209680"/>
            <a:ext cx="5335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2209680"/>
            <a:ext cx="5331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95480" y="2209680"/>
            <a:ext cx="5335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2209680"/>
            <a:ext cx="5335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2209680"/>
            <a:ext cx="5331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95680" y="2209680"/>
            <a:ext cx="5335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29200" y="2209680"/>
            <a:ext cx="5335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62720" y="2209680"/>
            <a:ext cx="5331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5880" y="2209680"/>
            <a:ext cx="5335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14760" y="3505320"/>
            <a:ext cx="21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scan 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29400" y="2209680"/>
            <a:ext cx="5335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9240" y="3581280"/>
            <a:ext cx="220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log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 occu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l ba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46640" y="4537080"/>
            <a:ext cx="157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-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 -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- 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- ab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990720" y="2971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162920" y="2971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CD793-B5FB-4862-B6EF-6071BD908F7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is not committed until its commit record is in the 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rash at any time before that causes transaction to be rolled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951C9-404E-4011-A4DA-DE2E1D79B7B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e-Ahead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the log and database must be updated when a transaction modifies an item.  If a crash occurs between updates, abort the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updated first -  On recovery, item is in the new state but there is no before image to roll it back.  Transaction cannot be abor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 updated first -   On recovery, item in old state and before image in log.  Use of before image has no effect, but transaction can be ab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record in log must b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ritten-ahe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 update to item in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EC104-A64F-4589-B56F-4DFF9BA1C54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ctical Database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writes to mass store for each database update implies intolerable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 wor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MS maintains cache of recently accessed pages in memory.  Most accesses are to cache.  Pages which have been updated eventually written to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MS maintains log buffer in memory.  Records appended to buffer until it fills; then buffer written to lo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ing write-ahead feature more complex when buffers taken into ac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28E47-99E6-4B73-B8D9-F25EE3A065F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ic - Transaction should either complete or have no effect at a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ibility of transaction process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sistent - Transaction should correctly transform the database state to reflect the effect of a real world ev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ibility of transaction desig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8E04E-A3C6-4D4F-8CB3-228CD26A0F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BMS 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066680" y="876240"/>
            <a:ext cx="7315200" cy="552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2E5BC-650B-4B05-83A3-524E55D1BE4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a Fail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ability requires that database be stored redunda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 can be used as second copy if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records conta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fter im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s well as before image): new value of i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napshot,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ump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database is periodically stored in non-volatile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y: Starting with most recent dump, play the log forward, update database using after images appended subsequent to du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13F10-1DC5-4E72-BFC6-A0AF3784A26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supporting a large enterprise is generally stored on multiple computer systems scattered through the enterp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k has a database at each branch recording local branch data and a database at the main office recording aggregat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BMS is independent, supporting local transactions at a 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increased enterprise integration and automation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lob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stributed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ansactions, involving multiple sites must also be suppo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C2C74-7BEC-45AC-BBE3-B0382EF3C45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Trans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ansaction that invokes local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.g.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ank transfer: invoke withdraw at one site and deposit at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ystem that supports distributed transactions is often referred to a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ultidatabas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ddition to the local integrity constraints that apply at each site, global integrity constraints might also 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.g.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ggregate bank assets at central site = sum of assets at each bran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20960-59EC-4D8D-8D22-110813CCD93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ity of Distributed Trans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hough a distributed transaction is consistent, maintaining isolation in a multi-database is an important 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if local sites are serializable, subtransactions of two distributed transactions might be serialized in different orders at different 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site A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erialized before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site B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s serialized before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2DE78-32E2-4D83-900D-97640A5D75F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ity of Distributed Trans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hough a distributed transaction is consistent, maintaining atomicity in a multidatabase is an important 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aranteeing that subtransactions of a distributed transaction either all commit or all abort in spite of failure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.g.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ssage loss, site crash) requires the use of a two-phase commit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A584B-3AEA-462E-8CB2-B95B52C3D18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hase Commit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ed as an exchange of messages between the coordinator and the coh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horts are the individual subtransactions that participated in the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ordinator polls the cohorts to see if they want to com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31B21-CCFD-4AEF-91E6-E2CB7B0951D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hase Commit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pare mess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oordinator to cohort)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cohort wants to abort, it ab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cohort wants to commit, it moves all update log records to non-volatile store and force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epa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record to its 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hort sends a (ready or aborting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ote mess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ord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87FEF-5D97-455D-A387-7ACF15251BF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hase Commit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ote mess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ohort to coordinator): Cohort indicates ready to commit or abor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y are aborting, coordinator decides ab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are ready, coordinator decides commit and forc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mit rec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its 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inator sends commit/abort message to all cohorts that voted rea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33A5D-396D-4FEF-BC36-A7523284EE7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hase Commit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mit/abort mess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oordinator to cohort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hort commits locally by forcing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mit rec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its log.  Or,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ssage, it ab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hort send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ne mess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ord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e mess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ohort to coordinator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coordinator receives done message from all cohorts, it write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lete rec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its 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FFD91-C80D-43E5-A368-619278DE02E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 Properties (con’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ation - The effect of concurrently executing a set of transactions is the same as if they had executed serially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rializ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ibility of transaction process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able - The effect of a transaction on the database state should not be lost once the transaction has commit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ibility of transaction process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73C75-3191-40EB-B115-F3CBE47A8D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If all sites use a two-phase locking protocol and a two-phase commit protocol is used, transactions are globally serializ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s are serialized in the same order at every site – the order in which the transactions commi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2CB40-5E3A-455B-B91B-CE52C1AE830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ity of Distributed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deadlock can be another result of implementing two-phase locking and two-phase commit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site A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waiting for a lock held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site B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waiting for a lock held by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uses deadlock detection algorithms or timeout to deal with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68B98-FC66-46B3-AFD9-5ABE14302CD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is often replicated in a distribute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ance enhancement possible: access to a local replica replaces network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ility improved: if a site containing a data item is unavailable, access a replica at a different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implementation problem: how do you keep the replicas synchronized when a replicated data item is upda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3BC71-1761-4E87-8B38-A6538E29A5D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 of Re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MSs provi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plica control mod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make replication invisible to the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 implementation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ad one/write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pplication requests to read an item, replica control fetches the nearest c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pplication requests to write an item, replica control updates all cop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compared with non-replicated systems, performance of read better, of write wo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15A01-5F06-41E3-9312-1857CD71ED6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 of Re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nchronous update syste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ll replicas updated as part of transaction. Supports serializability, but performance bad, deadlocks frequent, and cannot handle disconnected 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synchronous update syste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one replica updated as part of transaction.  Others updated after transaction commits.  Performance better, deadlocks less frequent, and disconnected sites can be supported, but serializability sacrifi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al systems are generally asynchron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1BCD6-B98C-4881-8FA6-6728DADAE25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signers must be aware of the fact that real-world systems do not always support ACID executions even if all transactions are consis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ion levels lower than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RIALIZ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ht b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-phase commit protocol might not b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ication might use asynchronous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0094D-1C68-4901-8C46-5B9B72BA175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2209680"/>
            <a:ext cx="8153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 execution of a set of (consistent) transactions is correct, but performance might be inadequ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t (interleaved) execution of a set of transactions offers performance benefits, but might not be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40384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52578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0AF85-B604-4B72-AA8D-8B278625F8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leaved Exec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90720" y="2225520"/>
            <a:ext cx="6854760" cy="463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2FBC4-9B01-4149-B15D-37B530026F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izable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current schedul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: 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x) 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z) 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y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equivalent to the serial schedule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either or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1, T2:    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) 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y) 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z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2, T1:   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z) 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) 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y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81360" y="4724280"/>
            <a:ext cx="738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operations of distinct transactions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data items commute.  Henc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izable schedu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35043-8E3C-4BAF-8412-043AC5066E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izable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9360" y="1143000"/>
            <a:ext cx="8384400" cy="60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current schedu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:  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z) 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q) 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z) 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q) 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equivalent to the serial schedul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1, T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z) 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q) 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y) 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q) 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z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read operations of distinct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he same data item commute.  Henc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izable schedu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ivalent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2, T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read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operations (or two write operations)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inct transactions on the same data ite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56CF6-84CA-485C-990D-692F5909B3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1-05T01:48:02Z</dcterms:created>
  <dc:creator>ARTHUR  BERNSTEIN</dc:creator>
  <dc:description/>
  <dc:language>en-US</dc:language>
  <cp:lastModifiedBy>Pearson Education</cp:lastModifiedBy>
  <cp:lastPrinted>1999-05-02T09:24:52Z</cp:lastPrinted>
  <dcterms:modified xsi:type="dcterms:W3CDTF">2005-04-06T16:01:09Z</dcterms:modified>
  <cp:revision>109</cp:revision>
  <dc:subject/>
  <dc:title>Overview of Transaction Implementation</dc:title>
</cp:coreProperties>
</file>