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2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10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242.xml.rels" ContentType="application/vnd.openxmlformats-package.relationships+xml"/>
  <Override PartName="/ppt/slides/_rels/slide62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46.xml.rels" ContentType="application/vnd.openxmlformats-package.relationships+xml"/>
  <Override PartName="/ppt/slides/_rels/slide190.xml.rels" ContentType="application/vnd.openxmlformats-package.relationships+xml"/>
  <Override PartName="/ppt/slides/_rels/slide56.xml.rels" ContentType="application/vnd.openxmlformats-package.relationships+xml"/>
  <Override PartName="/ppt/slides/_rels/slide236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222.xml.rels" ContentType="application/vnd.openxmlformats-package.relationships+xml"/>
  <Override PartName="/ppt/slides/_rels/slide42.xml.rels" ContentType="application/vnd.openxmlformats-package.relationships+xml"/>
  <Override PartName="/ppt/slides/_rels/slide169.xml.rels" ContentType="application/vnd.openxmlformats-package.relationships+xml"/>
  <Override PartName="/ppt/slides/_rels/slide221.xml.rels" ContentType="application/vnd.openxmlformats-package.relationships+xml"/>
  <Override PartName="/ppt/slides/_rels/slide41.xml.rels" ContentType="application/vnd.openxmlformats-package.relationships+xml"/>
  <Override PartName="/ppt/slides/_rels/slide206.xml.rels" ContentType="application/vnd.openxmlformats-package.relationships+xml"/>
  <Override PartName="/ppt/slides/_rels/slide150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99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223.xml.rels" ContentType="application/vnd.openxmlformats-package.relationships+xml"/>
  <Override PartName="/ppt/slides/_rels/slide43.xml.rels" ContentType="application/vnd.openxmlformats-package.relationships+xml"/>
  <Override PartName="/ppt/slides/_rels/slide55.xml.rels" ContentType="application/vnd.openxmlformats-package.relationships+xml"/>
  <Override PartName="/ppt/slides/_rels/slide235.xml.rels" ContentType="application/vnd.openxmlformats-package.relationships+xml"/>
  <Override PartName="/ppt/slides/_rels/slide201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30.xml.rels" ContentType="application/vnd.openxmlformats-package.relationships+xml"/>
  <Override PartName="/ppt/slides/_rels/slide210.xml.rels" ContentType="application/vnd.openxmlformats-package.relationships+xml"/>
  <Override PartName="/ppt/slides/_rels/slide158.xml.rels" ContentType="application/vnd.openxmlformats-package.relationships+xml"/>
  <Override PartName="/ppt/slides/_rels/slide232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36.xml.rels" ContentType="application/vnd.openxmlformats-package.relationships+xml"/>
  <Override PartName="/ppt/slides/_rels/slide239.xml.rels" ContentType="application/vnd.openxmlformats-package.relationships+xml"/>
  <Override PartName="/ppt/slides/_rels/slide59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238.xml.rels" ContentType="application/vnd.openxmlformats-package.relationships+xml"/>
  <Override PartName="/ppt/slides/_rels/slide58.xml.rels" ContentType="application/vnd.openxmlformats-package.relationships+xml"/>
  <Override PartName="/ppt/slides/_rels/slide243.xml.rels" ContentType="application/vnd.openxmlformats-package.relationships+xml"/>
  <Override PartName="/ppt/slides/_rels/slide19.xml.rels" ContentType="application/vnd.openxmlformats-package.relationships+xml"/>
  <Override PartName="/ppt/slides/_rels/slide2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88.xml.rels" ContentType="application/vnd.openxmlformats-package.relationships+xml"/>
  <Override PartName="/ppt/slides/_rels/slide16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167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63.xml.rels" ContentType="application/vnd.openxmlformats-package.relationships+xml"/>
  <Override PartName="/ppt/slides/_rels/slide172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155.xml.rels" ContentType="application/vnd.openxmlformats-package.relationships+xml"/>
  <Override PartName="/ppt/slides/_rels/slide171.xml.rels" ContentType="application/vnd.openxmlformats-package.relationships+xml"/>
  <Override PartName="/ppt/slides/_rels/slide15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21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8.xml.rels" ContentType="application/vnd.openxmlformats-package.relationships+xml"/>
  <Override PartName="/ppt/slides/_rels/slide79.xml.rels" ContentType="application/vnd.openxmlformats-package.relationships+xml"/>
  <Override PartName="/ppt/slides/_rels/slide85.xml.rels" ContentType="application/vnd.openxmlformats-package.relationships+xml"/>
  <Override PartName="/ppt/slides/_rels/slide162.xml.rels" ContentType="application/vnd.openxmlformats-package.relationships+xml"/>
  <Override PartName="/ppt/slides/_rels/slide118.xml.rels" ContentType="application/vnd.openxmlformats-package.relationships+xml"/>
  <Override PartName="/ppt/slides/_rels/slide14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24.xml.rels" ContentType="application/vnd.openxmlformats-package.relationships+xml"/>
  <Override PartName="/ppt/slides/_rels/slide44.xml.rels" ContentType="application/vnd.openxmlformats-package.relationships+xml"/>
  <Override PartName="/ppt/slides/_rels/slide120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16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22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03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29.xml.rels" ContentType="application/vnd.openxmlformats-package.relationships+xml"/>
  <Override PartName="/ppt/slides/_rels/slide209.xml.rels" ContentType="application/vnd.openxmlformats-package.relationships+xml"/>
  <Override PartName="/ppt/slides/_rels/slide70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98.xml.rels" ContentType="application/vnd.openxmlformats-package.relationships+xml"/>
  <Override PartName="/ppt/slides/_rels/slide179.xml.rels" ContentType="application/vnd.openxmlformats-package.relationships+xml"/>
  <Override PartName="/ppt/slides/_rels/slide231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51.xml.rels" ContentType="application/vnd.openxmlformats-package.relationships+xml"/>
  <Override PartName="/ppt/slides/_rels/slide67.xml.rels" ContentType="application/vnd.openxmlformats-package.relationships+xml"/>
  <Override PartName="/ppt/slides/_rels/slide247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7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54.xml.rels" ContentType="application/vnd.openxmlformats-package.relationships+xml"/>
  <Override PartName="/ppt/slides/_rels/slide234.xml.rels" ContentType="application/vnd.openxmlformats-package.relationships+xml"/>
  <Override PartName="/ppt/slides/_rels/slide102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137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196.xml.rels" ContentType="application/vnd.openxmlformats-package.relationships+xml"/>
  <Override PartName="/ppt/slides/_rels/slide204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57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42.xml" ContentType="application/vnd.openxmlformats-officedocument.presentationml.slide+xml"/>
  <Override PartName="/ppt/slides/slide156.xml" ContentType="application/vnd.openxmlformats-officedocument.presentationml.slide+xml"/>
  <Override PartName="/ppt/slides/slide250.xml" ContentType="application/vnd.openxmlformats-officedocument.presentationml.slide+xml"/>
  <Override PartName="/ppt/slides/slide157.xml" ContentType="application/vnd.openxmlformats-officedocument.presentationml.slide+xml"/>
  <Override PartName="/ppt/slides/slide251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228.xml" ContentType="application/vnd.openxmlformats-officedocument.presentationml.slide+xml"/>
  <Override PartName="/ppt/slides/slide20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206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213.xml" ContentType="application/vnd.openxmlformats-officedocument.presentationml.slide+xml"/>
  <Override PartName="/ppt/slides/slide214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48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233.xml" ContentType="application/vnd.openxmlformats-officedocument.presentationml.slide+xml"/>
  <Override PartName="/ppt/slides/slide139.xml" ContentType="application/vnd.openxmlformats-officedocument.presentationml.slide+xml"/>
  <Override PartName="/ppt/slides/slide199.xml" ContentType="application/vnd.openxmlformats-officedocument.presentationml.slide+xml"/>
  <Override PartName="/ppt/slides/slide201.xml" ContentType="application/vnd.openxmlformats-officedocument.presentationml.slide+xml"/>
  <Override PartName="/ppt/slides/slide23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234.xml" ContentType="application/vnd.openxmlformats-officedocument.presentationml.slide+xml"/>
  <Override PartName="/ppt/slides/slide246.xml" ContentType="application/vnd.openxmlformats-officedocument.presentationml.slide+xml"/>
  <Override PartName="/ppt/slides/slide53.xml" ContentType="application/vnd.openxmlformats-officedocument.presentationml.slide+xml"/>
  <Override PartName="/ppt/slides/slide235.xml" ContentType="application/vnd.openxmlformats-officedocument.presentationml.slide+xml"/>
  <Override PartName="/ppt/slides/slide210.xml" ContentType="application/vnd.openxmlformats-officedocument.presentationml.slide+xml"/>
  <Override PartName="/ppt/slides/slide247.xml" ContentType="application/vnd.openxmlformats-officedocument.presentationml.slide+xml"/>
  <Override PartName="/ppt/slides/slide236.xml" ContentType="application/vnd.openxmlformats-officedocument.presentationml.slide+xml"/>
  <Override PartName="/ppt/slides/slide43.xml" ContentType="application/vnd.openxmlformats-officedocument.presentationml.slide+xml"/>
  <Override PartName="/ppt/slides/slide211.xml" ContentType="application/vnd.openxmlformats-officedocument.presentationml.slide+xml"/>
  <Override PartName="/ppt/slides/slide248.xml" ContentType="application/vnd.openxmlformats-officedocument.presentationml.slide+xml"/>
  <Override PartName="/ppt/slides/slide198.xml" ContentType="application/vnd.openxmlformats-officedocument.presentationml.slide+xml"/>
  <Override PartName="/ppt/slides/slide200.xml" ContentType="application/vnd.openxmlformats-officedocument.presentationml.slide+xml"/>
  <Override PartName="/ppt/slides/slide237.xml" ContentType="application/vnd.openxmlformats-officedocument.presentationml.slide+xml"/>
  <Override PartName="/ppt/slides/slide212.xml" ContentType="application/vnd.openxmlformats-officedocument.presentationml.slide+xml"/>
  <Override PartName="/ppt/slides/slide249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202.xml" ContentType="application/vnd.openxmlformats-officedocument.presentationml.slide+xml"/>
  <Override PartName="/ppt/slides/slide239.xml" ContentType="application/vnd.openxmlformats-officedocument.presentationml.slide+xml"/>
  <Override PartName="/ppt/slides/slide232.xml" ContentType="application/vnd.openxmlformats-officedocument.presentationml.slide+xml"/>
  <Override PartName="/ppt/slides/slide138.xml" ContentType="application/vnd.openxmlformats-officedocument.presentationml.slide+xml"/>
  <Override PartName="/ppt/slides/slide231.xml" ContentType="application/vnd.openxmlformats-officedocument.presentationml.slide+xml"/>
  <Override PartName="/ppt/slides/slide137.xml" ContentType="application/vnd.openxmlformats-officedocument.presentationml.slide+xml"/>
  <Override PartName="/ppt/slides/slide22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220.xml" ContentType="application/vnd.openxmlformats-officedocument.presentationml.slide+xml"/>
  <Override PartName="/ppt/slides/slide147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146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1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  <p:sldId id="442" r:id="rId191"/>
    <p:sldId id="443" r:id="rId192"/>
    <p:sldId id="444" r:id="rId193"/>
    <p:sldId id="445" r:id="rId194"/>
    <p:sldId id="446" r:id="rId195"/>
    <p:sldId id="447" r:id="rId196"/>
    <p:sldId id="448" r:id="rId197"/>
    <p:sldId id="449" r:id="rId198"/>
    <p:sldId id="450" r:id="rId199"/>
    <p:sldId id="451" r:id="rId200"/>
    <p:sldId id="452" r:id="rId201"/>
    <p:sldId id="453" r:id="rId202"/>
    <p:sldId id="454" r:id="rId203"/>
    <p:sldId id="455" r:id="rId204"/>
    <p:sldId id="456" r:id="rId205"/>
    <p:sldId id="457" r:id="rId206"/>
    <p:sldId id="458" r:id="rId207"/>
    <p:sldId id="459" r:id="rId208"/>
    <p:sldId id="460" r:id="rId209"/>
    <p:sldId id="461" r:id="rId210"/>
    <p:sldId id="462" r:id="rId211"/>
    <p:sldId id="463" r:id="rId212"/>
    <p:sldId id="464" r:id="rId213"/>
    <p:sldId id="465" r:id="rId214"/>
    <p:sldId id="466" r:id="rId215"/>
    <p:sldId id="467" r:id="rId216"/>
    <p:sldId id="468" r:id="rId217"/>
    <p:sldId id="469" r:id="rId218"/>
    <p:sldId id="470" r:id="rId219"/>
    <p:sldId id="471" r:id="rId220"/>
    <p:sldId id="472" r:id="rId221"/>
    <p:sldId id="473" r:id="rId222"/>
    <p:sldId id="474" r:id="rId223"/>
    <p:sldId id="475" r:id="rId224"/>
    <p:sldId id="476" r:id="rId225"/>
    <p:sldId id="477" r:id="rId226"/>
    <p:sldId id="478" r:id="rId227"/>
    <p:sldId id="479" r:id="rId228"/>
    <p:sldId id="480" r:id="rId229"/>
    <p:sldId id="481" r:id="rId230"/>
    <p:sldId id="482" r:id="rId231"/>
    <p:sldId id="483" r:id="rId232"/>
    <p:sldId id="484" r:id="rId233"/>
    <p:sldId id="485" r:id="rId234"/>
    <p:sldId id="486" r:id="rId235"/>
    <p:sldId id="487" r:id="rId236"/>
    <p:sldId id="488" r:id="rId237"/>
    <p:sldId id="489" r:id="rId238"/>
    <p:sldId id="490" r:id="rId239"/>
    <p:sldId id="491" r:id="rId240"/>
    <p:sldId id="492" r:id="rId241"/>
    <p:sldId id="493" r:id="rId242"/>
    <p:sldId id="494" r:id="rId243"/>
    <p:sldId id="495" r:id="rId244"/>
    <p:sldId id="496" r:id="rId245"/>
    <p:sldId id="497" r:id="rId246"/>
    <p:sldId id="498" r:id="rId247"/>
    <p:sldId id="499" r:id="rId248"/>
    <p:sldId id="500" r:id="rId249"/>
    <p:sldId id="501" r:id="rId250"/>
    <p:sldId id="502" r:id="rId251"/>
    <p:sldId id="503" r:id="rId252"/>
    <p:sldId id="504" r:id="rId253"/>
    <p:sldId id="505" r:id="rId254"/>
    <p:sldId id="506" r:id="rId2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slide" Target="slides/slide187.xml"/><Relationship Id="rId192" Type="http://schemas.openxmlformats.org/officeDocument/2006/relationships/slide" Target="slides/slide188.xml"/><Relationship Id="rId193" Type="http://schemas.openxmlformats.org/officeDocument/2006/relationships/slide" Target="slides/slide189.xml"/><Relationship Id="rId194" Type="http://schemas.openxmlformats.org/officeDocument/2006/relationships/slide" Target="slides/slide190.xml"/><Relationship Id="rId195" Type="http://schemas.openxmlformats.org/officeDocument/2006/relationships/slide" Target="slides/slide191.xml"/><Relationship Id="rId196" Type="http://schemas.openxmlformats.org/officeDocument/2006/relationships/slide" Target="slides/slide192.xml"/><Relationship Id="rId197" Type="http://schemas.openxmlformats.org/officeDocument/2006/relationships/slide" Target="slides/slide193.xml"/><Relationship Id="rId198" Type="http://schemas.openxmlformats.org/officeDocument/2006/relationships/slide" Target="slides/slide194.xml"/><Relationship Id="rId199" Type="http://schemas.openxmlformats.org/officeDocument/2006/relationships/slide" Target="slides/slide195.xml"/><Relationship Id="rId200" Type="http://schemas.openxmlformats.org/officeDocument/2006/relationships/slide" Target="slides/slide196.xml"/><Relationship Id="rId201" Type="http://schemas.openxmlformats.org/officeDocument/2006/relationships/slide" Target="slides/slide197.xml"/><Relationship Id="rId202" Type="http://schemas.openxmlformats.org/officeDocument/2006/relationships/slide" Target="slides/slide198.xml"/><Relationship Id="rId203" Type="http://schemas.openxmlformats.org/officeDocument/2006/relationships/slide" Target="slides/slide199.xml"/><Relationship Id="rId204" Type="http://schemas.openxmlformats.org/officeDocument/2006/relationships/slide" Target="slides/slide200.xml"/><Relationship Id="rId205" Type="http://schemas.openxmlformats.org/officeDocument/2006/relationships/slide" Target="slides/slide201.xml"/><Relationship Id="rId206" Type="http://schemas.openxmlformats.org/officeDocument/2006/relationships/slide" Target="slides/slide202.xml"/><Relationship Id="rId207" Type="http://schemas.openxmlformats.org/officeDocument/2006/relationships/slide" Target="slides/slide203.xml"/><Relationship Id="rId208" Type="http://schemas.openxmlformats.org/officeDocument/2006/relationships/slide" Target="slides/slide204.xml"/><Relationship Id="rId209" Type="http://schemas.openxmlformats.org/officeDocument/2006/relationships/slide" Target="slides/slide205.xml"/><Relationship Id="rId210" Type="http://schemas.openxmlformats.org/officeDocument/2006/relationships/slide" Target="slides/slide206.xml"/><Relationship Id="rId211" Type="http://schemas.openxmlformats.org/officeDocument/2006/relationships/slide" Target="slides/slide207.xml"/><Relationship Id="rId212" Type="http://schemas.openxmlformats.org/officeDocument/2006/relationships/slide" Target="slides/slide208.xml"/><Relationship Id="rId213" Type="http://schemas.openxmlformats.org/officeDocument/2006/relationships/slide" Target="slides/slide209.xml"/><Relationship Id="rId214" Type="http://schemas.openxmlformats.org/officeDocument/2006/relationships/slide" Target="slides/slide210.xml"/><Relationship Id="rId215" Type="http://schemas.openxmlformats.org/officeDocument/2006/relationships/slide" Target="slides/slide211.xml"/><Relationship Id="rId216" Type="http://schemas.openxmlformats.org/officeDocument/2006/relationships/slide" Target="slides/slide212.xml"/><Relationship Id="rId217" Type="http://schemas.openxmlformats.org/officeDocument/2006/relationships/slide" Target="slides/slide213.xml"/><Relationship Id="rId218" Type="http://schemas.openxmlformats.org/officeDocument/2006/relationships/slide" Target="slides/slide214.xml"/><Relationship Id="rId219" Type="http://schemas.openxmlformats.org/officeDocument/2006/relationships/slide" Target="slides/slide215.xml"/><Relationship Id="rId220" Type="http://schemas.openxmlformats.org/officeDocument/2006/relationships/slide" Target="slides/slide216.xml"/><Relationship Id="rId221" Type="http://schemas.openxmlformats.org/officeDocument/2006/relationships/slide" Target="slides/slide217.xml"/><Relationship Id="rId222" Type="http://schemas.openxmlformats.org/officeDocument/2006/relationships/slide" Target="slides/slide218.xml"/><Relationship Id="rId223" Type="http://schemas.openxmlformats.org/officeDocument/2006/relationships/slide" Target="slides/slide219.xml"/><Relationship Id="rId224" Type="http://schemas.openxmlformats.org/officeDocument/2006/relationships/slide" Target="slides/slide220.xml"/><Relationship Id="rId225" Type="http://schemas.openxmlformats.org/officeDocument/2006/relationships/slide" Target="slides/slide221.xml"/><Relationship Id="rId226" Type="http://schemas.openxmlformats.org/officeDocument/2006/relationships/slide" Target="slides/slide222.xml"/><Relationship Id="rId227" Type="http://schemas.openxmlformats.org/officeDocument/2006/relationships/slide" Target="slides/slide223.xml"/><Relationship Id="rId228" Type="http://schemas.openxmlformats.org/officeDocument/2006/relationships/slide" Target="slides/slide224.xml"/><Relationship Id="rId229" Type="http://schemas.openxmlformats.org/officeDocument/2006/relationships/slide" Target="slides/slide225.xml"/><Relationship Id="rId230" Type="http://schemas.openxmlformats.org/officeDocument/2006/relationships/slide" Target="slides/slide226.xml"/><Relationship Id="rId231" Type="http://schemas.openxmlformats.org/officeDocument/2006/relationships/slide" Target="slides/slide227.xml"/><Relationship Id="rId232" Type="http://schemas.openxmlformats.org/officeDocument/2006/relationships/slide" Target="slides/slide228.xml"/><Relationship Id="rId233" Type="http://schemas.openxmlformats.org/officeDocument/2006/relationships/slide" Target="slides/slide229.xml"/><Relationship Id="rId234" Type="http://schemas.openxmlformats.org/officeDocument/2006/relationships/slide" Target="slides/slide230.xml"/><Relationship Id="rId235" Type="http://schemas.openxmlformats.org/officeDocument/2006/relationships/slide" Target="slides/slide231.xml"/><Relationship Id="rId236" Type="http://schemas.openxmlformats.org/officeDocument/2006/relationships/slide" Target="slides/slide232.xml"/><Relationship Id="rId237" Type="http://schemas.openxmlformats.org/officeDocument/2006/relationships/slide" Target="slides/slide233.xml"/><Relationship Id="rId238" Type="http://schemas.openxmlformats.org/officeDocument/2006/relationships/slide" Target="slides/slide234.xml"/><Relationship Id="rId239" Type="http://schemas.openxmlformats.org/officeDocument/2006/relationships/slide" Target="slides/slide235.xml"/><Relationship Id="rId240" Type="http://schemas.openxmlformats.org/officeDocument/2006/relationships/slide" Target="slides/slide236.xml"/><Relationship Id="rId241" Type="http://schemas.openxmlformats.org/officeDocument/2006/relationships/slide" Target="slides/slide237.xml"/><Relationship Id="rId242" Type="http://schemas.openxmlformats.org/officeDocument/2006/relationships/slide" Target="slides/slide238.xml"/><Relationship Id="rId243" Type="http://schemas.openxmlformats.org/officeDocument/2006/relationships/slide" Target="slides/slide239.xml"/><Relationship Id="rId244" Type="http://schemas.openxmlformats.org/officeDocument/2006/relationships/slide" Target="slides/slide240.xml"/><Relationship Id="rId245" Type="http://schemas.openxmlformats.org/officeDocument/2006/relationships/slide" Target="slides/slide241.xml"/><Relationship Id="rId246" Type="http://schemas.openxmlformats.org/officeDocument/2006/relationships/slide" Target="slides/slide242.xml"/><Relationship Id="rId247" Type="http://schemas.openxmlformats.org/officeDocument/2006/relationships/slide" Target="slides/slide243.xml"/><Relationship Id="rId248" Type="http://schemas.openxmlformats.org/officeDocument/2006/relationships/slide" Target="slides/slide244.xml"/><Relationship Id="rId249" Type="http://schemas.openxmlformats.org/officeDocument/2006/relationships/slide" Target="slides/slide245.xml"/><Relationship Id="rId250" Type="http://schemas.openxmlformats.org/officeDocument/2006/relationships/slide" Target="slides/slide246.xml"/><Relationship Id="rId251" Type="http://schemas.openxmlformats.org/officeDocument/2006/relationships/slide" Target="slides/slide247.xml"/><Relationship Id="rId252" Type="http://schemas.openxmlformats.org/officeDocument/2006/relationships/slide" Target="slides/slide248.xml"/><Relationship Id="rId253" Type="http://schemas.openxmlformats.org/officeDocument/2006/relationships/slide" Target="slides/slide249.xml"/><Relationship Id="rId254" Type="http://schemas.openxmlformats.org/officeDocument/2006/relationships/slide" Target="slides/slide250.xml"/><Relationship Id="rId255" Type="http://schemas.openxmlformats.org/officeDocument/2006/relationships/slide" Target="slides/slide251.xml"/><Relationship Id="rId2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2FB-5A8B-4F4F-BC46-DF28DC37A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 BP be handling several different instances of the same correlation set concurrent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invokes and receives can initiate sets – how do these things match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 BP be handling several different instances of the same correlation set concurrent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invokes and receives can initiate sets – how do these things match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ustomer, in two branches of a flow, invoked sam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artner, portType,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n target of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rep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ould be ambiguous – such a situation rais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flictingReque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doc “Coordinating Web Services Activities …” 1/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tore receives service reference to buyer in container </a:t>
            </a:r>
            <a:r>
              <a:rPr b="0" lang="en-US" sz="1200" spc="-1" strike="noStrike">
                <a:solidFill>
                  <a:srgbClr val="00ffff"/>
                </a:solidFill>
                <a:latin typeface="Times New Roman"/>
              </a:rPr>
              <a:t>buyer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imes New Roman"/>
              </a:rPr>
              <a:t>- Store’s invoke statically names buyerCallbackPT (in conformance with role buyer in buyerStoreLT) and answer, but associated address has been dynamically obta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url and suffix of place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url, encoding of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C9B-38D2-4BD6-B04A-EF83CA12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0D2-0F1A-403C-8368-98B6B956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245-3487-4ED7-A6F3-DC4A77D5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098-8064-4EE8-AA6C-0DAC228E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B88-42F5-4DC2-83CF-692AB868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241C-822F-41BA-8538-AC443C0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24C9-5516-40EF-8306-D32D408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26EB-3F3D-4600-A560-F14CE20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AC9-C186-41AD-B2AD-5A724BB4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E166-B635-4660-A4D6-291C8DE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0FB-2EED-45E8-8CCF-F7EB718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9D7-7C16-4795-802B-9E17597F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B416-F0D7-47E1-BDDE-175465E9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D815-DE1E-4E43-A7BC-A5807C0C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B286-404A-4BA2-B99E-094CBC34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4B3-2709-4334-B4B9-134634EF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216-34B9-47DA-9EB4-4AF17842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FF56-BCE8-4BA4-A6EC-8B1E9F8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65E-DF48-40BA-913C-ABB3873D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F8C0-CFF8-49CC-8511-5E8510FA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B3B-0D60-4AE0-8B55-CDA1C93C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C0E-EEFF-4BB0-84F0-153C265E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275-E186-4994-8F7D-C2346272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05A-AC82-4863-A3DF-B2D3678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EB1E-CDDF-4D16-8C85-41A61F3D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E5D8-F1DD-4221-A159-C199419A5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hyperlink" Target="https://uddi.ibm.com/testregistry/find" TargetMode="External"/><Relationship Id="rId2" Type="http://schemas.openxmlformats.org/officeDocument/2006/relationships/hyperlink" Target="https://uddi.ibm.com/testregistry/find" TargetMode="External"/><Relationship Id="rId3" Type="http://schemas.openxmlformats.org/officeDocument/2006/relationships/hyperlink" Target="https://uddi.ibm.com/testregistry/find" TargetMode="External"/><Relationship Id="rId4" Type="http://schemas.openxmlformats.org/officeDocument/2006/relationships/hyperlink" Target="https://uddi.ibm.com/testregistry/find" TargetMode="External"/><Relationship Id="rId5" Type="http://schemas.openxmlformats.org/officeDocument/2006/relationships/hyperlink" Target="https://uddi.ibm.com/testregistry/find" TargetMode="External"/><Relationship Id="rId6" Type="http://schemas.openxmlformats.org/officeDocument/2006/relationships/hyperlink" Target="https://uddi.ibm.com/testregistry/find" TargetMode="External"/><Relationship Id="rId7" Type="http://schemas.openxmlformats.org/officeDocument/2006/relationships/hyperlink" Target="https://uddi.ibm.com/testregistry/find" TargetMode="External"/><Relationship Id="rId8" Type="http://schemas.openxmlformats.org/officeDocument/2006/relationships/hyperlink" Target="http://uddi.microsoft.com/" TargetMode="External"/><Relationship Id="rId9" Type="http://schemas.openxmlformats.org/officeDocument/2006/relationships/hyperlink" Target="http://uddi.microsoft.com/" TargetMode="External"/><Relationship Id="rId10" Type="http://schemas.openxmlformats.org/officeDocument/2006/relationships/hyperlink" Target="http://uddi.microsoft.com/" TargetMode="External"/><Relationship Id="rId11" Type="http://schemas.openxmlformats.org/officeDocument/2006/relationships/hyperlink" Target="http://uddi.microsoft.com/" TargetMode="External"/><Relationship Id="rId12" Type="http://schemas.openxmlformats.org/officeDocument/2006/relationships/hyperlink" Target="http://uddi.microsoft.com/" TargetMode="External"/><Relationship Id="rId13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2520" y="2819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ransactional characteristics for Web services when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rvices require security and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iscuss this issue in Chapt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FB1-19E0-4416-8ADB-A915540A7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low&gt;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oke  partnerLink=“Staples” portType=“staplesPurchaseP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=“requestQuote” inputVariable=“stationeryReq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Variable=“staplesStationeryQuote”&gt;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oke  partnerLink=“OfficeMax” portType=“officeMQuoteP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=“requestQuote”  inputVariable=“stationeryReq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Variable=“officeMStationeryQuote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inued on next sl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…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3BB-0E63-4905-BB02-CE1E94ADD8B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wit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se condition=“bpws:getVariableProperty(staplesStationeryQuote, quo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  bpws:getVariableProperty(officeMStationeryQuote, quote)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 partnerLink=“Staples”  portType=“staplesQuotePt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purchStationery”  inputVariable=“stationeryPur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Variable=“stationeryResp”&gt;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 partnerLink=“Office Max”  portType=“officeMQuote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purchStationery”  inputVariable=“stationeryPur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Variable=“stationeryResp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wit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3B7-BBB8-49D6-BC6B-6F6143564D2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Process (B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P consists of both internal computations and invocations of operations exported by Web service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ions it exports constitute its interface to it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quence of invocations it executes is referred to as a protocol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data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s to exception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1BC-864D-4D99-AE7B-4D7184D337F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. Executable B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able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mplete description of BP (including all comput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B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(should) contain only externally visible (communication related) behavior of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exec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ion: Internal decision making algorithm and data manipulation not described (although this is not enforc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s for describing abstract and executable BPs share a common core, but differ primarily in data handl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EL4WS is used to specify both abstract and executable 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FFA-CC30-4B96-91CE-21A00DFCFF4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able B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is sufficient for describing a complete (executable) BP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s on Web services and XM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ortable (platform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BP is a complete specification of the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implementation, however, might not use BP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BP specifies external interface and can be exported for use by busines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F9C-E6DC-4399-91A5-3F0F57378C1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folding of protocol related portion of B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set of the data contained in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Message invok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QuoteRequ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have par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rument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value stock or bond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ich identifies a particular instrument of that 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rumentTyp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a property if it affects the course of th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f it does not affect the course of th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roperties (roughly speaking) are visible to an abstract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40E-6A50-40E8-A6BC-AA846169991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Executable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computation of executable BP not included in abstract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ignment is to a variable that is not a property, it can be eliminated from abstrac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. Address data might not affect the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ssignment is to a variable that is a property, it (generally) affects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.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d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affect protoco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(bidPrice&gt;1000) invoke webService1 else invoke webServic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dPr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be a property, but its value is computed by an internal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ation that produces the new value is generally not relevant to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E38-21A4-48B5-806E-F3F02BB3024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-Handling 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bstract and executable BPs can use deterministic form of assignment to assign valu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n abstract BP can use the non-deterministic form of assig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bstract and executable BPs can reference properties in conditions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VariableProperty(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n XPath extens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xecutable BP can reference arbitrary data in conditions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VariableData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flow-of-control can depend only o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BF5-A7F1-4C43-8E90-5A8C557EBD8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BP – Non-determi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1981080"/>
            <a:ext cx="2286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s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t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1981080"/>
            <a:ext cx="22860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determin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per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ia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447920" y="4495680"/>
            <a:ext cx="198108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10080" y="4495680"/>
            <a:ext cx="198144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860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2448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37124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3341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62920" y="53341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240" y="59436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63440" y="58672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978-3E43-4D6A-BA0D-25A485568C5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– 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king an operation of a portType (specified in WSDL) exported by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assigns message to operation’s input 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exec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ynchronous (one-way WSDL pattern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resumes execution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chronous (request/response WSDL patter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waits for response and then resumes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ization imposed by B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can access response message in operation’s output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4F7-AA3E-42BC-B2D4-ECEC489D4B5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-End and Back-End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nterprises implement their services with a transaction process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ontext of Web services these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-en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nt-end syste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interface between the invoker of a service and the back-end system(s) that implement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2B the front-end might simply manipulate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nt-end of a simple B2B system might implement the system’s  WSDL description, passing invocations on to a 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ont-end of a complex B2B system might be a BPEL program that invokes other front-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E92-0BBF-48D3-8145-1971AC3812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– 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30280" y="1336680"/>
            <a:ext cx="5569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5400000">
            <a:off x="6225120" y="23076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1396800" y="47761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5953320" y="47149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 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6227640" y="33742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14600" y="2362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429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590920" y="5562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7440" y="3200400"/>
            <a:ext cx="163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6858000" y="26668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58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78168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09920" y="5867280"/>
            <a:ext cx="22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 expo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allback)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057400" y="5791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2514600" y="2514240"/>
            <a:ext cx="3657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19400" y="190512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66400" y="304812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34240" y="24382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a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295280" y="25142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3840" y="358128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i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06320" y="4495680"/>
            <a:ext cx="192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blem: how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ou assoc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pon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5791320" y="46483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86692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9907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1577160" y="36028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26880" y="4052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4191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2720" y="51814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5480" y="3200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5480" y="2057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5120" y="53341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5480" y="4267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1294-0D76-412F-9779-C26B511357C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– 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an invocation of an operation exported by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ent exec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e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waits for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can access message in variable associated with operation and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an asynchronous response to a prior invocation on a callback port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9F7-1164-4990-8313-8782EBE41EC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– 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ing an operation invocation on an (exported) portType (specified in WS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exec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operation and w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ing to a synchronous operation inv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exec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operation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ing a client’s exported (callback)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exec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34D-810C-4EE1-8F69-6B37EEDC1FE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– 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2080" y="1371600"/>
            <a:ext cx="55695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6316560" y="495936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6225120" y="23835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1488240" y="4761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6319080" y="45784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6227640" y="35265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14600" y="2362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14600" y="3429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4495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590920" y="5562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37440" y="3200400"/>
            <a:ext cx="163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 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6858000" y="3123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6858000" y="35049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78168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0640" y="5867280"/>
            <a:ext cx="219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 expo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allback) por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2057400" y="5638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2514600" y="2514600"/>
            <a:ext cx="3733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95360" y="1905120"/>
            <a:ext cx="23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2720" y="297180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48880" y="205740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8520" y="27432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33040" y="3138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248880" y="42670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07680" y="32148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07680" y="4281480"/>
            <a:ext cx="87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24240" y="533412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8160" y="533412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95000" y="510552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18680" y="411480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synchronous invo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71840" y="202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71480" y="2708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71480" y="529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470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48160" y="42321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57F-884B-47BC-BC5F-7E33E79791F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Purchase Order (PO)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43828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96252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05320" y="396252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4864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828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77120" y="396252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05320" y="106668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243828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22860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246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51055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911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716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8660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57400" y="33526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191120"/>
            <a:ext cx="1600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7800" y="15238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857640" y="1828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3840" y="16765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qu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1981080"/>
            <a:ext cx="129564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28840" y="5424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590560" y="3885840"/>
            <a:ext cx="15228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095-F2A3-413C-9299-223E5D0476A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3048120"/>
            <a:ext cx="213372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91320" y="1600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91320" y="51814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Cloud"/>
          <p:cNvSpPr/>
          <p:nvPr/>
        </p:nvSpPr>
        <p:spPr>
          <a:xfrm>
            <a:off x="5410080" y="2895480"/>
            <a:ext cx="2743200" cy="1838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of P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19520" y="1904760"/>
            <a:ext cx="29718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819160" y="3733920"/>
            <a:ext cx="297180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15680" y="24004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O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2560" y="4519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nv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40280" y="3124080"/>
            <a:ext cx="14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ndPurc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 port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876920" y="23623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4343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6591240" y="26604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521720" y="182880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195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6960" y="68580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7A0C-7ED5-4ABD-9B32-9981CDB25906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 Service Interface (WSD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498760" y="1676520"/>
            <a:ext cx="6456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ssage 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 name=“custInfo”  type=“sns:custInfo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 name=“purchOr”  type=“sns:purchOr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ssage 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 name=“IVC”  type=“sns:Invo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Type name=“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name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ndPurc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message=“po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guments su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put message=“po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208960" y="4038480"/>
            <a:ext cx="304920" cy="1981440"/>
          </a:xfrm>
          <a:custGeom>
            <a:avLst/>
            <a:gdLst>
              <a:gd name="textAreaLeft" fmla="*/ -360 w 304920"/>
              <a:gd name="textAreaRight" fmla="*/ 10980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9760" y="4648320"/>
            <a:ext cx="205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Type ex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 PO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21160" y="1004760"/>
            <a:ext cx="63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efinitions targetNamespace=“…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=“http://schemas.smlsoap.org/wsdl/” 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02960" y="623268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defini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81480" y="5562720"/>
            <a:ext cx="2133720" cy="1066680"/>
          </a:xfrm>
          <a:prstGeom prst="wedgeRoundRectCallout">
            <a:avLst>
              <a:gd name="adj1" fmla="val -57662"/>
              <a:gd name="adj2" fmla="val -7038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94240" y="5486400"/>
            <a:ext cx="184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fix for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space in thi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96A-1CF6-40D4-83A0-29441FC73420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maintain the state of 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store messages that have been sent or received or for local storage (no message invol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ssociated 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 messag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 XML simpl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n XML schema element (which might have a complex 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n associated 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77720" y="35053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riable name=“PO” messageType=“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79760" y="3962520"/>
            <a:ext cx="63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ns is prefix in BPEL document for the WSD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7FD-6D36-4E1D-B529-9CE2D7F42D5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 Link Type (WS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66680" y="1905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79560" y="3429000"/>
            <a:ext cx="494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artnerLinkType name=“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purchLT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ch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partnerLink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2952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Type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the way two BPs intera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ames a portType that must be declared in 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ssociates a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with each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52480" y="5334120"/>
            <a:ext cx="2743200" cy="1295280"/>
          </a:xfrm>
          <a:prstGeom prst="wedgeRoundRectCallout">
            <a:avLst>
              <a:gd name="adj1" fmla="val -52953"/>
              <a:gd name="adj2" fmla="val -72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ly one role (in this case) since only POService needs to provide an port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5181480"/>
            <a:ext cx="2057400" cy="1067040"/>
          </a:xfrm>
          <a:prstGeom prst="wedgeRoundRectCallout">
            <a:avLst>
              <a:gd name="adj1" fmla="val -50310"/>
              <a:gd name="adj2" fmla="val -1592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nerLink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 a unit of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72200" y="2895480"/>
            <a:ext cx="1981080" cy="1676520"/>
          </a:xfrm>
          <a:prstGeom prst="wedgeRoundRectCallout">
            <a:avLst>
              <a:gd name="adj1" fmla="val -109375"/>
              <a:gd name="adj2" fmla="val 122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a process (allows actual partner to be specified dynamic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DC8-908E-47D4-A823-0754E7710B2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 Link Type (WS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8680" y="1447920"/>
            <a:ext cx="574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artnerLinkType name=“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invoicingLT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nvoice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computePrice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invoiceRequeste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invoiceCallbackPT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partnerLink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Cloud"/>
          <p:cNvSpPr/>
          <p:nvPr/>
        </p:nvSpPr>
        <p:spPr>
          <a:xfrm>
            <a:off x="1066680" y="4419720"/>
            <a:ext cx="2362320" cy="1582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45760" y="4800600"/>
            <a:ext cx="178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 playing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Cloud"/>
          <p:cNvSpPr/>
          <p:nvPr/>
        </p:nvSpPr>
        <p:spPr>
          <a:xfrm>
            <a:off x="5638680" y="4419720"/>
            <a:ext cx="2362320" cy="1582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64040" y="4800600"/>
            <a:ext cx="19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 playing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voic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86400" y="49528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37200" y="5943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oiceCallback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99880" y="594360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utePri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200400" y="5562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5486400" y="55627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52560" y="365760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cription of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ible relation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tween two 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86200" y="5181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217-57B1-4A70-B554-E19487959249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b Basic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952520" y="2819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 Link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1523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419112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</a:t>
            </a: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purch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Type=“lns: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purch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ol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ch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partnerLink’s go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artner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50920" y="4640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88040" y="304812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91320" y="5181480"/>
            <a:ext cx="2286000" cy="914400"/>
          </a:xfrm>
          <a:prstGeom prst="wedgeRoundRectCallout">
            <a:avLst>
              <a:gd name="adj1" fmla="val -106666"/>
              <a:gd name="adj2" fmla="val -3975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ence PO service must provide purchOr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3520" y="121932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to 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to another BP described by a partner 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Link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ruct in BPEL names a process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ssociates it with a  role in that l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95880" y="4038480"/>
            <a:ext cx="2133720" cy="762120"/>
          </a:xfrm>
          <a:prstGeom prst="wedgeRoundRectCallout">
            <a:avLst>
              <a:gd name="adj1" fmla="val -97097"/>
              <a:gd name="adj2" fmla="val 76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fix lns refers to WSDL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429000"/>
            <a:ext cx="2438280" cy="533520"/>
          </a:xfrm>
          <a:prstGeom prst="wedgeRoundRectCallout">
            <a:avLst>
              <a:gd name="adj1" fmla="val -73046"/>
              <a:gd name="adj2" fmla="val 15297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 of partner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71600" y="3124080"/>
            <a:ext cx="1981080" cy="685800"/>
          </a:xfrm>
          <a:prstGeom prst="wedgeRoundRectCallout">
            <a:avLst>
              <a:gd name="adj1" fmla="val -25800"/>
              <a:gd name="adj2" fmla="val 1256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ner spec. in PO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117-1308-4796-88B3-D9B6B7B95ACD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P might interact with another BP – called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rough several partner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mechanism that asserts tha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 is at the other end of a set of partner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BPs might suppo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FareP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TicketP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ceptable partner is one that supports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43000" y="4648320"/>
            <a:ext cx="8001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 name=“ticketVendo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xxxx”/&gt;   &lt;!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pports getFare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yyyy”/&gt;   &lt;!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pports purchaseTicketPT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artn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artn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600-F96C-4936-B28E-32A1CC3F8BF8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P is assigned a name in the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19560" y="2133720"/>
            <a:ext cx="674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cess name=“</a:t>
            </a: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space declar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ry language (default XPath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ression language (default XPa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ons and process bod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c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rocess name=“purchOrProces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ons and body of PO servi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roces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035-9628-49BD-814B-8A5FE99B477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05280" y="6854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age: Custom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PO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-152280" y="914040"/>
            <a:ext cx="759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27280" y="2362320"/>
            <a:ext cx="4940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artnerLinkType name=“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purch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ch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partnerLink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linkToPur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Type=“cns:purchL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Role=“purchServ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purchLin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Type=“lns:purchL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ole=“purchServ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867280" y="2438280"/>
            <a:ext cx="152640" cy="1447920"/>
          </a:xfrm>
          <a:custGeom>
            <a:avLst/>
            <a:gdLst>
              <a:gd name="textAreaLeft" fmla="*/ 0 w 152640"/>
              <a:gd name="textAreaRight" fmla="*/ 5508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71840" y="2743200"/>
            <a:ext cx="163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DL inter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ce ex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 PO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47080" y="4038480"/>
            <a:ext cx="148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n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67280" y="4191120"/>
            <a:ext cx="152640" cy="99036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7280" y="5410080"/>
            <a:ext cx="152640" cy="990720"/>
          </a:xfrm>
          <a:custGeom>
            <a:avLst/>
            <a:gdLst>
              <a:gd name="textAreaLeft" fmla="*/ 0 w 152640"/>
              <a:gd name="textAreaRight" fmla="*/ 55080 w 1526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47800" y="5486400"/>
            <a:ext cx="159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PO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1600" y="228600"/>
            <a:ext cx="32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nk –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fix in WSDL doc re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SDL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target ns of WSDL 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prefix in PO Service ref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SDL 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prefix in customer re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WSDL 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909-8CAC-4F51-8693-E6D11A16D038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6680" y="1905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752480" y="4419720"/>
            <a:ext cx="541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invoiceProvider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Type=“lns:invoiceL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ole=“invoiceRequest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Role=“invoiceServices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artner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5021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88040" y="34290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2952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partner link type is not specific to a particular B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global, bilateral (WSDL) descriptio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two B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 partner link declaration (BPEL) describes how the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BP interacts with other BPs through a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 link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4B0-1496-4AEC-998D-496CB7C98899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 Service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43000" y="1143000"/>
            <a:ext cx="8001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riabl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riable nam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messageType=“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O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riable nam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Invo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messageType=“lns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Ms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variabl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partnerLink=“</a:t>
            </a: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purch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 portType=“ln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ndPurc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 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P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low&gt;   …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 bo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.   &lt;/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ply partnerLink=“p</a:t>
            </a:r>
            <a:r>
              <a:rPr b="0" lang="en-US" sz="2000" spc="-1" strike="noStrike">
                <a:solidFill>
                  <a:srgbClr val="cc3399"/>
                </a:solidFill>
                <a:latin typeface="Times New Roman"/>
              </a:rPr>
              <a:t>urchLi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portType=“ln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urchOr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ndPurch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Invo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44760" y="2614680"/>
            <a:ext cx="512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oth necessary since PO Service might commun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several BPs through the same port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276720" y="2971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8620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197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360-B636-45DC-846C-D9F4BB0FFDB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action with Shipping Prov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66680" y="2362320"/>
            <a:ext cx="16765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vo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4114800"/>
            <a:ext cx="1676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s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e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53080" y="34290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43200" y="3048120"/>
            <a:ext cx="3809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742840" y="3276360"/>
            <a:ext cx="3809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742840" y="4191120"/>
            <a:ext cx="3809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88000" y="29718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hipReq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67600" y="35434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hipInfo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23040" y="255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232680" y="23241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equestShi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 portType </a:t>
            </a: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shipping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8640" y="4648320"/>
            <a:ext cx="26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sendSchedul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ort </a:t>
            </a:r>
            <a:r>
              <a:rPr b="0" i="1" lang="en-US" sz="1800" spc="-1" strike="noStrike">
                <a:solidFill>
                  <a:srgbClr val="00cc99"/>
                </a:solidFill>
                <a:latin typeface="Times New Roman"/>
              </a:rPr>
              <a:t>shippingCallback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123720" y="4571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6728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5400000">
            <a:off x="1828440" y="4724280"/>
            <a:ext cx="152280" cy="1676520"/>
          </a:xfrm>
          <a:custGeom>
            <a:avLst/>
            <a:gdLst>
              <a:gd name="textAreaLeft" fmla="*/ 0 w 152280"/>
              <a:gd name="textAreaRight" fmla="*/ 55080 w 1522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5400000">
            <a:off x="7543440" y="3657600"/>
            <a:ext cx="152280" cy="213372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552360" y="48006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=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hipping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244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=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hippingReque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82880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66880" y="40766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chedule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720" y="1676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D28-C0C3-4738-9576-44DFB68AFBE3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hipping (WS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68960" y="1981080"/>
            <a:ext cx="4531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Type  name=“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hippingCallback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name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ndSched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message=“…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Type name=“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hipping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name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questShip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message=“…”/&gt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 message=“…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1981080"/>
            <a:ext cx="152640" cy="1676520"/>
          </a:xfrm>
          <a:custGeom>
            <a:avLst/>
            <a:gdLst>
              <a:gd name="textAreaLeft" fmla="*/ 0 w 152640"/>
              <a:gd name="textAreaRight" fmla="*/ 55080 w 1526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007400" y="2438280"/>
            <a:ext cx="204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 type ex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 PO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81680" y="3886200"/>
            <a:ext cx="152640" cy="190512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077240" y="419112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 type ex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y 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AD6-FADD-41B4-9777-4C697F207052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hi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055160" y="1523880"/>
            <a:ext cx="5799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artnerLinkType name=“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shipping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hipping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hipping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role nam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ippingRequ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lnk:portType name=“po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hippingCallBack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lnk:partnerLink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 name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hippingProvi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Type=“lns:</a:t>
            </a:r>
            <a:r>
              <a:rPr b="0" lang="en-US" sz="2000" spc="-1" strike="noStrike">
                <a:solidFill>
                  <a:srgbClr val="cc9900"/>
                </a:solidFill>
                <a:latin typeface="Times New Roman"/>
              </a:rPr>
              <a:t>shipping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ole=“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ippingRequ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Rol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hipping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34320" y="1981080"/>
            <a:ext cx="75960" cy="2210040"/>
          </a:xfrm>
          <a:custGeom>
            <a:avLst/>
            <a:gdLst>
              <a:gd name="textAreaLeft" fmla="*/ 0 w 75960"/>
              <a:gd name="textAreaRight" fmla="*/ 27360 w 7596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34320" y="4724280"/>
            <a:ext cx="75960" cy="1219320"/>
          </a:xfrm>
          <a:custGeom>
            <a:avLst/>
            <a:gdLst>
              <a:gd name="textAreaLeft" fmla="*/ 0 w 75960"/>
              <a:gd name="textAreaRight" fmla="*/ 2736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163280" y="28954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62200" y="495288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P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PO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FF6-0685-455E-9602-6B92BBCD966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hipping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7720" y="1600200"/>
            <a:ext cx="878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py&gt;   &lt;from variable=“PO”  part=“custInfo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o 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hipping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part=“custInfo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 partnerLink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hippingProvi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 portType=“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lns:shipping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equestShip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hipping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utputVariable=“shippingInfo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partnerLink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shippingProvi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portType=“lns: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hippingCallback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ndSched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variable=“shippingSchedul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1066680"/>
            <a:ext cx="1447560" cy="1067040"/>
          </a:xfrm>
          <a:prstGeom prst="wedgeRoundRectCallout">
            <a:avLst>
              <a:gd name="adj1" fmla="val -70944"/>
              <a:gd name="adj2" fmla="val 65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ains inpu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129-4D11-4E03-B9CA-AB47EB76CAF4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physically interconnected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decomposed into pack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s transmitted from source to destination using a store-and-forward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algorithm directs packets to dest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0C9-6F89-4026-927C-BF77266052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 (BPEL)– Synchronizing Concurrent Activities w/i a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on scheduling cannot be completed until logistics have been arr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35053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48769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48769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962520" y="35053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146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09680" y="60199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05320" y="60199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04400" y="504360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90560" y="55623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733920" y="55623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65120" y="259092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 sequence activities i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209320" y="2971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2971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5120" y="3200400"/>
            <a:ext cx="308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duc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logis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mmun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 globally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34D-2491-4188-848E-795866DF403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98040" y="152280"/>
            <a:ext cx="612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 name=“</a:t>
            </a:r>
            <a:r>
              <a:rPr b="0" lang="en-US" sz="2000" spc="-1" strike="noStrike">
                <a:solidFill>
                  <a:srgbClr val="66ccff"/>
                </a:solidFill>
                <a:latin typeface="Times New Roman"/>
              </a:rPr>
              <a:t>ship-s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ssign&gt;  ….  &lt;/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 partnerLink= ….&gt;     &lt;/invoke&gt;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partnerLink=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hippingS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</a:t>
            </a:r>
            <a:r>
              <a:rPr b="0" lang="en-US" sz="2000" spc="-1" strike="noStrike">
                <a:solidFill>
                  <a:srgbClr val="66ccff"/>
                </a:solidFill>
                <a:latin typeface="Times New Roman"/>
              </a:rPr>
              <a:t>ship-s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….&gt;      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Variable=“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hippingS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</a:t>
            </a:r>
            <a:r>
              <a:rPr b="0" lang="en-US" sz="2000" spc="-1" strike="noStrike">
                <a:solidFill>
                  <a:srgbClr val="66ccff"/>
                </a:solidFill>
                <a:latin typeface="Times New Roman"/>
              </a:rPr>
              <a:t>ship-sc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086600" y="15238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10280" y="3809880"/>
            <a:ext cx="228600" cy="198144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90080" y="236232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237440" y="45720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905120" y="2438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981080" y="4572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440" y="2514600"/>
            <a:ext cx="10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7680" y="4495680"/>
            <a:ext cx="13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85800" y="190512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cide 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057400"/>
            <a:ext cx="75960" cy="380880"/>
          </a:xfrm>
          <a:custGeom>
            <a:avLst/>
            <a:gdLst>
              <a:gd name="textAreaLeft" fmla="*/ 48600 w 75960"/>
              <a:gd name="textAreaRight" fmla="*/ 76320 w 759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450560" y="34434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5438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7543800" y="3809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0F6-849A-44B2-AA02-2B2C93BB6385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(WS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ssage data is protocol-relev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conditional behavior of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relate messages sent to a particular instance of a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clares a global name that can be assigned to data items that may be parts of several different message types and carry the same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xpaye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be a part of one message type in one namespace (e.g., Internal Revenue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be a part of another in a different namespace (e.g., Social Sec. Ad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might represent the same information of typ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xtyp: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81600" y="5486400"/>
            <a:ext cx="61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pws:property name=“customerID”  type=“txtyp:SSN’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1956-52DA-492D-AD9D-68C3D230BC9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 Alias (WS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associate a property name with a field in message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cular property can be associated with different fields in different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111320" y="3443400"/>
            <a:ext cx="6238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pws:property  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stome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type=“txtyp:SSN’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pws:propertyAlias  property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ustome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Type=“txmsg:taxpayerInf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=“taxpayerI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=“/socialSecNum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pws:propertyAlia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1480" y="5334120"/>
            <a:ext cx="3353040" cy="1066680"/>
          </a:xfrm>
          <a:prstGeom prst="wedgeRoundRectCallout">
            <a:avLst>
              <a:gd name="adj1" fmla="val -65199"/>
              <a:gd name="adj2" fmla="val -757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ery string – specified in XPath - to locate the fiel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C04-7DA9-47E4-B371-E4861068D08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Sets (BP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service might be configured with multiple instances of a BP to concurrently handle (stateful) conversations with multiple cl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stances receive requests over the same 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SOAP over HTTP, messages arrive on port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is need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an arriving message that is part of a particular conversation to the correct BP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of a particular conversation can be recognized by the fact that they will generally all carry some identifying value(s) (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der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C39-9F2E-4344-80E8-297D96F3005E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ion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relation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et of properties whose value is shared by all messages in a particular convers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an address is really: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host address, port, correlation 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lation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dentifies the BP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24280" y="4572000"/>
            <a:ext cx="662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Set name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urchase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=“cor:customerID cor:orderNum”/&gt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3920" y="5486400"/>
            <a:ext cx="228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iased to item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formation con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 the message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ver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5105160" y="5181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095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CC4-EC15-4D88-9748-F9803491172B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orrelation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ion can be used in a BP to accept the start of a new conver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29320" y="3048120"/>
            <a:ext cx="637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 partnerLink =“Buy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SP:Purchasing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asynchPurcha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=“PO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 set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urchase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initiate=“yes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rrela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10680" y="3505320"/>
            <a:ext cx="27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ate a new corre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 value for BP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6705360" y="4267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716080" y="2514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urchas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724280" y="2895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881-F2D3-4B66-B838-DFF2CE8ECA04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orrelation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ubsequently arriving messages with same value of PurchaseOrder will be directed to this BP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132200" y="3048120"/>
            <a:ext cx="483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 partnerLink 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uu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zz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yy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 set=“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Purchase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rrela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0160" y="4114800"/>
            <a:ext cx="235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 the initial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 of  the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once initialized,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 of a set can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 chang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943600" y="4572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4680" y="2681280"/>
            <a:ext cx="238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ver different part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nk, por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495320" y="327672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AF9-8ABC-42C9-8872-0E8E344368F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Correlation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6800" y="2362320"/>
            <a:ext cx="8140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y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( ….)                                                   receive(corrSet=“PO” init=“y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(corrSet=“PO” init=“no”                    invoke( 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Set=“inv” init=“yes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bsequent messages sent and received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rrelation set in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11480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2670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4191120"/>
            <a:ext cx="2438280" cy="990360"/>
          </a:xfrm>
          <a:prstGeom prst="wedgeRoundRectCallout">
            <a:avLst>
              <a:gd name="adj1" fmla="val -75259"/>
              <a:gd name="adj2" fmla="val -5993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28680" y="41911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sage 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properties of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rrelation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3920" y="15238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ssages of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ngle conver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22096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87692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907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6294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4BC-8CFA-419E-9742-6A95E5A37CA5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ani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(state) stored in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ons (used in control flow conditions) use XPath to access data in variables.  Two XPath ext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ble processes can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rocesses can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he part (or, i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pecified, the field within the part) in the named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flow of abstract process (protocol) based only o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3526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431720" y="2971800"/>
            <a:ext cx="727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ws:getVariableData (‘variableName’, ‘partName’, ‘locationPath’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5410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31720" y="3733920"/>
            <a:ext cx="63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ws:getVariableProperty(‘variableName’, ‘propertyNam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6600" y="2438280"/>
            <a:ext cx="1752480" cy="381240"/>
          </a:xfrm>
          <a:prstGeom prst="wedgeRoundRectCallout">
            <a:avLst>
              <a:gd name="adj1" fmla="val -38949"/>
              <a:gd name="adj2" fmla="val 122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895480" y="4191120"/>
            <a:ext cx="2971800" cy="685800"/>
          </a:xfrm>
          <a:prstGeom prst="wedgeRoundRectCallout">
            <a:avLst>
              <a:gd name="adj1" fmla="val 63356"/>
              <a:gd name="adj2" fmla="val -6064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erty alias contains query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18280" y="4510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76D-1FBE-4E50-B344-741C6707067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-Oriente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o the transmission a connection is established between source and destination.  Each end mai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cknowledgements provide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 that packet loss or duplication will be de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arrive in the order they were sent. Destinatio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low control algorthm guarantee transmission rate appropriate to both sender and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tin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acteristics of 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out-of-band mess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Control Protocol (TCP) is connection-ori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head of setting up and taking down 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7AE-1E06-4611-BCB0-68204187F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opying of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bsolute expression (if XPath is the query language) that identifies a single node w/i the document fragment specifi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ild can also contain a literal value or a simple arithmetic expression (for data trans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92160" y="2209680"/>
            <a:ext cx="534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rom variable=“v1” part=“p1”  query=“q1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o variable=“v2” part=“p2”  query=“q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C73-C016-4F74-A149-D24FEA4FF594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in Abstrac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n-deterministic value from a property’s domain can be assigned to the property by an abstract process u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aque ass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imulation of execution 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19080" y="4038480"/>
            <a:ext cx="424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rom  opaque=“yes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o variable=“v2”  property=“p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ssig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A10-D258-494A-BD05-102579F861C6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ing Web Servi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have child elements related to faults and  compensation (discussed subsequently), and links and correlation (discussed previous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pecifi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associated with sev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onnected to different B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42760" y="4419720"/>
            <a:ext cx="4545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“shippingProvid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lns:shipping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requestShipp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Variable=“shippingRequ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Variable=“shippingInfo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A5A-BF64-4F81-B6D8-1DEB7CB3531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ing Web Servi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and output variable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 message can b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utput variable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 message not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19440" y="4724280"/>
            <a:ext cx="444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“invoiceProvider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lns:computePrice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initiatePriceCal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Variable=“PO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7A1-74FE-4878-8A49-91C5F3FFBD69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hronous Vs. Asynchronous In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service communication characteriz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s are not alway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tend to be unpredictab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handle too many requests in real time can lead to thrashing and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requests can’t be handled instantly even with low loa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asynchronous invocation will play an increasingly important 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3EB-EE8D-458D-977B-583010723B30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ing Web Servi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its for an invocation to arr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associated with sev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connected to different B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76320" y="2743200"/>
            <a:ext cx="657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partnerLink=“customer”  portType=“lns:purchOr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sendPurchOr”  variable=“POmsg”/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462-3B73-4FBC-B653-4DFCD41F15B2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ing Web Servi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 new instance of a B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ateInstance=“yes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&gt; a new instance of the BP is created and this is its initial activ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ceive should be the first activity in the BP (since prior activities will not be executed within the new ins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message is the start of a conversation then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ild element should be specifi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76320" y="2133720"/>
            <a:ext cx="657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partnerLink=“customer”  portType=“lns:purchOr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sendPurchOr”  variable=“POms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Instance=“yes”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666440" y="5638680"/>
            <a:ext cx="54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 set=“PurchaseOrder”  initiate=“yes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D41-6F27-47FC-BE5C-7CAF5FDC32DD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ing Web Servic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sed to respond to a synchronous inv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sed on constraint that not more than one synchronous request from a particular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Link, portType, 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outstanding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to an asynchronous invocation is made using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callback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tner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requestor and requestee must have two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57200" y="3886200"/>
            <a:ext cx="630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ply partnerLink=“customer” portType=“lns:purchOr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sendPurchOr” variable=“Invo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2D7D-CF74-4E55-B1F1-A752297462EC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Basic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terminat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wait until=“deadline”&gt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wait for=“duration”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mpty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248-FEC2-4AD5-96F4-258C3DBDBA6B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5562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!-- list of activities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wit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se condition=“bool-expr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activity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ca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therwise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activity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otherwi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wit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72200" y="342900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397200" y="3429000"/>
            <a:ext cx="224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least one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; 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aluated i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172200" y="472428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96840" y="4572000"/>
            <a:ext cx="234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present,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all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il, else an 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wise is as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57800" y="1828800"/>
            <a:ext cx="2286000" cy="1066680"/>
          </a:xfrm>
          <a:prstGeom prst="wedgeRoundRectCallout">
            <a:avLst>
              <a:gd name="adj1" fmla="val -95972"/>
              <a:gd name="adj2" fmla="val 938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olves only properties if process is abs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615-D198-4C59-99B0-D214B2DA87A9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text Transfer Protocol (HT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 level protocol built on top of a TCP connection for exchanging messages (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bitr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request) message from client to server is followed by a (response) message from server to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s the remote invocation of methods on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: A set of client and server processes on the Internet that communicate via HT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0DC-BC13-41B8-AE36-3B98EAEC7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hile condition=“bool-ex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!-- iteratively executed activity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whi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ick&gt;          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s for the occurrence of first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nMessage  partnerLink=“..”  portType=“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=“..”  variable=“..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!-- activity to process messag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on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nAlarm  for=“durationExp” | until=“deadlineEx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timeout activity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onAla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ick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3276720"/>
            <a:ext cx="76320" cy="1447560"/>
          </a:xfrm>
          <a:custGeom>
            <a:avLst/>
            <a:gdLst>
              <a:gd name="textAreaLeft" fmla="*/ 0 w 76320"/>
              <a:gd name="textAreaRight" fmla="*/ 27360 w 763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89720" y="3505320"/>
            <a:ext cx="141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least 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s 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00100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170200" y="49528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ero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53080" y="1143000"/>
            <a:ext cx="1905120" cy="1295280"/>
          </a:xfrm>
          <a:prstGeom prst="wedgeRoundRectCallout">
            <a:avLst>
              <a:gd name="adj1" fmla="val -153166"/>
              <a:gd name="adj2" fmla="val 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olves only properties if process is abs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258-60EA-4BAC-9B81-491AC9AB47AA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lo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concurrently executes nested (child)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es when all children term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514600" y="3505320"/>
            <a:ext cx="4648320" cy="32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l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voke partnerLink=…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voke partnerLink=…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voke partnerLink=…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514600" y="403848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6120" y="472428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8288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5120" y="53341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03A-8E0E-41BE-817A-FACC2439FBDA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s – Synchronizing Flow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00640" y="6629040"/>
            <a:ext cx="152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78960" y="762120"/>
            <a:ext cx="3960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low&gt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 name=“XtoY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 name=“Cto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name=“X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XtoY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name=“A”…/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name=“Y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XtoY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ceive name=“C”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Cto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ceive&gt;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name=“D”…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Cto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1676520"/>
            <a:ext cx="4419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ctivity can have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ild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link must have exa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ctivity w/i the flow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source and one as its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start u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and target need no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at same level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must not cros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ks must not create a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F5B-2D74-43C5-8A47-4B959DB9E6D5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 at the Sou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ild of an activity has an implicit or explic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Condi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whose valu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: true when activity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xplicit: the value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 when the activity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ource linkName=“Ato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Condition=“getVariableProperty(‘eval’, ‘risk’)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low’ 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rmin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ositive or negative) when the activity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48680" y="36576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ariabl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386040" y="384804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perty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562720" y="39625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6781680" y="41911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42F-A4C7-4723-A654-9CA2E7F3BD08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 at the Tar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considering links, an activity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execute in accordance with normal flow-of-control ru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, sw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an activity might b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veral li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such activity h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Cond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an b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d when the status of all incoming links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starts when the activity is ready and it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Cond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ru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tatus of at least one incoming link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66880" y="487692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name=“X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AtoX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BtoX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B83-FFC7-4747-AEF6-2A6486B7485E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 at the Tar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explicitly provided as an  attribute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LinkStatus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0880" y="3124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name=“X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Condition=“bpws:getLinkStatus(AtoX) AND bpws:getLinkStatus(BtoX)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AtoX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arget linkName=“BtoX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795920" y="441972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tivity X must be the target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rgument links of getLink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723920" y="38098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086600" y="38098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657600" y="38098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62520" y="41148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7880" y="5052960"/>
            <a:ext cx="286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starts when control poi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aches sequence and stat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 both incoming links is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7F7-EF46-4BA7-9F8C-E74AFD2C20FC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 at the Tar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aluates to fals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ult is thrown, else the activity is star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activity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ll not be execut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hen the status of all outgoing links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et to 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BD7-576B-40EA-9CF5-C724741A8EB3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33160" y="6324120"/>
            <a:ext cx="75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26080" y="380880"/>
            <a:ext cx="7779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s&gt; &lt;link  name=“AtoC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  name=“BtoC”/&gt; &lt;/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witch&gt;                                                         &lt;sequence  name=“C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se condition=“C1”&gt;                                      &lt;target  name=“AtoC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 name=“A”&gt;                                  &lt;target  name=“BtoC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AtoC”/&gt;                     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se condition=“C2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 name=“B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BtoC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wit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78840" y="2895480"/>
            <a:ext cx="3416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ly one case is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inCondition at C can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 evaluated until statu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th links are determ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C1 is chosen for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status of BtoC is se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gative (if that were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e C would never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default) joinCondition at C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ue when either C1 or C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l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1447920"/>
            <a:ext cx="152388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2514600" y="14479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864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in some cases a fal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Condi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fault; it is an indication that the activity should not be performed in a particular 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at case the status of all outgoing links should be set to false so tha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ther activities can be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use activity attrib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ressJoin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6AA-391A-461C-B4F0-8CDD85F63A0B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valu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ressJoinFail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ribute of an activit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i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Condi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r any nested activity) has valu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t is ready to exec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of al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outgoing links is set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skipped and execution continues (as if it had terminated without raising a fa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ad-path-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39A-469D-4265-B3A1-514809AA0F46}" type="slidenum">
              <a:t>1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1337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0481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0060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3880" y="4952880"/>
            <a:ext cx="349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for tranmitting p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neighboring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50532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5053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88620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0532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7120" y="42670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-to-end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6760" y="3048120"/>
            <a:ext cx="31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features to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interactions (re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control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DD6-F067-4ECD-AFB2-429E7388C7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6324120"/>
            <a:ext cx="75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049400" y="990720"/>
            <a:ext cx="7758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low suppressJoinFailure=“yes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nks&gt;  &lt;link  name=“AtoC”/&gt; &lt;/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witch&gt;                                                         &lt;sequence  name=“C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se condition=“C1”&gt;                                      &lt;target  name=“AtoC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 name=“A”&gt;                                           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urce linkName=“AtoC”/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se condition=“C2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  name=“B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wit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low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463000" y="3443400"/>
            <a:ext cx="350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is executed if C1 is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C1 is not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status of AtoC is se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gative and a join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ould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ppressing joinFailure a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to be silently ski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60F-36E0-4985-8D42-1EA2592ACB98}" type="slidenum">
              <a:t>1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poin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P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al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on the port types with which it commun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endpoint associated with a port type (and hence the identity of the BP instance with which it communicates) can 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lient can send in a message a reference to a callback endpoint to which server can send a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a BP can dynamically bind to another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BBF-24EB-4412-88F5-3ACAC4A1EB5D}" type="slidenum">
              <a:t>1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poin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part can contain an item of typ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pointReference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 defined in WS-Address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le 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nerLi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associa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point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EndPointRefer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d in a message can be assigned to a partner link to dynamically establish a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4AA-57C8-4C82-BA64-4290D9083D4D}" type="slidenum">
              <a:t>1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ddressing Specification for Endpoint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594324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21520" y="1676520"/>
            <a:ext cx="7331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EndpointReference   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space declar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Address&gt; … a URI … &lt;/wsa:Address&gt;         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ReferenceProperti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erties (child elements) are inserted her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wsa:ReferenceProperti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PortType&gt; …&lt;/wsa: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ServiceName&gt; … &lt;/wsa:Service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wsa:Policy&gt; … &lt;/wsa:Poli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wsa:EndpointRefer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03600" y="4724280"/>
            <a:ext cx="72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entifies WSDL extension namespac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point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o identify a particular instance of a BP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be suppl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9A0-ECD0-4759-B045-6C2052FEA24C}" type="slidenum">
              <a:t>1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point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aque to all but the service that created the endpoint (i.e., the service that will receive messages sent to the end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rvice sending a message to the endpoint blindly and literally copies properties in the endpoint reference into header blocks in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a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handle that identifies customer to cre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Type: identifies the associated port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Name: identifies the associated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89F-CC8C-4348-AF91-508E2AD394FB}" type="slidenum">
              <a:t>1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dpoint Referenc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45820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0600" y="1066680"/>
            <a:ext cx="804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essage name=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ye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  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=“</a:t>
            </a:r>
            <a:r>
              <a:rPr b="0" lang="en-US" sz="1800" spc="-1" strike="noStrike">
                <a:solidFill>
                  <a:srgbClr val="66ccff"/>
                </a:solidFill>
                <a:latin typeface="Times New Roman"/>
              </a:rPr>
              <a:t>serviceRefer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 type=“wsa:EndpointReferenceType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….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ortType name=“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buyer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operation name=“submit”&gt;  &lt;input message=“tns: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ye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ortType name=“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yerCallback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  &lt;operation name=“answer” ….  &lt;/port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lnk:partnerLinkType name=“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buyerStore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lnk:role name=“store”&gt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lnk:portType  name=“tns: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buyer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lnk:role name=“buyer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lnk:portType name=“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yerCallback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lnk:ro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lnk:partnerLink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55F-6231-4473-BB38-192E403A683D}" type="slidenum">
              <a:t>1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point Referenc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45820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2480" y="1090440"/>
            <a:ext cx="7424280" cy="53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nerLink  name=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nerLinkType=“as: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buyerStore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Role=“store”  partnerRole=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variable name=“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buye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messageType=“as: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uye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ceive name=“acceptFromBuyer”  partnerLink=“buy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Type=“as:buyerPT”  operation=“submit”  variable=“buyerData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ssig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rom variable=“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buye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part=“</a:t>
            </a:r>
            <a:r>
              <a:rPr b="0" lang="en-US" sz="1800" spc="-1" strike="noStrike">
                <a:solidFill>
                  <a:srgbClr val="66ccff"/>
                </a:solidFill>
                <a:latin typeface="Times New Roman"/>
              </a:rPr>
              <a:t>serviceRefer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o partnerLink=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assig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oke name=“respondToBuyer”  partnerLink=“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y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Type=“as: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buyerCallbackP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 operation=“answ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Variable=“…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AD8-3F3D-46F9-8A52-0E1CC9D9F928}" type="slidenum">
              <a:t>1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point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nerLin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(statically) specified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ment, the exchange of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point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ows a BP to dynamically bind to a BP that support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t to any B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5B6-57B6-4D57-91A5-4ED664B51794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 and Endpoin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an addres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av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P might want to send its own address (e.g., for a callback) or its partner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an addres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ild must be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nerRol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ou can’t change your own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14400" y="243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83760" y="2590920"/>
            <a:ext cx="58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rom partnerLink=“ … 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Reference=“myRole|partnerRole 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367280" y="533412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o partnerLink=“ … 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C7-359A-4A3F-A0AC-02141191E947}" type="slidenum">
              <a:t>1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scoping is provided through the scope activity in the conventional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, fault and compensation handlers, and correlation sets can be decl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are global since they are mapped to data in mess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030-14C8-4BE3-9546-CDDB76FDE95B}" type="slidenum">
              <a:t>1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s and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: browser capable of displaying HTML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erver: stores pages for distribution to cl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identified by Uniform Resource Locator (UR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protocol to be used to communicate with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- http, 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st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Directory server translates this into the host’s interne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– www.cs.sunysb.edu becomes 155.233.123.5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 name of file on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3124080"/>
            <a:ext cx="51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://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st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/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4E22-0AEB-429E-A628-0E93E960BA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ult has a unique name and an (optional) fault variable describing th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s of fa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icit rai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throw faultName=“trouble” faultVariable=“desc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PEL fa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ws:joinFailure   -  join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value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ws:conflictingReceiv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for s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t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i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withi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F14-425F-485C-8475-74A7BAFBC40F}" type="slidenum">
              <a:t>1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of faults (con’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lt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n invoke. The rep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s the faul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ableToHandleRequ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has synchronously inv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09480" y="2209680"/>
            <a:ext cx="671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ply partnerLink=“customer”  portType=“lns:loanService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request”  variable=“err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aul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unableToHandleRequest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04920" y="4038480"/>
            <a:ext cx="7328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Type name=“loanServiceP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name=“reques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message=“lns:creditInfoMsg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 message=“lns:approvalMsg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=“unableToHandleRequest”  message=“errorMsg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008120" y="25146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 = error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64008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7848360" y="2895480"/>
            <a:ext cx="6094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416-6407-467B-900C-56BF3537E807}" type="slidenum">
              <a:t>1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ply raises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ableToHandleRequ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ult in BP linked through partner lin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ult is handled there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500480" y="3290760"/>
            <a:ext cx="5142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tc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aul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unableToHandleRequ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Variable=“myErro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 the fault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t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93760" y="4800600"/>
            <a:ext cx="262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throw the same faul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/or clean-up and/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voke a comp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4267080" y="45716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474600" y="388620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 = error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5627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A5A-CB28-4725-9CD3-16884D943E47}" type="slidenum">
              <a:t>1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r is associated with an implicit or explicit scope; catches faults that occur in that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2286000"/>
            <a:ext cx="3962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Link=“loanApprovProc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lns:loanservice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reques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tc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aul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unable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Variable=“erro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 the 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t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8440" y="1981080"/>
            <a:ext cx="453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tc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aul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unableTo…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ultVariable=“erro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andle the 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t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handl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“loanApprovProc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lns:loanservice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request” …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7280" y="35053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066680" y="60958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licit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1371240" y="55627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418-119D-41C1-BE46-9D3BD065A44E}" type="slidenum">
              <a:t>1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 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faul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ccurs in some scop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of activities within are 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fault handler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tch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ndler has been declared loc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ecuted and execution resumes in the next enclosing scope at the activity follow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rown in the next enclosing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aid to have exi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norm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ler might reverse changes it has made to variables globa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voke compensation handlers for scopes nes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have complet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m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DD4-2404-496F-9928-74589427DA5F}" type="slidenum">
              <a:t>1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 Flow of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1295280"/>
            <a:ext cx="29718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352680" y="2514600"/>
            <a:ext cx="22100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20960" y="129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354840" y="2514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4800" y="2590920"/>
            <a:ext cx="13716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tch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· 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row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810960" y="4191120"/>
            <a:ext cx="8359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· 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row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3809880" y="2743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25780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952880" y="3581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248520" y="1752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4852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5409720" y="1752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502884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34320" y="342900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ither way, B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ited abnorm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8108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74000" y="3124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6629040" y="3428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46280" y="35193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57B-E735-4778-A5E4-7C9CB6722609}" type="slidenum">
              <a:t>1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P is a long running process involving invocations of operations at a number of Web services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nrealistic to treat a BP as a single transaction, since a particular service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ll not hold locks for the duration of the B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, an invocation at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ght be treated as a transaction that commits when it execu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does not support global atomicity (e.g., two-phase commit) over multiple invocations by a B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C34-E429-4AC4-8711-79DA51C38CA0}" type="slidenum">
              <a:t>1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-Running Business Transactions (L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the effect of a BP relies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service might offe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nsating op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synchronous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ncel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nsat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EL supports an LRT by providing compensation handl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application to specify a recovery strategy using compensat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uarantee of atomicity or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584-AF74-4B1B-8C82-F6CCA05B2B9C}" type="slidenum">
              <a:t>1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ensation Hand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r can be in the scop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declared loc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o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oes the effect of the scope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7960" y="3048120"/>
            <a:ext cx="78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oke  name=“invSeller”  partnerLink=“seller” portType=“</a:t>
            </a:r>
            <a:r>
              <a:rPr b="0" lang="en-US" sz="1800" spc="-1" strike="noStrike">
                <a:solidFill>
                  <a:srgbClr val="ff9999"/>
                </a:solidFill>
                <a:latin typeface="Times New Roman"/>
              </a:rPr>
              <a:t>SP:Pu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=“syncPurch” inputVariable=“sendPO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Variable=“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getRespo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ionHandl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oke partnerLink=“seller” portType=“</a:t>
            </a:r>
            <a:r>
              <a:rPr b="0" lang="en-US" sz="1800" spc="-1" strike="noStrike">
                <a:solidFill>
                  <a:srgbClr val="ff9999"/>
                </a:solidFill>
                <a:latin typeface="Times New Roman"/>
              </a:rPr>
              <a:t>SP:Pu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operation=“cancelPurc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Variable=“</a:t>
            </a:r>
            <a:r>
              <a:rPr b="0" lang="en-US" sz="1800" spc="-1" strike="noStrike">
                <a:solidFill>
                  <a:srgbClr val="cc3399"/>
                </a:solidFill>
                <a:latin typeface="Times New Roman"/>
              </a:rPr>
              <a:t>getRespo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outputVariable=“getConfirm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ompensationHandl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239240" y="32004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- invSeller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 of 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6E9-EFC5-442B-B8F1-767F53737089}" type="slidenum">
              <a:t>1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ing Compensat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nsation can only be performed for a scope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at has comple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rm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ensation handler is not “installed” until the associated scope has completed norm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(in contrast to a fault handler) a compensation handler must be invoked from outside the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nsation occurs when a failure is 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a compensation handler is invoked from a fault handler or a compensation handler in a glob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070-5467-42AA-B57C-2D24F2DC1C5F}" type="slidenum">
              <a:t>1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Reques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3080" y="2057400"/>
            <a:ext cx="7756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line:     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&gt; &lt;URL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protocol_version&gt;  Cr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: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header&gt;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:     Cr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:    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= GET | HEAD | POST | PUT |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tocol_ver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= HTTP/1.1 |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657600"/>
            <a:ext cx="1676520" cy="1066680"/>
          </a:xfrm>
          <a:prstGeom prst="wedgeRoundRectCallout">
            <a:avLst>
              <a:gd name="adj1" fmla="val -152462"/>
              <a:gd name="adj2" fmla="val -794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7040" y="3672000"/>
            <a:ext cx="14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ev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443-99D0-4995-90D1-149C1BEDBD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oking Compen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most one compensation handler can be explicitly declared local to a scope (in contrast to fault handl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has a name; handler is invoked u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compensate name=“scopeName”/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r is installed when scope is exited normally (at that point compensation is meaningfu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CEA-578A-4C57-9F3F-FE7AFE28F10E}" type="slidenum">
              <a:t>1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er Inv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200400" y="1295280"/>
            <a:ext cx="2971800" cy="533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733920" y="2286000"/>
            <a:ext cx="2286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191120" y="3429000"/>
            <a:ext cx="1752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91120" y="1371600"/>
            <a:ext cx="1904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343400" y="23623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20184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35720" y="2286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192920" y="3429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53400" y="5791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row 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266360" y="13716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tch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419720" y="2362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163280" y="129528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164000" y="22860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 f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9960" y="342900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 fo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876920" y="35053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86692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866920" y="251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638320" y="365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08760" y="4876920"/>
            <a:ext cx="188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though B, C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may have 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mally, A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it abnorm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this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43828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191120" y="47242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48006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2560" y="472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9960" y="462456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 for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5714640" y="4876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42C-4482-4171-AA49-EE1DF011C2BE}" type="slidenum">
              <a:t>1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43760" y="685800"/>
            <a:ext cx="75675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tch faultName=“unableTo…”  faultVariable=“error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ensate scop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Ba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tc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name=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vBa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partnerLink=“myBank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bankPT”  operation=“Op” …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ionHandl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“myBank” portType=“bankPT”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=“cancelOP” …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ensationHandl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voke partnerLink=“loanApprovProc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Type=“lns:loanservicePT”  operation=“request” …..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vok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7391520" y="3200400"/>
            <a:ext cx="121896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306280" y="281952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76920" y="1828800"/>
            <a:ext cx="259056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6858000" y="167616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08840" y="335268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267080" y="358128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2680" y="441972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990720" y="4800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15000" y="44956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 return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normal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010280" y="5029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391520" y="441972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51440" y="20718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Han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724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uppose a fault handler is not declared 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ation handler for C cannot be called from with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ault fault handler in B automatically invokes declared compensation handlers of immediately enclosed scopes and then rethrow the 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295280"/>
            <a:ext cx="312444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19920" y="2209680"/>
            <a:ext cx="24382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00800" y="2743200"/>
            <a:ext cx="19810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162920" y="28954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87840" y="129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21720" y="220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4789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11320" y="2286000"/>
            <a:ext cx="89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325560" y="5029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row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06400" y="3276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 fo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24280" y="251424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0292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D5EF-931C-4A77-B886-BF8F94FD32FD}" type="slidenum">
              <a:t>1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Han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uppose a compensation handler                  is not declared 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ation handler for C cannot be called from with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ault compensation handler in B automatically invokes declared compensation handlers of immediately enclosed sc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410080" y="990720"/>
            <a:ext cx="32004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19920" y="2209680"/>
            <a:ext cx="24382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00800" y="2743200"/>
            <a:ext cx="19810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62920" y="28954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87840" y="1295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21720" y="2209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478920" y="27432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29720" y="228600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25560" y="586728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row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506400" y="3276720"/>
            <a:ext cx="145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ndler for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724280" y="251424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5029200" y="32004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553080" y="1066680"/>
            <a:ext cx="19051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657960" y="121932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aul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or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800600" y="1676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705000" y="1143000"/>
            <a:ext cx="16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tch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ensat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A40-D59A-4120-9A37-210C834B3CEF}" type="slidenum">
              <a:t>1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a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800360" y="2376360"/>
            <a:ext cx="6070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rocess name=“…”   abstractProcess=“yes|no”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rtnerLinks&gt; … &lt;/partnerLink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variables&gt; … &lt;/variabl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rrelationSets&gt; … &lt;/correlationSet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aultHandlers&gt; … &lt;/fault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ensationHandlers&gt; … &lt;/compensationHandl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roc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D40-9246-4DD7-962C-AAFA47173AA1}" type="slidenum">
              <a:t>1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DDI                              Universal Description,  Discovery, and Integ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952520" y="2819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UD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means by whi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 can publish information about thei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ervices the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obtain thos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or can find information abou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roviders provide a particula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tails of how to obtain a particular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9D7-AB44-4D73-B558-BC30AF3CC40B}" type="slidenum">
              <a:t>1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UDDI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egistry (database) that contains information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provided by thos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zation information that can be used for searches to find businesse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DL description of thos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n interface (query and update language)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ing information into the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information in the regi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51F-523C-47DA-A34C-540014AC00C1}" type="slidenum">
              <a:t>1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Stored in a UDDI Reg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p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address, contact person, Web sit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llow p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of business, location, products,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-standard categorization taxonomies for industry type, business, services, locatio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 p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information about business services, including a pointer to its WSDL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900-4C04-4E2E-B28F-033FFA376651}" type="slidenum">
              <a:t>1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Reques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040" y="1289160"/>
            <a:ext cx="9276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: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sender’s e-mail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acceptable respons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-Agent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identifies requestor’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identifies SOAP processor to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(if data is a SOAP messag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-Modified-Since |   -- send document only if mod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used with G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Type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type of dat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/soap+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- destination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ASCII text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A06-D735-4408-AF8F-39541919F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Categ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ICS (North American Industry Classification System) provides a categorization by industry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1111 corresponds to Scheduled Passenger Air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ISO (International Organization for Standardization provides a categorization by geographic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 3166-2:US-CA corresponds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E2A-020C-4F83-85F7-365F08BD220C}" type="slidenum">
              <a:t>1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DDI  Data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61C-016B-4BDB-8529-BFE35F556F2B}" type="slidenum">
              <a:t>1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DI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Entity  (white page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address, contact person etc. categorization information about a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Service  (yellow page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, informal description, categorization information about 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Template  (green page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or physically accessing 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where the service can be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 tModels, which point to the WSDL description of th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DC3-B177-4246-9741-7EA6F8956B28}" type="slidenum">
              <a:t>1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DDI Data Model -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odel  (technology model)  (green p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 description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to its WSD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Asser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for describing relationships between businesses  (like a relationship table in 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CFC-ED60-479C-8F8C-7FA5C8557C15}" type="slidenum">
              <a:t>1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52280" y="685800"/>
            <a:ext cx="19814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286000" y="236232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733920" y="4495680"/>
            <a:ext cx="2438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3200400"/>
            <a:ext cx="12952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495680" y="838080"/>
            <a:ext cx="11430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67480" y="762120"/>
            <a:ext cx="1447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238880" y="304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91120" y="380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rAsse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86000" y="1905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038480" y="4114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62940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04920" y="906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54380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9568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1371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1752480" y="1066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181480" y="1143000"/>
            <a:ext cx="2362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362320" y="243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12193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62320" y="2819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200400" y="32767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51814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odelInstance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55308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odel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486400" y="3580920"/>
            <a:ext cx="9907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4800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33520" y="5249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80880" y="5410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DD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914400" y="58672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ntity has a uniqu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E25-B4CC-4442-95F1-70DCE5DF9657}" type="slidenum">
              <a:t>1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Schema for business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Bag (categorization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4B3-DF35-4695-9957-2C51F5625B46}" type="slidenum">
              <a:t>1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usinessEnt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usinessEntity  businessKey = “uuid:123…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SlowHawk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escription&gt; Airline &lt;/descri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usinessServic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usinessService&gt; …. &lt;/businessServ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usinessServic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ategoryBag&gt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expand this example l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ategoryB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usinessEnt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135-C648-46BB-ADAD-425953100D53}" type="slidenum">
              <a:t>1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Schema for businessServ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Bag (categorization infor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FAB-C3AE-475F-A532-DE6D94A4D147}" type="slidenum">
              <a:t>1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usiness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usinessService  serviceKey = “uuid:123...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ame&gt; Fare Service  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escription&gt; Provides fares for flights &lt;/descrip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indingTempla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indingTemplate&gt; ….. &lt;/binding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indingTemplate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ategoryBag&gt; ….  &lt;/categoryBag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usinessServ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554-36EF-4ADD-8FB3-CFCC8E76AAF2}" type="slidenum">
              <a:t>1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Schema for binding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ding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Point 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odelInstance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odelKey  (pointer to t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8DA-F5D4-4D37-9ECD-F9AC76AA1B2A}" type="slidenum">
              <a:t>1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and B2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be familiar with Customer-To-Business (C2B) Services in which people interact with businesses by clicking on their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interested in Business-To-Business (B2B) Services in which services are provided by programs from different businesses that se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ach other with little or no human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262-E9F0-4906-8309-46554D71A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– response body contains data identified by argument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– response header describes data identified by argument URL (no response bo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: has page changed since last fetch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 – request body contains page to be stored at argument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1A1-3F2D-4A07-8C04-D19307E9B7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indingTempl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indingTemplate   bindingKey = “uuid:123...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escription&gt; GerFare SOAP binding &lt;/descrip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ccessPoint  URLType=“http”http://localhost:8080 &lt;/accessPoi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ModelInstanceDetail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ModelInstanceInfo   tModelKey= “uuid: ……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ModelInstanceInf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ModelInstanceInfo   tModelKey= “uuid: ……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ModelInstanceInf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ModelInstanceDetails&gt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inding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B40-CB4B-4620-9385-A4C5E63605CD}" type="slidenum">
              <a:t>2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Schema for t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odel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pointer to location of WSDL interface specifications  (all specifications except end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Bag  (id namespaces used for se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Bag  (Categorization information and pointers to t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868-7561-4335-9461-9DCB30E575BE}" type="slidenum">
              <a:t>2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t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Model   tModelKey = “uuid:123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ame&gt; getFareInterface &lt;/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description&gt; Interface to getFare &lt;/descrip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overviewDoc&gt;             http://www.SlowHawk.com/service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overviewDoc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tMode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F96-3426-48D4-B53F-DD1879BD7176}" type="slidenum">
              <a:t>2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t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odels can also be  used to store information about and pointer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zations for business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Bags can point to t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riteria for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451-92DA-4892-8627-E6CD212E7042}" type="slidenum">
              <a:t>2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usinessEntity that uses tModels for Categ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Entity  businessKey = “uuid:123…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ame&gt; SlowHawk 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escription&gt; Airline &lt;/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ntacts&gt; ……&lt;/contact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usinessServic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businessService&gt; …. &lt;/businessServi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businessServic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ategoryB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keyed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Name = “Scheduled Passenger Air Transporta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Value =  “481111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odelKey =“uuid:C0B9FE13-179F-413D-8A5B-5004DB8E5BB2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ategoryBag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businessEntit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B1F9-5D3E-49AC-8670-886C16EA8EFE}" type="slidenum">
              <a:t>2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ng WSDL to UD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WSDL service i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name attribute of WSDL service or informal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nd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WSDL service is provided i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ding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s, messages,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nd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WSDL service are accessible by pointers i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2CC-8CC2-468A-A920-C5291561EFB3}" type="slidenum">
              <a:t>2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t Practice” in using t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information about Interface and Binding in different t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Template, which contains the address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oints to two t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ntaining information abou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ontaining information abou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llows the  tModel describ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shared amo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different businesses that use different bindings for the same generic serv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one business that supports different bindings for the same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D01-9272-4B22-A9A9-FE699F4D6B0B}" type="slidenum">
              <a:t>2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152280" y="685800"/>
            <a:ext cx="19814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86000" y="22860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33920" y="4495680"/>
            <a:ext cx="2438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95680" y="838080"/>
            <a:ext cx="11430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467480" y="762120"/>
            <a:ext cx="1447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28600" y="304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304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191120" y="3808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rAsse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286000" y="1905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38480" y="4114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629400" y="27432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906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543800" y="990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495680" y="990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72000" y="13716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1752480" y="1066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5181480" y="1143000"/>
            <a:ext cx="2362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0" y="2590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ce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04920" y="13716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52480" y="16002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86000" y="2971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200400" y="3276720"/>
            <a:ext cx="6858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86200" y="51814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odelInstance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55308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Model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486400" y="3580920"/>
            <a:ext cx="99072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86200" y="48006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33520" y="52498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5257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DDI  Data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422440" y="33526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403880" y="552492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00800" y="39625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er to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705720" y="48769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77120" y="5791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er to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7724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8487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562720" y="525780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477120" y="3352680"/>
            <a:ext cx="13716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400800" y="3581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er to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77120" y="5334120"/>
            <a:ext cx="144756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00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er to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000-51A5-4115-B2F4-B44E3CF306BD}" type="slidenum">
              <a:t>2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quiry and Publisher Inte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ECE-4F0C-44E6-8FF9-CF859A2AB158}" type="slidenum">
              <a:t>2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and Publisher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users of a service can search for the names of businesses that provide that service and the WSDL description of the service provided by each such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es that provide a service can publish information about that service including its WSD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0D6-D08B-4C15-96DC-C439F674DF52}" type="slidenum">
              <a:t>2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es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 – delete data at argument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– request body contains a new object to be placed subordinate to object at argument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: adding file to directory named by 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: information entered by user on displayed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6F5-78E9-4006-B11B-325FD00C8F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_business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ll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E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atisfy the specified business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_service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ll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atisfy the specified service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_binding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ll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dingTempl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atisfy the specified binding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_tModel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all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atisfy the specified tModel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556-927E-4B62-9DE0-B9F363423F70}" type="slidenum">
              <a:t>2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businessList message containing information about all the businessEntities that satisfy a particula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serviceList message containing information about all the businessServices that satisfy a particula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t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tModelList message containing information about all  the tModels that satisfy a particula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bindingDetail message that includes information about all the bindingTemplates that satisfy a particula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_related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a relatedBusinesses message containing information about all the businessEntities related to a given  businessEntity based on a particula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720F-8176-45CA-A914-0CC01B72D8BF}" type="slidenum">
              <a:t>2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ons for Find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Criteria (can be  ANDed or OR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Qual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ct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insensitive 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results by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930-01F9-47E7-8D8C-6F757AD898D4}" type="slidenum">
              <a:t>2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er Interf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operations, 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_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or updat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_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siness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_service, delete_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_binding, delete_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_tModel, delete_t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rgument  of each operation is authenticatio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E86-39E9-49F4-A767-32DA312C804B}" type="slidenum">
              <a:t>2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 Web Service for the UDDI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DL Web services have been defined for the inquiry and publisher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quire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shSo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863-9593-4C2D-8DFE-C7C4D2195AD8}" type="slidenum">
              <a:t>2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eSoap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terface name = “InquireSoa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peration name = “find_busin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=“http:www.w3.org.2003/06/wsdl/in-out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put message = “tns:find_business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utput message = “tns:businessList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ault name = “err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= “tns:dispositionReport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interfa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B02-4E27-404B-8BD5-7C201A97ADEA}" type="slidenum">
              <a:t>2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 name="find_business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name="body“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="uddi:find_business"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name="businessList"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name="body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="uddi:businessList"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792-3BFF-43CB-87FF-582E3100704A}" type="slidenum">
              <a:t>2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find_busin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find_business   generic = “2.0” xmlns = “..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ame&gt;SlowHawk&lt;/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find_busines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CBD2-9CDC-4AE0-A387-61AF043EED80}" type="slidenum">
              <a:t>2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omplex find_busin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ind_business   generic = “2.0”  xmlns = “..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indQualifiers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indQualifier&gt;sortByNameDesc&lt;/findQualifi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indQualifier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ategoryBa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Name=“Scheduled Passenger Air Transport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Value=“48111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odelKey=“uuid:C0B9FE13-179F-413D-8A5B-5004DB8E5B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ategoryBa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ind_busin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504-1AB1-4414-B792-6072218F1EE3}" type="slidenum">
              <a:t>2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Qua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ndQualifier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indQualifier&gt;exactNameMatch&lt;/findQualifier&gt; &lt;findQualifier&gt;caseSensitiveMatch&lt;/findQualifier&gt; &lt;findQualifier&gt;sortByNameAsc&lt;/findQualifier&gt; &lt;findQualifier&gt;sortByNameDsc&lt;/findQualifier&gt; &lt;findQualifier&gt;andAllKeys&lt;/findQualifier&gt; &lt;findQualifier&gt;sortByDateAsc&lt;/findQualifier&gt; &lt;findQualifier&gt;sortByDateDsc&lt;/findQualifi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indQualifiers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B2B-01DE-46DB-8544-D08F7BF8C571}" type="slidenum">
              <a:t>2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lient/Server Interac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supplies URL (clicks on li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yourbusiness.com/~items/printer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Browser translates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(yourbusiness.com)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_internet_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using name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 Browser assumes a port number of 80 for http (if no port is explicitly provided as part of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t port 80 interprets http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60E-78B1-42A4-91B0-916C4F6F41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businessL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usinessList  ………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usinessInfo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usinessInfo businessKey = ……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SlowHawk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viceInfo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viceInfo  serviceKey= …..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…….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erviceInfo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erviceInfo serviceKey=…..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……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erviceInfo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erviceInfo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usinessInfo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usinessInfo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usiness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6F6-B25E-4E10-8E20-DDA3B8AFEB3F}" type="slidenum">
              <a:t>2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lishSoap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terface  name = “PublishSoap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 name = “save_busines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=“http:www.w3.org.2003/06/wsdl/in-ou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 message = “tns:save_business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 message = “tns:businessDetail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fault name = “error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= “tns:dispositionReport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terfa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A23-B8F8-4E92-8CE5-627BCC45AA85}" type="slidenum">
              <a:t>2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 name = “save_business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body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= “uddi:save_busines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 name = “business_detail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body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= “uddi:business_detail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A8B-A1F3-44B9-8207-3F978F5CC4E7}" type="slidenum">
              <a:t>2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scriptio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DI also provides a subscrip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ors can be notified when there is any changes in the information about a particular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f a requestor uses a service frequ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2D6-146C-403E-B938-45B73480F916}" type="slidenum">
              <a:t>2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s for Using UD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ompanies supply free access to a graphical interface to their experimental UDDI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dd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ib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com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estregistry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udd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microsoft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ompanies supply graphic tools for querying and updating UDDI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by Google (uddi “graphic interfac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ompanies provide a Java API for querying and updating UDDI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by Google (uddi “java api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BDC-BF8B-403D-BAAB-035AC9A3D8A3}" type="slidenum">
              <a:t>2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actions and Web Serv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952520" y="2819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ctivity is composed of components (Web services) that form a unit of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properties are sometimes but not always appropriate si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vity is frequently long-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is loosely coup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loading (and hence  response time) is un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onent might not retain locks it acquires for the duration of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might not trus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 are controlled by different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s more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E89-A6EF-450D-8E03-0949FCF47363}" type="slidenum">
              <a:t>2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ices Inte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ization of the transaction construct is needed to coordinate the execution of an activity on the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does not support transactions (although it provides for compens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 for organizing activities in different ways and providing some form of atomicity are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tomic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Business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D727-B0CF-4A00-91D5-97509DB0B470}" type="slidenum">
              <a:t>2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s to the mechanism used by the components to reach some common go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the two-phase commit is a coordin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, the goal of WS-Coordination is to support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21B-BE70-4C52-A9DD-190033E67DAC}" type="slidenum">
              <a:t>2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components iden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exceptional situations to be hand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related failures (e.g., crash, communication fail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related exceptions (e.g., unanticipated mess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itutes successful termin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es are assumed to exist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rganize the components of an activity to achieve an arbitrary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782-E23D-4C0D-B7D4-ED9937023ABE}" type="slidenum">
              <a:t>2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lient/Server Interac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 Browser sets up TCP connection to yourbusiness.com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host internet address, 8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 Browser sends http message                         GET ~items/printers.html HTTP/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conn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FB4-CF69-4BCE-9DE3-5579A83E2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on is implemented using three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ation Servi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S-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new activity with a particular CoordinationType: AtomicTransaction or Business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type supports several termination protocols; a participant can choose the protocol appropriate to its role in the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ed by coordinato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stration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ar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each participant to register for a protocol within th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participants in the same activity might use different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ed by coordinato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 Servi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the execution of the protocol as specified 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-AtomicTransaction or WS-Business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1D1-ACC8-4E0E-9DE1-8E6C3CD991FC}" type="slidenum">
              <a:t>2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Coord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pplication that wants to initiate an activity invok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eCoordinationCont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eration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ation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coordinator to create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ion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nique over all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rdination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tomic transaction or busines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ypes can be added, perhaps unrelated to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point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d to address the registration service to register for a particular protocol supported by the Coordination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965-209C-48E5-987C-EE103B29C379}" type="slidenum">
              <a:t>2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Activ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k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eCoordinationContex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et a contex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new activity of coordination 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coordina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an application message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OAP is used, the context is a header block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Understand=“tr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•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use the endpoint referenc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registration service) to register for protocols (perhaps different, but support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5C10-AE1A-4E46-8B88-F1431D5ED9DE}" type="slidenum">
              <a:t>2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Activ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want to use a differ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: performance,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CoordinationContex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 coordinat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s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a new contex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the same identifier and CoordinationType and returns i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sters for a protoco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s for a protoco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sters for the same protocol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AF9E-1D98-4CA7-BEC5-AA993E43130B}" type="slidenum">
              <a:t>2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990720" y="18590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990720" y="44496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124080" y="18590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638680" y="42210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638680" y="292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315200" y="29257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77120" y="185904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44496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1828800" y="2087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37800" y="1752480"/>
            <a:ext cx="1416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CCC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828800" y="2468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85880" y="2514600"/>
            <a:ext cx="163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(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81280" y="277344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1828800" y="4678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828800" y="5059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16400" y="4191120"/>
            <a:ext cx="187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CCC(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447920" y="277344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762200" y="5135400"/>
            <a:ext cx="163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(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374400" y="3399120"/>
            <a:ext cx="163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(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5400000">
            <a:off x="3008160" y="3438720"/>
            <a:ext cx="162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ppMsg(co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6324120" y="262080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095880" y="3840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238880" y="262080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52240" y="5791320"/>
            <a:ext cx="404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CCC = CreateCoordinationCont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51040" y="57913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11480" y="1523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87640" y="33526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11480" y="27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11480" y="3886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271600" y="5372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11280" y="3276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013-68D1-40E4-8C9A-7549308FBBE9}" type="slidenum">
              <a:t>2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tion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nt explicitly registers for a particular protocol supported by the Coordination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s with two-phase commit for distributed transactions where registration is automatic when server is in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Service returns an endpoint reference for the Protocol Service that will control the exchange of messages specific to the particular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19C-ADED-4AF4-88E5-97FB45EB21CC}" type="slidenum">
              <a:t>2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tomic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ordination type that implements transactional atomicity using two-phase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ded for tightly-coupled, short-lived activities within a single organizationa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systems should trust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y must be responsive since locks are held until protocol comple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ingle system can (perhaps maliciously) abort the entire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itiates termination, final result returned (no durable resour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mit, rollback, commit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or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Phase Commit (with presumed ab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latile 2P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no durable resour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able2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  (durable resour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pare, vote, commit, rollback, readOn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or cohorts that need not participate in phase 2)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borted, committe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one)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pl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for cohorts dealing with failure)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8C2-C755-4D70-A84B-A2603683B244}" type="slidenum">
              <a:t>2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atile vs. Durable 2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cal protocols with the following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cohorts registered for volatile 2PC must respond to coordinator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before coordinator s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to cohorts registered for durable 2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ort registered for volatile 2PC is not guaranteed to recei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/ab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 from coordinator (since it does not support durable resources, the message serves no pur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CD3-A5CB-43E1-AB6F-25B21CDA2D0C}" type="slidenum">
              <a:t>2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atile Two-Phase 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caching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p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aching service for data durably sto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A mechanism is needed to force updates of a transa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ach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, dirty pages)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ompletion is not known until a cohort registered for the completion protocol sends 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 to the 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oordinator send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ssages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the same tim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enter prepared state before learning of all dirty page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35F3-75AD-4340-B85A-FA8A4B8BD0E7}" type="slidenum">
              <a:t>2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atile Two-Phase 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s for volatile 2PC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gisters for durable 2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irty data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it receiv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, prior to responding to coordinator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ware of al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dirty pages befor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 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make resources durable before v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not have to store data durably, it does not need to kno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out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8AB-1631-4F30-BCC9-20F35AC44E42}" type="slidenum">
              <a:t>2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84960" y="2209680"/>
            <a:ext cx="7832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line: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HTTP_version&gt; &lt;status_cod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&lt;reason_line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025-1232-4B80-B563-963D62C47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tomic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ipant might register for several protocols (e.g., completion and 2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message exchange of the 2PC is well defined, an off-the-shelf protocol service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tocol service might be provided by the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715-657B-4BBC-8D8C-F95BC63DDF11}" type="slidenum">
              <a:t>2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BusinessActivity coordination type is intended for loosely-coupled, long-lived activities that span autonomous Web-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nts might make state transitions durable and visible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nsating actions must be used to reverse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nts might withdraw unilaterally while activity is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hip in activity is 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constructed from atomic transactions at the individual si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CAF-B1E6-4DE5-9AF6-48942A2CE7BD}" type="slidenum">
              <a:t>2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might span multiple trus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ing global atomicity is problematic if systems are unresponsive or untrustwor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ditions that constitute successful termination might be application dependent. 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ity of participants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of some participant might be acceptable; failure of another might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/failure might depend on values ex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, an off-the-shelf protocol service might not be appropriate; the application might have to control the exchange of protocol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394-B762-4EB6-B765-BA573BBFA02B}" type="slidenum">
              <a:t>2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 and Atomic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transactions are designed to handle system generated exceptions (crash, deadlock, communication fail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back guarantees a return to a 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states are not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432-73BF-4F47-909E-4449C08B5708}" type="slidenum">
              <a:t>2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 and Business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siness activity generally uses atomic (sub-) transactions to move application from one consistent (intermediate) state to an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invo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business activit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create an atomic transaction (different Id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s successfull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commit it immediately or wait unti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ple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 does not complete successfully (because of a system generated exception) the failure is handled by the 2PC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logic (using compensation) handles application-generated exceptions resulting from the outcom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tomic subtransa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D83-5734-43DE-A330-5701148B047D}" type="slidenum">
              <a:t>2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Generated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do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vice does not resp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rt business activity or find another service that does the same thing or continue processing (response is not essent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vice sends an unanticipated messs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rt business activity or notify initiator or discard mess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action might depend on application state, it is convenient to integrate coordination with th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point reference returned by the registration service can refer to a module within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782B-094D-426A-A6C6-7795FCC476ED}" type="slidenum">
              <a:t>2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usiness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BusinessActivity coordination type currently supports two protoco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AgreementWithParticipantComple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AW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nt registering for this protocol can initiate its own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AgreementWithCoordinatorComple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AW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nt registering for this protocol expects coordinator to tell it when it has 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A7C-4399-4BCE-94EE-20D764D3D32B}" type="slidenum">
              <a:t>2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Business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s of same business activity might register for different protocols depending on who is responsible for determining com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application might register for BAWPC, other participants for BAW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 participant might register for BAWCC; initiator for BAW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356-96C7-49DA-B612-E01E67E04426}" type="slidenum">
              <a:t>2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WPC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nalagous to a vot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articipant leaves the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articipant is forced out of the protocol by the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se/Compens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in completed state coordinator decides on outcome based on coordination logic specified in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articipant notifies coordinator that it has fai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4A3-9581-4FEB-9E6A-26A347D555DF}" type="slidenum">
              <a:t>2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er and sell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e in a business activity using BAW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is coordinator; protocol service is implemented in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er sends copies of a purchase orde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 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not make a quote, respond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u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quotes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ompleted success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er choo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successfully participated in a terminated business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ould rollback any action it has 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AF9-2C5E-42AF-AF4D-AEE7FAA1D434}" type="slidenum">
              <a:t>2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120" y="1523880"/>
            <a:ext cx="841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_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 3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2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bad request from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erver failed to fulfill valid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son_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 explanation for human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: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r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_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=  Allowed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methods supported by 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reation date fo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ires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expiration date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-Modified 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creation date fo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Length | Content-Type |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4FF-6B4F-4E27-9B9E-6E1675C2F5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WPC Stat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905120" y="1523880"/>
            <a:ext cx="11430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962520" y="2057400"/>
            <a:ext cx="7617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066680" y="3200400"/>
            <a:ext cx="7621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743200" y="3200400"/>
            <a:ext cx="11430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733920" y="43434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095880" y="4648320"/>
            <a:ext cx="990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952880" y="3124080"/>
            <a:ext cx="8384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781680" y="3124080"/>
            <a:ext cx="9144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2880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91320" y="3429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1676520" y="2437920"/>
            <a:ext cx="2286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5029200" y="358092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05520" y="480060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724280" y="2438280"/>
            <a:ext cx="2133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1447920" y="205704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05320" y="38098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48120" y="1612800"/>
            <a:ext cx="4038480" cy="1511280"/>
          </a:xfrm>
          <a:custGeom>
            <a:avLst/>
            <a:gdLst/>
            <a:ahLst/>
            <a:rect l="l" t="t" r="r" b="b"/>
            <a:pathLst>
              <a:path w="2544" h="952">
                <a:moveTo>
                  <a:pt x="0" y="136"/>
                </a:moveTo>
                <a:cubicBezTo>
                  <a:pt x="628" y="68"/>
                  <a:pt x="1256" y="0"/>
                  <a:pt x="1680" y="136"/>
                </a:cubicBezTo>
                <a:cubicBezTo>
                  <a:pt x="2104" y="272"/>
                  <a:pt x="2324" y="612"/>
                  <a:pt x="2544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6705720" y="373392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658680" y="54864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17920800">
            <a:off x="1226520" y="2398680"/>
            <a:ext cx="7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76520" y="35053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10400" y="25909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14080" y="22478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09880" y="1371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47760" y="34671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792400" y="3429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243040" y="453384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rot="17722200">
            <a:off x="6632640" y="411156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rot="20171400">
            <a:off x="5258160" y="39625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943600" y="5638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436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552360" y="541008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or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1280" y="579132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nt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240" y="39625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28960" y="480060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gnals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600200" y="3809880"/>
            <a:ext cx="4572000" cy="1816200"/>
          </a:xfrm>
          <a:custGeom>
            <a:avLst/>
            <a:gdLst/>
            <a:ahLst/>
            <a:rect l="l" t="t" r="r" b="b"/>
            <a:pathLst>
              <a:path w="2880" h="1144">
                <a:moveTo>
                  <a:pt x="0" y="0"/>
                </a:moveTo>
                <a:cubicBezTo>
                  <a:pt x="216" y="436"/>
                  <a:pt x="432" y="872"/>
                  <a:pt x="912" y="1008"/>
                </a:cubicBezTo>
                <a:cubicBezTo>
                  <a:pt x="1392" y="1144"/>
                  <a:pt x="2136" y="980"/>
                  <a:pt x="288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1523880" y="388620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1430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ave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523880" y="17524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629040" y="1066680"/>
            <a:ext cx="20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of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ween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828080" y="58910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lication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volved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 rot="10800000">
            <a:off x="2437200" y="3732480"/>
            <a:ext cx="914040" cy="441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40" y="5"/>
                </a:moveTo>
                <a:arcTo wR="10800" hR="10800" stAng="-5291830" swAng="5291830"/>
                <a:lnTo>
                  <a:pt x="10800" y="10800"/>
                </a:lnTo>
                <a:close/>
              </a:path>
              <a:path fill="none" w="21600" h="21600">
                <a:moveTo>
                  <a:pt x="11140" y="5"/>
                </a:moveTo>
                <a:arcTo wR="10800" hR="10800" stAng="-5291830" swAng="5291830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943600" y="64008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53800" y="6172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64A-2E96-4ADE-843E-C4F7FEB981B8}" type="slidenum">
              <a:t>2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WCC Stat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819520" y="1554120"/>
            <a:ext cx="11430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876920" y="2087640"/>
            <a:ext cx="7617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0880" y="3276720"/>
            <a:ext cx="7621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3200400"/>
            <a:ext cx="11430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48320" y="437364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010280" y="4678200"/>
            <a:ext cx="99072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867280" y="3154320"/>
            <a:ext cx="8384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696080" y="3154320"/>
            <a:ext cx="9144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705720" y="34592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590920" y="246852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943600" y="36115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019920" y="483084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638680" y="2468520"/>
            <a:ext cx="2133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1066680" y="2087640"/>
            <a:ext cx="1981440" cy="13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72000" y="3809880"/>
            <a:ext cx="38088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18148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62520" y="1643040"/>
            <a:ext cx="4038480" cy="1511280"/>
          </a:xfrm>
          <a:custGeom>
            <a:avLst/>
            <a:gdLst/>
            <a:ahLst/>
            <a:rect l="l" t="t" r="r" b="b"/>
            <a:pathLst>
              <a:path w="2544" h="952">
                <a:moveTo>
                  <a:pt x="0" y="136"/>
                </a:moveTo>
                <a:cubicBezTo>
                  <a:pt x="628" y="68"/>
                  <a:pt x="1256" y="0"/>
                  <a:pt x="1680" y="136"/>
                </a:cubicBezTo>
                <a:cubicBezTo>
                  <a:pt x="2104" y="272"/>
                  <a:pt x="2324" y="612"/>
                  <a:pt x="2544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7620120" y="37638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182560" y="53341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rot="19450200">
            <a:off x="1600560" y="23619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35812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886920" y="23623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928480" y="2278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14018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182560" y="35053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06800" y="3459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157440" y="45640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7722200">
            <a:off x="7699320" y="41418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ul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rot="20171400">
            <a:off x="6248880" y="40687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638680" y="5943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638680" y="6324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323760" y="57150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tor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322680" y="60958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nt 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5120" y="3276720"/>
            <a:ext cx="12189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14300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066680" y="358128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143000" y="2362320"/>
            <a:ext cx="3733920" cy="1066680"/>
          </a:xfrm>
          <a:custGeom>
            <a:avLst/>
            <a:gdLst/>
            <a:ahLst/>
            <a:rect l="l" t="t" r="r" b="b"/>
            <a:pathLst>
              <a:path w="2352" h="672">
                <a:moveTo>
                  <a:pt x="0" y="672"/>
                </a:moveTo>
                <a:cubicBezTo>
                  <a:pt x="428" y="464"/>
                  <a:pt x="856" y="256"/>
                  <a:pt x="1248" y="144"/>
                </a:cubicBezTo>
                <a:cubicBezTo>
                  <a:pt x="1640" y="32"/>
                  <a:pt x="2168" y="24"/>
                  <a:pt x="23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2590920" y="21333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rot="18226800">
            <a:off x="2162520" y="279108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3809880"/>
            <a:ext cx="6248520" cy="2210040"/>
          </a:xfrm>
          <a:custGeom>
            <a:avLst/>
            <a:gdLst/>
            <a:ahLst/>
            <a:rect l="l" t="t" r="r" b="b"/>
            <a:pathLst>
              <a:path w="3936" h="1392">
                <a:moveTo>
                  <a:pt x="0" y="0"/>
                </a:moveTo>
                <a:cubicBezTo>
                  <a:pt x="560" y="552"/>
                  <a:pt x="1120" y="1104"/>
                  <a:pt x="1776" y="1248"/>
                </a:cubicBezTo>
                <a:cubicBezTo>
                  <a:pt x="2432" y="1392"/>
                  <a:pt x="3184" y="1128"/>
                  <a:pt x="3936" y="86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809880"/>
            <a:ext cx="4419360" cy="1727280"/>
          </a:xfrm>
          <a:custGeom>
            <a:avLst/>
            <a:gdLst/>
            <a:ahLst/>
            <a:rect l="l" t="t" r="r" b="b"/>
            <a:pathLst>
              <a:path w="2784" h="1088">
                <a:moveTo>
                  <a:pt x="0" y="0"/>
                </a:moveTo>
                <a:cubicBezTo>
                  <a:pt x="344" y="416"/>
                  <a:pt x="688" y="832"/>
                  <a:pt x="1152" y="960"/>
                </a:cubicBezTo>
                <a:cubicBezTo>
                  <a:pt x="1616" y="1088"/>
                  <a:pt x="2200" y="928"/>
                  <a:pt x="2784" y="76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657960" y="39625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n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89080" y="468648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gnals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066680" y="39625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247-C584-4E1E-B4E6-7540CE03CFD4}" type="slidenum">
              <a:t>2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lient/Server Interactio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sends response message with requested html page to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  Server releases TCP connection (statel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  Browser receives page and display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33040" y="2403360"/>
            <a:ext cx="579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/1.0 200 Document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Type: text/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ir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ml document ~items/printers.html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30C7-DAAF-4F4A-8D75-305B9DC254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lient/Server Interactio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 displayed by browser is a form with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=“http://yourbusiness.com/servlets/placeorder”        METHOD=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fills input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THOD=GET, client sets up connection to yourbusiness.com and sends http requ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in input boxes encoded as suff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ACTION designates a servlet, server invokes place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97840" y="5657760"/>
            <a:ext cx="18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/servlets/placeorder?name1=value1&amp;name2=value2  HTTP/1.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859-61AD-4CB1-9F82-ADEEE63D1A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Client/Server Interaction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 If METHOD=POST, client sends http request invoking POS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rbusiness.c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data contains values in input box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52520" y="3851280"/>
            <a:ext cx="491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/servlets/placeorder HTTP/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Type: text/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Length: 543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r=HP660&amp;Name=Art+Bern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7517-776C-4B5E-98D7-DB6DA89E8C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erText Transfer Protocol (HTTP 1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sets up TCP connection to server named in 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sends a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receives a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server has not disconnected) got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se got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ctively used connections are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A772-6278-4276-800D-B7E736515E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ies in B2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es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heir services to an expanding worl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ource non-essential functions to other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services they need from other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partnerships with other businesses to provide combined services that are better and less expensive than one business can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nsaction costs of obtaining or providing these services are essentially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E32-A479-4DE9-8385-4C31E508A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A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52520" y="2819160"/>
            <a:ext cx="35053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for Web Service communication that provides support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ote procedure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PC) to invoke methods on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xchange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data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 to a variety of transports (e.g., SOAP, SM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cuss Version 1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C60-A38F-49A3-BCC4-497FAFF72FB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TT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OAP message must be carried by some transpor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is frequently used for this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s the data part of a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invoking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98400" y="3733920"/>
            <a:ext cx="52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 /fareService/getFareOp HTTP/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:  www.SlowHaw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Type:  application/soap+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-Length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y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!– the SOAP message goes her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5FEF-1EF3-41E5-B4AB-EBB2678D2D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and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XML is language and platform independent, it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exchange of information in a heterogeneous distributed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 supports the transmission of arbitrary XM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PC, SOAP provides a message format for invoking a procedure and returning results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351-F08E-4352-BE0F-26DF780AF0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572000"/>
            <a:ext cx="350532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2362320"/>
            <a:ext cx="335268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3124080"/>
            <a:ext cx="335268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er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9440" y="41148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2040" y="19051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21680" y="121932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114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6324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4114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1148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828800" y="19047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715000" y="19047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6477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943600" y="121896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599840" y="1219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24480" y="41911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952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247800" y="1905120"/>
            <a:ext cx="75960" cy="2057400"/>
          </a:xfrm>
          <a:custGeom>
            <a:avLst/>
            <a:gdLst>
              <a:gd name="textAreaLeft" fmla="*/ 48600 w 75960"/>
              <a:gd name="textAreaRight" fmla="*/ 76320 w 759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2720" y="266688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A13-70B0-4E87-964D-E0ACB2B402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Envel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2600" y="1752480"/>
            <a:ext cx="860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: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der blocks go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:Head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document goes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040" y="5603760"/>
            <a:ext cx="77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2003/05/soap-envelope  identifies a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that defines the structure of a SOAP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FAC-AF11-473D-88E9-CB912ACCF7A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SO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ocument exchange, the XML document being exchanged is nested directly in SOAP envel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-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ational mode of message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PC, SOAP defines the format of the body of messages to be used for invocation and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PC-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request-respons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are passed by value/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6DB-4AA7-4BC9-8C0E-7B63E35EF6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Request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" y="2590920"/>
            <a:ext cx="810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i=“http://www.w3.org/2001/XMLSchema-instan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getQuoteOp xmlns:n=“http://www.shearson.com/quoteServi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symbol xsi:type=“xsd:strin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symb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getQuote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61160" y="1295280"/>
            <a:ext cx="53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invocation of proced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Float getQuoteOp(String symbo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s SOAP request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427-8375-4A14-93C0-FEA633854B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Respons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0120" y="2133720"/>
            <a:ext cx="7075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i=“http://www.w3.org/2001/XMLSchema-instan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getQuoteOp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n=“http://www.shearson.com/quoteServi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value xsi:type=“xsd:floa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valu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getQuoteOpRespon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AAD-30B7-4033-91C8-EDA6AB3683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Request/Response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n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the request structure is same as method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of response structure is same as method name concatenated with “Respons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order of in and in/out parameters in request structure same as name and order i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method (if returned) is first child element of response structure; out and in/out parameters follow, their name and order same as name and order i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391-AC6C-4361-A89D-3F58995E5C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in B2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company that wants to provide a service over the Web describe it to potential us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must include format of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must be understandable by people and oth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 company that wants to obtain a service over the Web discover what companies provide that service and how to invoke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we ensure that messages sent by the service requestor will be understood by the service provider  (Interoperability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E5B-3047-4F2A-BD29-1A019D927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OAP provides a language/platform independent mechanism for invoking remot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 values are carried in an 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 and callee may use different representations of the same types (e.g., Java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chanism is needed for mapping from caller’s format to XML syntax and from XML syntax to callee’s format (referred to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ialization/deseri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mapping a Java array to XML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77A-CFB3-4876-B321-6A0EDB6131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is simple for simple types (integer, string, float,…) since they correspond to XML Schema ty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 from binary to ASCII using XML schema specifi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tion not so simple for complex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What tags will be used for an array? Will it be stored by rows or by columns?  How will a sparse array be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21F-1311-4AD5-806E-E5408A8E2CB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odingSty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used to identify the serialization rules to encode the data contents of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bitrary set of rules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AP defines its own set o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is referred to 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PC/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 refers to the format of the message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refers to the fact that argument values have been represented using the rule set specified in the encoding sty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028-A236-4266-8BB9-2EC97FB7D1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Encoding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defines its own graphical data model for describing complex types and rules for transforming instances of the model into serialized ASCII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provide serializers (and deserializers) which maps each local type to an instance of the model and then transforms the local representation to the encoded data using the SOA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4AD-A88F-4DF3-A115-AB860AF316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828800"/>
            <a:ext cx="8153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i=“http://www.w3.org/2001/XMLSchema-instan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getQuoteOp xmlns:n=“http://www.shearson.com/quoteServ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:encodingStyle=“http://www.w3.org/2003/05/soap-enco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symbol xsi:type=“xsd:strin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symb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getQuote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C39-626A-4B44-A480-D22ABFFB05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Exte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AP message goes from client to server to advance some application related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the case that some orthogonal issues related to the message must be hand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: encryption, authentication,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5F4-93B3-4E7F-9DED-6B596A3257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medi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upport scalability and decentralization, these issues need not be handled by the 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medi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client and server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ries perform orthogonal services as the message passes along a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1828800"/>
            <a:ext cx="1752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1828800"/>
            <a:ext cx="1752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1828800"/>
            <a:ext cx="11430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18288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2C3F-EE58-4867-A66D-DEA5CB031C3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2209680"/>
            <a:ext cx="1218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133720"/>
            <a:ext cx="12956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y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37160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20968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304812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6120" y="3505320"/>
            <a:ext cx="365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addressed to Pro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target dept (purchasing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name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equest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 performs authent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5640" y="434340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addressed to targe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authenticated I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department services the requ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32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05520" y="1752120"/>
            <a:ext cx="1447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715000" y="26665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2DF-0627-48FB-AC1A-BE7DCCB5B6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directed to each intermediary and to final destination kept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ries can be easily added/deleted, route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does not specify how routing is to b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p to each node along the chain to know where to send the message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arried in the message may direct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065-F2AD-42BF-848B-244F228EF29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envelope defines an option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ing an arbitrary number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er b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Each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n option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hould be processed by an intermediary that can perform that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its own namespace decl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the possibility of interference between groups that independently design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3A8-26E1-44E0-8EC9-A2FA7FFCBE5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in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xtensible Markup Langu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scribe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exchanged between services are XML documents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C++ program invokes a Web service the arguments are converted into an XML document and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XML document reaches the services provided, it is converted into a call the a Java method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s the interoperabilit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46B-6F8C-4D5B-832A-BAC8ABF53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Message Sent by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9520" y="998640"/>
            <a:ext cx="803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 /purchasing/retailSale HTTP/1.1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thod invoked at final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: proxy.yourcompany.com          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itial destination 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…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Envelope xmlns:s=….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d:targetdept xmlns:td=“…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role=“company-proxy.com”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entifies 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mustUnderstand=“true”&gt;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is header better be pro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entifies nex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td:targetdep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uth:authinfo=“…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role=“company-proxy.com”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entifies 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mustUnderstand=“true” &gt;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is header better be pro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:name&gt; madonna &lt;/auth: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uth:passwd&gt; xxxxxx &lt;/auth:passw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auth:authinfo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Body&gt; …… &lt;/s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E9B-6262-4473-B951-EC89B36787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mediary has an assigned set of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a message, it identifies the blocks whose role attribute matches an element of its set (or has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lock without a role attribute is targeted for final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medi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odify/delete its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sert new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retarget the message to the nex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o anything (frowned up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0EA-C898-470B-873C-56E9EB04FB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Underst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mediary can choose to ignore a block direct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stUnderst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has valu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“tru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media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ss the block or else abort the message and return a faul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C70-F1FE-4DCF-B8F5-29FA28AE9D7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Message Sent by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0480" y="1828800"/>
            <a:ext cx="803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 /purchasing/retailSale HTTP/1.1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thod invoked at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: purchasing.yourcompany.com     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itial 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…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Envelope xmlns:s=….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c:ClientCredentials xmlns:cc=“…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mustUnderstand=“true”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is block better be process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-- destination (no role specif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c:clientId&gt; 122334 &lt;/cc:clientId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 cc:ClientCredentials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:Body&gt; …… &lt;/s:Body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m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D13-009B-47B9-9794-24F4F65D58B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Message Sent by Pro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y has deleted the two h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ed that user is valid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name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passwd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etermined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geted message to final destinatio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targetdep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y has inserted a new header containing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stination uses Id to determine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828-ECB2-4734-975C-7F4998E2563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ddress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s described up to this point destination address (including target SOAP processor) is not included in SOAP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nformation is contained in transport header (e.g., SOAPAction header in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has to be supplied separately to the transport and the mechanism for doing this is different for different tran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AP is not transport-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4DE-D230-4B36-89BE-DB436C6E51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lude the information in SOAP header bl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-Addressing is defined for this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sa:To&gt; - destination U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sa:Action&gt; - message intent (analogous to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sa:MessageID&gt; - uniqu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sa:ReplyTo&gt; - address for rep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wsa:RelatesTo&gt; - Id of another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7DD-EFAA-487C-A2CF-32091ECDB42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-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yp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dpointReferenceTyp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fined to carry references to endpoints (e.g., value of Reply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estination address as well as additional information that might be needed to send a message to that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of WSDL elements describing destination (port type, service,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 information (e.g., should message be encryp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9AC-CF3C-47FB-85CB-7DE9EF9BE6B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AP Fa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 provides a message format for communicating information about errors containing the following inform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category identifies error (not meant for human consumption)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Mis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Understand – related to h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with message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– error had nothing to do with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readable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t which error occurred (related to intermedi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pecific information about Clien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CD9-2551-4ED6-AF73-9505E15800B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ing SOAP in HTTP: 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ocument-style SOAP, the envelope is the body of an HTTP P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TTP response message simply acknowledges receipt of HTTP request mes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PC-style SOAP, the envelope containing the SOAP request is the body of an HTTP POST; the envelope containing the SOAP response (or fault) is the body of the corresponding HTTP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D42-B18D-49EF-9309-57F7632928A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s used by Web services are generally send using the SOAP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E54-34DD-41AD-ADD8-E66F2D2048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mbedding RPC-style SOAP in HTT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219320"/>
            <a:ext cx="838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/StockQuote HTTP/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-Type: text/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-Length: 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i=“http://www.w3.org/2001/XMLSchema-instan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getQuoteOp xmlns:n=“http://www.shearson.com/quoteServ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:encodingStyle=“http://www.w3.org/2001/06/soap-encod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stockSymbol xsi:type=“xsd:strin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stockSymb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getQuote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EF1-A713-4788-AC34-2654F982063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edding Soap in HTTP: 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situations the client simply wants to retrieve an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HTTP GET request message is sent with no data (no SOAP cont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(actually a SOAP envelope) is returned as the data in the HTTP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D27-EF90-4EDB-B122-9688526401D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b Services Description Language  (WSDL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WS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formats and protocols of a Web Service in a standard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erations the service sup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ssage(s) needed to invoke th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nding of the messages to a communication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ddress to which messages should be 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BAE-28C4-43BF-BD96-3D3714D308A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Service is described at both the abstract and concrete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tract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operations that ar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essages are needed to invoke the oper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ret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the messages bound to a transport protoc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eb address to which the messages should be 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9C9-C240-424C-A291-4FA03D151D7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 Abstract Level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abstract level, obtaining a service is like executing a method of an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defines the follow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ike an object; it consists of a set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ike a method; it is invoked by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posed of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ike a parameter and has an associ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72B-6B67-4F2B-874F-EAE063CD218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ortType name = “GetQuotePT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peration name = “getQuoteOp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put message = “gs:getQuoteOpReq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utput message = “gs:getQuoteOpResp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ault name = “invalidSymbolFaul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= “gs:invalidSymbolFaultMs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her operations go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0400" y="5486400"/>
            <a:ext cx="573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s is the target namespace of the document cont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declaration and the messag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C146-EB49-45F8-BBCB-72BA5E9F732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ssages exchanged when an operation is invoked conform to a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1.1 has defined two patter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/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ent by requestor, output produced b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or might wait for response (e.g., RPC) or might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ice is a function of how operation is used and would be specified at a highe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sent by requestor, no response exp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A0F-47C8-40E9-96D6-A0E5910894E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sponse pattern allows a fault message to replace the output message if server detects a f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-way pattern does not allow faul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938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08280" y="1447920"/>
            <a:ext cx="722304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utput message = “gs:getQuoteOpResp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ault name = “invalidSymbolFaul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= “gs:invalidSymbolFaultMs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A9A-02C6-457D-A667-5EE418131D6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Messag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 name = “getQuoteOpReq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stockSymbol”  type = “xsd:strin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 name = “getQuoteOpRes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stockSymbol”  type = “xsd:strin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QuoteValue”  type = “xsd:float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name = “invalidSymbolFaultMsg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 name = “faultInfo”  type = “gs:faultType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FF7-8EA1-4C77-B8DA-651EB7EFFCB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eb Service Descrip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the operations required to obtain a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exchanged in each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tained in each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how the operation is bound to a specific message transpor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9E0-AFF6-45DD-89E6-612666051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s of a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can have man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rt can be bound to a different position within the physical message sent by the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OAP parts can be distributed over body and header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rt can have a simple or complex type defined in an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57C-5769-444D-BE9E-9D35E5A03A0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plexType name = “faultTyp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name = “faultCode” type = “string”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name = “faultDetail” type = “string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ccurs = “0” maxOccurs = “1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530-F2B2-46B8-A62D-CC0140FEEFB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level defines how portTypes and operations are bound to transports and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iven portType can be bound to several different transports and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eb Service might support a portType using several different 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the operations can be invoked using SOAP over either HTTP or SM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portType might be supported by several different Web Services using the same or different 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ll of these cases, semantically identical service should be provided at each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9C2-BC6B-46E5-A25C-11060306675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rete Lev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concrete level, WSDL defines the following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how the messages of a portType are mapped to the messages of a particular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binding to a Web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ports that host related port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F0D-EE75-4703-9927-03FCA796944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Service and 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rvice  name = “GetQuoteServi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  name = “GetQuoteRPC”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=“gq:GetQuoteSOAPBindin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ap:address location = “http://www.shearson.com/quoteserv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or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—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ports go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rv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1981080"/>
            <a:ext cx="1828800" cy="685800"/>
          </a:xfrm>
          <a:prstGeom prst="wedgeRoundRectCallout">
            <a:avLst>
              <a:gd name="adj1" fmla="val -111981"/>
              <a:gd name="adj2" fmla="val 1226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ntif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3CF2-1A41-4D7F-B3A5-20A07152CCF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 Exte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ding maps a portType to a particular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be capable of targeting a variety of trans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port has its own idiosynchro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is extended by introducing a different namespace for each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70160" y="491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0" y="3581280"/>
            <a:ext cx="6629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=“http://schemas.xmlsoap.org/wsdl/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soap=http://schemas.xmlsoap.org/wsdl/soa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Namespace=http://www.shearson.com/quoteserv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SDL declarations go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defini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4952880"/>
            <a:ext cx="1752840" cy="1143000"/>
          </a:xfrm>
          <a:prstGeom prst="wedgeRoundRectCallout">
            <a:avLst>
              <a:gd name="adj1" fmla="val 83425"/>
              <a:gd name="adj2" fmla="val -6555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roduce SOAP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14D9-B0C6-4207-B1FA-B76E7A51D25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RPC/encoded SOA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binding   name = “GetQuoteSOAPBinding”  type = “tns:GetQuotePT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inding style = “rpc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= “ http://schemas.xmlsoap.org/soap/http/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operation   name = “getQuoteOp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p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= “encod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=“ http://www.shearson.com/quoteservi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ingStyle =“ http://schemas.xmlsoap.org/soap/encod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inued on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1295280"/>
            <a:ext cx="1371600" cy="762120"/>
          </a:xfrm>
          <a:prstGeom prst="wedgeRoundRectCallout">
            <a:avLst>
              <a:gd name="adj1" fmla="val -77662"/>
              <a:gd name="adj2" fmla="val 88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470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7640" y="13446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ntif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809880"/>
            <a:ext cx="1447920" cy="762120"/>
          </a:xfrm>
          <a:prstGeom prst="wedgeRoundRectCallout">
            <a:avLst>
              <a:gd name="adj1" fmla="val -137500"/>
              <a:gd name="adj2" fmla="val -119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2666880"/>
            <a:ext cx="1219320" cy="762120"/>
          </a:xfrm>
          <a:prstGeom prst="wedgeRoundRectCallout">
            <a:avLst>
              <a:gd name="adj1" fmla="val -230597"/>
              <a:gd name="adj2" fmla="val -2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pc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4267080"/>
            <a:ext cx="1523880" cy="762120"/>
          </a:xfrm>
          <a:prstGeom prst="wedgeRoundRectCallout">
            <a:avLst>
              <a:gd name="adj1" fmla="val 80208"/>
              <a:gd name="adj2" fmla="val -895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43600" y="5562720"/>
            <a:ext cx="1295280" cy="838080"/>
          </a:xfrm>
          <a:prstGeom prst="wedgeRoundRectCallout">
            <a:avLst>
              <a:gd name="adj1" fmla="val -98898"/>
              <a:gd name="adj2" fmla="val -72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276360" y="4038480"/>
            <a:ext cx="2361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276360" y="4114440"/>
            <a:ext cx="2361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86692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3800" y="3657600"/>
            <a:ext cx="1295280" cy="990720"/>
          </a:xfrm>
          <a:prstGeom prst="wedgeRoundRectCallout">
            <a:avLst>
              <a:gd name="adj1" fmla="val -70097"/>
              <a:gd name="adj2" fmla="val 69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0240" y="3672000"/>
            <a:ext cx="123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 ta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8BA-18FB-4C0E-81AA-67C1D74A688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ding Example -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outp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= “encod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=“ http://www.shearson.com/quoteservi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dingStyle =“ http://schemas.xmlsoap.org/soap/encoding/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outpu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ther operations go 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bind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0FA-B846-4758-A7B2-AA06EAC30B7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/encoded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" y="1981080"/>
            <a:ext cx="810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Envelope xmlns:s=“http://www.w3.org/2003/05/soap-envelop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d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xsi=“http://www.w3.org/2001/XMLSchema-instan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getQuoteOp xmlns:n=“http://www.shearson.com/quoteServic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:stockSymbol xsi:type=“xsd:string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stockSymbo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n:getQuoteO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:Envelo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1D6-5012-4D69-A1EB-9F0C77C261B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rializer serializes arguments (parts) in accordance with rules specified by encodingStyl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can deserialize arguments since style is specified in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essage has a declare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we be sure that the rules produce an instance of the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act they might no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ADF5-A1A6-4DC6-8E19-743749EC3F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P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usiness Process Execution Langu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lementation of a complex Web service might involve interactions with one or more other 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describes the workflow involved in such a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6F68-FD10-4FBB-9056-1FE2A7FB3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Encoding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s of the same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 a message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s of the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uppose in a particular invocation all arguments have sam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duce a message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ers to a single instance of the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value of each argument (a pointer) is not an instance of the typ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5BB-CA93-4EE1-81B5-DED6A1A16E1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ed Vs. Li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e=“encoded”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s are encoded in accordance with the specified encoding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e=“literal”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s are instances of part types specified in the message 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ields two distinct styles for invoking a remote proced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c/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c/li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28D-C9EE-40A5-908A-F9446F3145E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– RPC/literal SOA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inding   name = “GetQuoteSOAPBinding”  type = “tns:GetQuoteP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ap:binding style = “rpc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 = “ http://schemas.xmlsoap.org/soap/http/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peration   name = “getQuoteOp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pu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oap:b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= “lit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=“http://www.shearson.com/quoteservice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utput&gt;  …. &lt;/outpu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1295280"/>
            <a:ext cx="1524240" cy="762120"/>
          </a:xfrm>
          <a:prstGeom prst="wedgeRoundRectCallout">
            <a:avLst>
              <a:gd name="adj1" fmla="val -64898"/>
              <a:gd name="adj2" fmla="val 883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4708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7640" y="1344600"/>
            <a:ext cx="111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ntif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38880" y="2666880"/>
            <a:ext cx="1219320" cy="762120"/>
          </a:xfrm>
          <a:prstGeom prst="wedgeRoundRectCallout">
            <a:avLst>
              <a:gd name="adj1" fmla="val -230597"/>
              <a:gd name="adj2" fmla="val -275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pc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4038480"/>
            <a:ext cx="1752480" cy="762120"/>
          </a:xfrm>
          <a:prstGeom prst="wedgeRoundRectCallout">
            <a:avLst>
              <a:gd name="adj1" fmla="val 72189"/>
              <a:gd name="adj2" fmla="val -43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n’t en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0D1-FB64-4F74-BF87-E21DEC1A4B8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/literal SOA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32920" y="1395360"/>
            <a:ext cx="5781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plexType name=“comptyp”&gt; … &lt;/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essage name=“msg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=“part1”  type=“comptyp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:myProc xmlns:n=“…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:part1&gt;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instance of compty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&lt;/n:part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n:myProc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8CB-69B8-43B4-9045-8DB0AABA5F0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/encoded and RPC/lit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 style specified for both binding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schema describing the (entire) messag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of body element uses name of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andchild corresponds to a parameter and uses paramete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be a grandchild for result retur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validation is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07E-76B1-4210-8507-6C631B28042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ing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ly, Web communicati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ices are loosely coupled (as opposed to tightly coupled, object-oriented systems that are developed in a more integrated fashion and are more oriented towards r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ppropriate for delay prone/failure prone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contain XML documents (instead of procedure argu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de variety of communication patterns (as opposed to simply request/response) ar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D9A-F954-4449-AC6E-C43A3BD5BDB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Document Style Mess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40760" y="2022480"/>
            <a:ext cx="683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essage name = “sendInvoiceMsg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t name = “invoice”  type = “inv:invoiceType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ortType name = “invoicePT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peration name = “sendInvoiceO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put message = “inv:sendInvoiceMs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ort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3048120"/>
            <a:ext cx="1295640" cy="761760"/>
          </a:xfrm>
          <a:prstGeom prst="wedgeRoundRectCallout">
            <a:avLst>
              <a:gd name="adj1" fmla="val -63236"/>
              <a:gd name="adj2" fmla="val 114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90E-060E-45C6-BACD-EC4CF662AFB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167652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inding name = “sendInvBind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“ing:invoice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binding style = “docu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= “http://schemas.xmlsoap.org/soap/http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peration name = “inv:sendInvoiceO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= “lite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= “http://www.invoicesource.com/invoice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indin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1371600"/>
            <a:ext cx="1905120" cy="990720"/>
          </a:xfrm>
          <a:prstGeom prst="wedgeRoundRectCallout">
            <a:avLst>
              <a:gd name="adj1" fmla="val -128750"/>
              <a:gd name="adj2" fmla="val 8766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A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ains X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3505320"/>
            <a:ext cx="2057400" cy="990360"/>
          </a:xfrm>
          <a:prstGeom prst="wedgeRoundRectCallout">
            <a:avLst>
              <a:gd name="adj1" fmla="val -175773"/>
              <a:gd name="adj2" fmla="val 7932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dy is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a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95B-DD75-4623-BEB0-78AC26CA634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/literal SOA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7840" y="1752480"/>
            <a:ext cx="5781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plexType name=“comptyp”&gt; … &lt;/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essage name=“msg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=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n:comptyp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tance of compty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36720" y="1219320"/>
            <a:ext cx="54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1 – one part specified by 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40760" y="4281480"/>
            <a:ext cx="312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ssage can have only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 in this case since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ma of the body can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ly one type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2666880"/>
            <a:ext cx="1904760" cy="1067040"/>
          </a:xfrm>
          <a:prstGeom prst="wedgeRoundRectCallout">
            <a:avLst>
              <a:gd name="adj1" fmla="val -152083"/>
              <a:gd name="adj2" fmla="val 4270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is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spa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0CC-F9B3-4AA1-98A7-BB196825056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/literal SOAP Bi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37840" y="1447920"/>
            <a:ext cx="5781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name=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type=“n:comptyp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plexType name=“comptyp”&gt; … &lt;/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chem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typ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essage name=“msg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=“part1”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n:elem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mlns=“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target ns of WSDL doc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“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tance of compty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n:ele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Envelo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68440" y="106668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2 – part specified by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2514600"/>
            <a:ext cx="2762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t is identified as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.  An insta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 is a child of body, named with element’s name, typed with element’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128-B653-4B65-AA00-BB1B977D634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D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Universal Description, Discovery, and Integ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egistry (database)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es than want to provide a service can publish information about it, including a description of how it can be invoked (perhaps described in W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es that want to obtain a service can find information about servers that provide it and how they can be invo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B556-B1AD-4D73-808F-A1F15847AD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ing Multiple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7120" y="1143000"/>
            <a:ext cx="6009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name=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Invo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type=“inv:invoiceType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name=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Invo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 type=“inv:invoiceType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mplexType  name=“invoiceType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complex type definition goes 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essage name = “sendInvoiceMsg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 = “invoice1”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inv:firstInvoice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art name = “invoice2”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inv:secondInvoice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messag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1600" y="3886200"/>
            <a:ext cx="239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 spec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st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 message h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ultiple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0360" y="4038480"/>
            <a:ext cx="450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Invo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tance of invoiceType goes 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v:firstInvo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v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Invo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stance of invoiceType goes 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inv:secondInvo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oap: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792-2250-4648-897F-3CABA4259F1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ing Messages By Email: Simple Mail Transfer Protot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ervice  name = “GetQuoteSMTPServic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ort   name = GetQuoteSMTP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=“gq:GetQuoteSMTPBindin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addr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= “mailto:stockquote@shearson.com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erv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CE2-BAC7-4928-88D8-144BB6AB48B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l Example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inding   name = “GetQuoteSMTPBinding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= “tns:GetQuotePT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binding   style = “docume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=“http://schemas.xmlsoap.org/soap/smtp 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peration   name = “getQuoteOp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n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body  use=“literal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in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out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ap:body  use=“literal”/&gt;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utp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oper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indin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539-8F23-4905-8A11-AFC947D0283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WSDL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59760" y="1461960"/>
            <a:ext cx="7526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efinitions targetNamespace=“….”   xmlns=“ …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ther namesp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yp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XML Schema types used in this doc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yp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sssage&gt; … &lt;/mes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other messages goes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Type&gt; … &lt;/port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other portTypes goes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inding&gt; … &lt;/bind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other bindings goes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rvic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ort&gt; … &lt;/por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other ports goes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rv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cification of other services goes 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defini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003-9311-4F34-8F33-26F719BB2A6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DL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bes abstract functionality (operations, messag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bi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how elements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rt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perations, messages) are mapped to a particular transport protocol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AP over HTT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p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 address (particular server at a 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rela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143-B22C-4EE0-8046-C8F6D4E3837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SDL Cannot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describes how each operation can be in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getQuote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services require a sequence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this message, receive that message, if this happens send this other message to another port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quence cannot be described in W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EL describes the logic of a Web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is imp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communicates with other busienss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chestra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601-F090-40F8-A6CD-D2AF8B68E06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siness Process Execution Language for Web Services (BPEL4WS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30440" y="44956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sion 1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EL vs. WS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SDL supports a stateless model which describes operations supported by web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two messages needed for client/serv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chanism for describing state betwee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siness process (BP) typically characterized by long-running, stateful sequence of operations with one or more web services (business partner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94B-AE90-422A-B04D-F18BB79228D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ample: Ordering Station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oke Staples.StationeryQuote(staples-quot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voke Office-Max.StationeryQuote Service(max-quo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en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taples-quote &lt; max-quo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invoke Staples.StationeryPurchase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invoke Office-Max.StationeryPurcha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3657600"/>
            <a:ext cx="914400" cy="609480"/>
          </a:xfrm>
          <a:prstGeom prst="wedgeRoundRectCallout">
            <a:avLst>
              <a:gd name="adj1" fmla="val -345314"/>
              <a:gd name="adj2" fmla="val 315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66F-A090-4516-9EDC-4DE68EE0E8A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for business proce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able to communicate with other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able to maintain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able to access and modify data received in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XPath to extract information from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control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, switch (if), flow (concurrency), while, link (synchronize concurrent processes), invoke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able to handl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1AA7-DA65-4344-84B9-F1CF5A3ED86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Pearson Education</cp:lastModifiedBy>
  <dcterms:modified xsi:type="dcterms:W3CDTF">2005-04-06T15:57:17Z</dcterms:modified>
  <cp:revision>100</cp:revision>
  <dc:subject/>
  <dc:title>web-basics1</dc:title>
</cp:coreProperties>
</file>