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5930-5E82-459F-821C-FBAADE6B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6986-34E1-435E-B9A2-28793434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36D1-A044-40E1-A27A-FAB8D51B6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2B08-03F5-42FF-BFF4-46A98EB60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67F0-8EE5-4307-99ED-BD789495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DF4A-8279-4749-8048-B001403F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D6B0-FFDE-45DF-8541-955EA7AB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DF36-76B2-4655-9BE3-9EF9F912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2E80-3E62-476E-B3CE-09C5CFB2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AAF6-FFFE-4DD9-8688-D0F6B092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C65C-685B-4EEC-A9F4-9381B9B0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BC1D-EF4A-45F1-969A-C7786370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3768-BEC9-4504-B7B5-3799B2F6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9A87-740C-400C-8920-791CC372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6457-6F1A-4ABD-A25A-0C621AAF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8390-F58E-4C66-AC59-692DE301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E0FC-17DE-412D-9622-F6805849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C4C4-D3DC-408E-A9A8-B33C3B89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918A-2269-4A6F-B01D-F3C62A74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6C10-0878-4568-9B5E-32897B9E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BA1A-6504-4EEC-888E-F6CF83B0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3B14-E4EC-47C3-BD8A-806339C2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44FB-4490-48EA-8E72-4DAB0421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A9C2-D92B-475C-8999-83CD233B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A28F-41BC-4FBE-956A-A5DDBD8BE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8840" y="914040"/>
            <a:ext cx="3429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D90F-6D6D-4E9F-92DB-DE92BDE99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8840" y="914040"/>
            <a:ext cx="3429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pter 2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105160" y="2819160"/>
            <a:ext cx="33526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rchitecture of Transaction Process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s transaction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s a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orkflow controll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mplements user request as a sequence of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ation = (check prerequisites, add student to course, bill stu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s a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transactions involve multiple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classes are used for load bal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workflows might be time consuming and application server serves multiple clients, application server is oft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lti-thre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4EAF-BBC3-4C25-A5B6-044DD25922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t and Set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ntity bean must contain declaration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s.  Fo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ublic abstract float getBalance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ublic abstract void setBalance (float bala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tainer generates code for these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ient of the bean, for example a session bean, can u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inder method, for exampl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ndByPrimaryKey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to find an entity bean a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to read or update specific fields of that b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BA0C-33C1-40C5-AC6B-A10D3ABE74E6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B  Q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tainer will generate the code for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ndByPrimaryKey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tainer will also generate code for other finder methods described in the deployment descrip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methods are described in the deployment descriptor using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JB QL (EJB Query 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B QL is used to find one or more entity beans based on criteria other than their primary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1100-1919-4B3B-A630-0E8241C27156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EJB 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quer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query-metho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method-name&gt;FindByName &lt;/method-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method-param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method-param&gt;string&lt;/method-param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method-param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query-metho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ejb-q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OBJECT (A) FROM Account A WHERE A.Name = ?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ejb-q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quer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66E9-A574-4A69-A48B-9AD4CA635EA2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e and Remove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lient of an entity bean can use the create and remove methods in its home interface to create and remove instances of that entity (rows in the database tabl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55EB-3A3A-4C24-802A-1E14EA04818A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iner-Managed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fields that represent data, entity beans can have fields that represent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to-one, One-to-many, Many-to-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with other database applications, these relationships can be used to find entity beans based on their relationships to other be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there might be a many-to-many relationship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lating Account bean  and BankCustomer b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gn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ecifies which customers can sign checks on which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66B0-F16B-4C00-A0AD-9D43439559A5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iner-Managed Relationships 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s can be declared in the deployment descriptor to be container-mana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many-to-many relationship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ers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tainer will automatically create a new table to manage the relatio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one-to-one relationship, the container will automatically generate a foreign k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72AA-0580-4830-B2DD-20DCE0796E00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ion of Deployment Descrip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ejb-relati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ejb-relation-name&gt;Signers&lt;/ejb-relation-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ejb-relationship-ro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ejb-relationship-role-name&gt;account-has-sig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ejb-relationship-role-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multiplicity&gt;many&lt;/multiplicit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relationship-role-sourc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ejb-name&gt;Account&lt;/ejb-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relationship-role-sourc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mr-fiel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mr-field-name&gt;Signers&lt;/cmr-field-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mr-field-type&gt;java.util.collection&lt;/cmr-field-typ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cmr-fiel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ejb-relationship-ro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…………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scription of the other bean in the re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ejb-relati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F86E-BCA5-47C2-8B75-D8ED1E47EECB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t and Set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ntity bean must contain declarations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s for these relationship fields (as for other fiel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ublic abstract collection getSigners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ublic abstract void setSigners (collection  BankCustom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JB container will generate code for these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FB7D-942A-48DF-9BE9-8F375BBE34DD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s can be manag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ually by the bean itself (bean-managed transactions) using standard JDBC or JTA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n programmer must provide statements to start and commit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ally by the container (container-managed transaction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loyment descriptor contains declarative description of transaction attributes of each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6D2E-9E99-4DCA-ABA6-63531E9506A1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 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ontainer-managed transactions, the deployment descriptor must specify the transaction attributes of each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s supported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quiresN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ndat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Suppo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mantics of these attributes are discussed in Chapter 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5FC2-74AC-4F1A-8B0C-22B393F241C8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d procedures off-loaded to separate (transaction) servers to reduce load on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server located close to DB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server located close to cl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server does bulk of data proces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 server might exist a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ver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server uses any available transaction server to execute a particular stored procedure; might do load balanc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o application server which is multi-threa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2856-E163-42BB-9D3C-1A5117A19A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trictions on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essage-driven beans, only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qui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Suppor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tributes are allo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bean ha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quir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and aborts, the message is put back on the queue and the transaction will be called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tateless session beans onl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quires, RequiresNew, Supports, Ne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Support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allo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ntity beans with container-managed persistence, onl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quires, Requires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allow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E484-5A7B-43B4-9316-E58E4ADFE44D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Deployment Descrip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container-transaction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method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ejb-name&gt; ShoppingCart &lt;/ejbna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method-name&g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eck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/method-na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method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trans-attribute&g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/trans-attribut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container-transaction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8786-D399-4379-9986-7AABA6422E65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hase Comm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tainer also contains a transaction manager, which will manage a two-phase commit procedure, for both container-managed and bean-managed trans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99E3-D2FE-49D6-9AF0-40C3BFDFBD4F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urrency of Entity Be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umber of concurrently executing clients might request access to the same entity bean and hence the same row of a data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at bean has been declared transactional, the concurrency is controlled by the 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t, each client gets its own copy of the entity bean and the concurrency is controlled by the 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session beans and message-driven beans with bean-managed concurrency the bean programmer can specify the isolation level within the code for the b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ault J2EE implementation of container-managed concurrency is that each client gets its own copy of the entity bean and the underlying DBMS manages the concur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4082-E397-4889-96D3-CE9220ECF802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Implementation of Container-Managed Concurr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vendors of Web application servers offer other alternatives, such as optimistic concurrenc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MS executes at READ COMMI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writes are kept in the entity bean until the transaction requests to 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tentions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alidation check verifies that no entity the transaction read has been upd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nce the read took pl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the same validation check performed by the optimistic control discussed ear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at control, the validation check verifies  that no entity the transaction read has been updat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nywhere in its read p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implementation provide serializ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9FC2-39CB-461D-86FD-FF7E9BA24ED0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usability of Enterprise Be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the vision underlying enterprise beans is that they would be reusabl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’s Software Company sells a set of beans for shopping cart applications, including a ShoppingCartBean session b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’s Hardware Store buys the b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of using the standard ShoppingCartBean, Joe’s system uses a child of that bean, JoesShoppingCartBean that had been changed slightly to reflect Joe’s business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 also changes the deployment descriptor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0C95-FA52-4858-A710-4026C45732C7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usability of Enterprise Beans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mplementation of Joe’s system is considerably simpl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e’s programmers need be concerned mainly with Joe’s business rules not with implementation det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e’s shopping cart application will run on any system using any Web application server that supports J2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it does not use any proprietary extensions to J2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D269-0271-400F-9A9B-45A4C7E6D18B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-Tiered Model of T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6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32800" y="6094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4114800"/>
            <a:ext cx="8458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05740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3352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05740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24480" y="3733920"/>
            <a:ext cx="8384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543800" y="3657600"/>
            <a:ext cx="9144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9461400">
            <a:off x="7065000" y="3047040"/>
            <a:ext cx="182916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84" y="93"/>
                </a:moveTo>
                <a:arcTo wR="10800" hR="10800" stAng="-5852060" swAng="3490320"/>
                <a:lnTo>
                  <a:pt x="10800" y="10800"/>
                </a:lnTo>
                <a:close/>
              </a:path>
              <a:path fill="none" w="21600" h="21600">
                <a:moveTo>
                  <a:pt x="9384" y="93"/>
                </a:moveTo>
                <a:arcTo wR="10800" hR="10800" stAng="-5852060" swAng="349032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45820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54380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74960" y="1447920"/>
            <a:ext cx="174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6200000">
            <a:off x="7238880" y="1142640"/>
            <a:ext cx="152280" cy="2133360"/>
          </a:xfrm>
          <a:custGeom>
            <a:avLst/>
            <a:gdLst>
              <a:gd name="textAreaLeft" fmla="*/ 0 w 152280"/>
              <a:gd name="textAreaRight" fmla="*/ 55080 w 152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76520" y="2895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6292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133720" y="4876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495680" y="3733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28800" y="259092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8120" y="4876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52480" y="53341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16200000">
            <a:off x="1960560" y="375516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• 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6200000">
            <a:off x="1790640" y="1028160"/>
            <a:ext cx="152280" cy="2362320"/>
          </a:xfrm>
          <a:custGeom>
            <a:avLst/>
            <a:gdLst>
              <a:gd name="textAreaLeft" fmla="*/ 0 w 152280"/>
              <a:gd name="textAreaRight" fmla="*/ 5508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93840" y="160020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computr2"/>
          <p:cNvSpPr/>
          <p:nvPr/>
        </p:nvSpPr>
        <p:spPr>
          <a:xfrm>
            <a:off x="457200" y="2438280"/>
            <a:ext cx="1371600" cy="1067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computr2"/>
          <p:cNvSpPr/>
          <p:nvPr/>
        </p:nvSpPr>
        <p:spPr>
          <a:xfrm>
            <a:off x="457200" y="4724280"/>
            <a:ext cx="1371600" cy="1067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64560" y="5638680"/>
            <a:ext cx="17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5410080" y="4724280"/>
            <a:ext cx="53352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133000" y="4952880"/>
            <a:ext cx="98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33720" y="4876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5715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657600" y="3886200"/>
            <a:ext cx="86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36576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3657600" y="4572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57600" y="3733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3048120" y="426672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297180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924360" y="1714320"/>
            <a:ext cx="152280" cy="99036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98240" y="1447920"/>
            <a:ext cx="155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.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86728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3504960" y="4800600"/>
            <a:ext cx="106668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0292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67280" y="3733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029200" y="3733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029200" y="4572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28840" y="3809880"/>
            <a:ext cx="80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4191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8769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5371920" y="171396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98080" y="144792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.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3509-0ACE-466C-8424-2A6C4BA745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vels of Abst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ation server implements the abstraction of the user interf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server implements the abstraction of a user reque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d procedures (or transaction server) implement the abstraction of individual sub-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server implements the abstraction of the relational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B56F-0BAE-4552-AAD6-8ED69BE7B6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onnection of Servers in Three-Tiered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2120" y="1828800"/>
            <a:ext cx="14475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666880" y="1828800"/>
            <a:ext cx="1447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105520" y="1828800"/>
            <a:ext cx="14475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010280" y="1828800"/>
            <a:ext cx="1447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5880" y="3200400"/>
            <a:ext cx="1447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52480" y="3276720"/>
            <a:ext cx="1447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95880" y="4267080"/>
            <a:ext cx="1447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52480" y="4343400"/>
            <a:ext cx="1447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828800" y="5486400"/>
            <a:ext cx="1447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5880" y="5486400"/>
            <a:ext cx="1447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79520" y="387828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11120" y="190512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554520" y="190512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68520" y="335268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• 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447920" y="2438280"/>
            <a:ext cx="9903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2514600" y="24382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3623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781680" y="243828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438280" y="3886200"/>
            <a:ext cx="3810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816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047760" y="3809880"/>
            <a:ext cx="37335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38280" y="4952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781680" y="4876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DA84-020D-4E77-9059-B2400FD445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ssions and Cont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ists between two entities if they exchange messages while cooperating to perform some 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maintains some information describing the state of their participation in that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information is referred to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42DA-E2B1-4691-858D-D6118105CA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cation in TP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wo-tiered mo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/application server communicates with databas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ree-tiered mo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 server communicates with application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server communicates with transaction/databas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each case, multiple messages have to be 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t and reliable communication ess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ssions are used to achieve these go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ssion set-up/take-down costly =&gt; session is long-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A1DE-C957-42CD-A63D-C3604ADA00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s established at different levels of abstr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 sessions (low level abstra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 describes state of communication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/server sessions (high level abstra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 used by server describes the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E658-63EF-4BA7-8ED1-1821AD1FC0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cation S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xt: sequence number, addressing information, encryption key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head of session maintenance signific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the number of sessions has to b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-tiered mode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lient has a session with each database server it ac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-tiered mode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lient has a session with its application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pplication serv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plex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 connection to a database server over all transactions it sup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4B9C-2A8D-4275-8070-15927D09E9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mber of Sess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he number of client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application servers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transaction/db ser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s, two-tier (worst case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*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s, three-tier (worst case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+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*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2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-tiered model scales b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95280" y="44956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057400" y="44956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44956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76520" y="59436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438280" y="59436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72000" y="45720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486400" y="45720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24480" y="45720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86400" y="52578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952880" y="59436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19920" y="594360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495288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23880" y="495288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905120" y="4952880"/>
            <a:ext cx="3808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0292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1981080" y="4952880"/>
            <a:ext cx="10670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2666520" y="495288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800600" y="502920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15000" y="5029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5715000" y="502920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15000" y="57150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181480" y="57150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08840" y="4572000"/>
            <a:ext cx="153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/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7EE2-8C91-42A2-A28D-23F1453949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olution of Transaction Processing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asic components of a transaction processing system can be found in single user 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volution of these systems provides a convenient framework for introducing their various fea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D69E-D89B-40A1-9B5E-F3C854D81A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ssions in Three-Tiered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62120" y="1828800"/>
            <a:ext cx="14475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66880" y="1828800"/>
            <a:ext cx="1447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5520" y="1828800"/>
            <a:ext cx="14475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010280" y="1828800"/>
            <a:ext cx="1447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5880" y="3200400"/>
            <a:ext cx="1447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52480" y="3276720"/>
            <a:ext cx="1447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95880" y="4267080"/>
            <a:ext cx="1447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52480" y="4343400"/>
            <a:ext cx="1447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28800" y="5486400"/>
            <a:ext cx="1447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95880" y="5486400"/>
            <a:ext cx="1447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9520" y="387828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11120" y="190512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554520" y="190512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68520" y="335268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• 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447920" y="2438280"/>
            <a:ext cx="9903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514600" y="2438280"/>
            <a:ext cx="8380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1320" y="23623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6781680" y="243828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3828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38280" y="3886200"/>
            <a:ext cx="3810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816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047760" y="3809880"/>
            <a:ext cx="37335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38280" y="4952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781680" y="4876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6BBD-7744-4DD2-99D2-DE18AC287A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ent/Server S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 context (describing client) has to be maintained by server in order to handle a sequence of client reques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s client bought so f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row was accessed la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client authorized to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42B3-A65F-4099-98E0-E986B3046E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ent/Server S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is the server context sto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server - but this does not accommod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 classes: different server instances (e.g., transaction servers) may participate in a singl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number of clients maintaining long sessions:  storage of context is a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central database - accessible to all servers in a serv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client - context passed back and forth with each requ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xt han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E618-9708-4EC9-81F9-75DA93ABC2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ued vs. Direct Transaction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rec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ient waits until request is serviced.  Service provided as quickly as possible and result is returned.  Client and server are synchroniz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eu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quest enqueued and client continues execution.  Server dequeues request at a later time and enqueues result.  Client deque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later.  Client and server unsynchroniz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9E44-6555-4277-BA7A-967854A97E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ued Transaction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90720" y="2133720"/>
            <a:ext cx="167616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77120" y="2209680"/>
            <a:ext cx="167616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581280" y="3886200"/>
            <a:ext cx="190512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ve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81280" y="5105520"/>
            <a:ext cx="1905120" cy="99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ve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666880" y="2743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05520" y="2743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752480" y="3352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467480" y="34290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038480" y="2743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105520" y="2743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486040" y="57150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52480" y="56386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625120" y="2057400"/>
            <a:ext cx="1396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 en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55400" y="2057400"/>
            <a:ext cx="1396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 de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470000" y="3733920"/>
            <a:ext cx="1396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 en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3400" y="3733920"/>
            <a:ext cx="1396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 de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BEB4-1A7B-40EE-BA44-79D8ADC971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ued Transaction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transactions on two recoverable que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 can enter requests even if server is un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can return results even if client is un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 will ultimately be served even if 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borts (since queue is transact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F662-0CEA-4309-97B5-62255ED7BB9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terogeneous vs. Homogeneous TP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mogeneous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composed of HW and SW modules of a single ven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s communicate through proprietary (often unpublished)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, other vendor products cannot be inclu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red to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P-L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terogeneous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composed of HW and SW modules of different vend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s communicate through standard, published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red to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P-Heav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C7E9-F567-427A-8329-D112D148701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terogeneous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olved fro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integ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gac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s produced by different vend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take advantage of products of many vend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iddlew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oftware that integrates the components of a heterogeneous system and provides utility servic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supports communication (TCP/IP), security (Kerberos), global ACID properties, translation (JDB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4CB8-922D-431F-A75E-3C81466A453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 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ddleware to support global atomicity of distributed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invokes manager when transaction is initi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r is informed each time a new server joins the 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invokes manager when transaction comp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r coordinat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omic commit protoc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mong servers to ensure global atom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B96D-B403-40EB-BD2D-0232B8C55F9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 Manager                  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Tiered Mode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6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532800" y="6094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0880" y="4114800"/>
            <a:ext cx="8458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3400" y="3733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2362320" y="3733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52680" y="3733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324480" y="30481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543800" y="2895480"/>
            <a:ext cx="9144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9461400">
            <a:off x="7065000" y="2361240"/>
            <a:ext cx="182916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84" y="93"/>
                </a:moveTo>
                <a:arcTo wR="10800" hR="10800" stAng="-5852060" swAng="3490320"/>
                <a:lnTo>
                  <a:pt x="10800" y="10800"/>
                </a:lnTo>
                <a:close/>
              </a:path>
              <a:path fill="none" w="21600" h="21600">
                <a:moveTo>
                  <a:pt x="9384" y="93"/>
                </a:moveTo>
                <a:arcTo wR="10800" hR="10800" stAng="-5852060" swAng="349032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458200" y="3124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543800" y="3048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3686040" y="59356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440760" y="1447920"/>
            <a:ext cx="197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hines (l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ID propert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16200000">
            <a:off x="7314840" y="1447560"/>
            <a:ext cx="152640" cy="2133720"/>
          </a:xfrm>
          <a:custGeom>
            <a:avLst/>
            <a:gdLst>
              <a:gd name="textAreaLeft" fmla="*/ 0 w 152640"/>
              <a:gd name="textAreaRight" fmla="*/ 55080 w 15264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7524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888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4343400" y="3428640"/>
            <a:ext cx="19810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359440" y="3809880"/>
            <a:ext cx="201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.   appl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  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16200000">
            <a:off x="2417760" y="489816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• 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 rot="5400000">
            <a:off x="2362320" y="3732840"/>
            <a:ext cx="152280" cy="3809880"/>
          </a:xfrm>
          <a:custGeom>
            <a:avLst/>
            <a:gdLst>
              <a:gd name="textAreaLeft" fmla="*/ 0 w 152280"/>
              <a:gd name="textAreaRight" fmla="*/ 55080 w 15228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522440" y="571500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computr2"/>
          <p:cNvSpPr/>
          <p:nvPr/>
        </p:nvSpPr>
        <p:spPr>
          <a:xfrm>
            <a:off x="457200" y="3657600"/>
            <a:ext cx="1371600" cy="10666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9461400">
            <a:off x="7140960" y="4266360"/>
            <a:ext cx="182844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84" y="93"/>
                </a:moveTo>
                <a:arcTo wR="10800" hR="10800" stAng="-5852060" swAng="3490320"/>
                <a:lnTo>
                  <a:pt x="10800" y="10800"/>
                </a:lnTo>
                <a:close/>
              </a:path>
              <a:path fill="none" w="21600" h="21600">
                <a:moveTo>
                  <a:pt x="9384" y="93"/>
                </a:moveTo>
                <a:arcTo wR="10800" hR="10800" stAng="-5852060" swAng="349032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620120" y="5029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534520" y="5029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620120" y="4876920"/>
            <a:ext cx="91440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362320" y="37339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362320" y="45720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7066080" y="428868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• 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31520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rot="16200000">
            <a:off x="2341440" y="276480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• 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400800" y="50292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895480" y="1371600"/>
            <a:ext cx="14479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8620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343400" y="4267080"/>
            <a:ext cx="2057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038480" y="2286000"/>
            <a:ext cx="2286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038480" y="2286000"/>
            <a:ext cx="236232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48480" y="2819520"/>
            <a:ext cx="8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gin 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445640" y="5181480"/>
            <a:ext cx="123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o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495680" y="3809880"/>
            <a:ext cx="3049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19720" y="2362320"/>
            <a:ext cx="30456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4647960" y="47242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18640" y="1752480"/>
            <a:ext cx="15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omic com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4648320" y="23623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3873-A3E9-48FE-884F-D28B6450A13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-User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3504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esentation Servi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displays forms, handles flow of information to/from scr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pplication Servi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implements user request, interacts with 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ID properties automatic (isolation is trivial) or not required (this is not really an enterpri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aptop"/>
          <p:cNvSpPr/>
          <p:nvPr/>
        </p:nvSpPr>
        <p:spPr>
          <a:xfrm>
            <a:off x="533520" y="1905120"/>
            <a:ext cx="1295280" cy="10573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3600" y="1981080"/>
            <a:ext cx="3134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ation   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           serv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62320" y="190512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1905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274320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362320" y="1905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1905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24480" y="18288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1676520"/>
            <a:ext cx="91440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9461400">
            <a:off x="7065000" y="1065960"/>
            <a:ext cx="182916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84" y="93"/>
                </a:moveTo>
                <a:arcTo wR="10800" hR="10800" stAng="-5852060" swAng="3490320"/>
                <a:lnTo>
                  <a:pt x="10800" y="10800"/>
                </a:lnTo>
                <a:close/>
              </a:path>
              <a:path fill="none" w="21600" h="21600">
                <a:moveTo>
                  <a:pt x="9384" y="93"/>
                </a:moveTo>
                <a:arcTo wR="10800" hR="10800" stAng="-5852060" swAng="349032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458200" y="1828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43800" y="1828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98240" y="304812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5960" y="1066680"/>
            <a:ext cx="20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3924000" y="1409400"/>
            <a:ext cx="152640" cy="3124440"/>
          </a:xfrm>
          <a:custGeom>
            <a:avLst/>
            <a:gdLst>
              <a:gd name="textAreaLeft" fmla="*/ 97560 w 152640"/>
              <a:gd name="textAreaRight" fmla="*/ 153000 w 152640"/>
              <a:gd name="textAreaTop" fmla="*/ 81360 h 3124440"/>
              <a:gd name="textAreaBottom" fmla="*/ 3043080 h 312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5295960" y="-1485720"/>
            <a:ext cx="152280" cy="6019560"/>
          </a:xfrm>
          <a:custGeom>
            <a:avLst/>
            <a:gdLst>
              <a:gd name="textAreaLeft" fmla="*/ 0 w 152280"/>
              <a:gd name="textAreaRight" fmla="*/ 55080 w 152280"/>
              <a:gd name="textAreaTop" fmla="*/ 156960 h 6019560"/>
              <a:gd name="textAreaBottom" fmla="*/ 5862600 h 601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2286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2286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5D78-E51E-46EE-A491-4587B86C0F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 Moni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P Moni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llection of middleware components that is useful in building hetereogeneous  transaction processing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 transaction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independent services not usually provided by an 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yer of software between operating system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s the abstraction of a (global)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7B31-F84D-4A8F-B6FD-5921EEDFDD7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ed Structure of a  Transaction Processing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664360" y="220968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972520" y="327672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P Mon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42480" y="43434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436120" y="5410080"/>
            <a:ext cx="34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Compute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397560" y="2209680"/>
            <a:ext cx="20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ansactional 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981080" y="28954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981080" y="40384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981080" y="5105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5486400" y="2362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8640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55E9-9232-48FA-9B15-8C02D68B025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 Monitor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t on message passing facility of 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al peer-to-peer and/or remote procedure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ID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solation for a (non-db) server might be provided by a lock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s locks that an application can explicitly associate with instances of any re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atomicity for a (non-db) server might be provided by a log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s a log that can be explicitly used by an application to store data that can be used to roll back changes to a re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isolation and atomicity are provided by transaction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C830-AAA0-4052-9D8E-BF9545F7E95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 Monitor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g and load bal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P monitor can use load balancing to route a request to the least loaded member of a server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ads can be thought of as low cost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in serv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.g.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pplication server) that might be maintaining sessions for a large number of cl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P monitor provides threads if OS does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CD4B-7ABC-41F4-9DB3-C1A90139655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 Monitor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able que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ion, authentication, and autho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cellaneous ser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ck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6E6B-8EAD-47DD-99E2-77C1C4050DA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cation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s of a distributed transaction must commun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passing facility of underlying  OS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nvenient to use, lacks type chec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support transaction abstraction (atomic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ed transactions spread via messages =&gt; message passing facility can support mechanism to keep track of sub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P monitor builds an enhanced communication facility on top of message passing facility of 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al remote procedure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al peer-to-peer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4853-F6F5-45AC-9C08-D5275577879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te Procedure Call (RP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l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nient to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type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ally supports client/serve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PC extends procedural communication to distributed compu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llocation of local variables limits ability to store context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el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 can be stored globally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database) or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 between caller and calle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text 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3761-18A8-4975-9852-8E022046683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te Procedure C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ymmetr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caller invokes, callee resp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ynchron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caller waits for call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cation transpa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caller cannot tell wheth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e is local or re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e has moved from one site to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FA25-3554-4D95-9D15-D57C804DB4E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 Implementation: Stu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3520" y="1676520"/>
            <a:ext cx="175248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 p(…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38080" y="2209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0" y="1676520"/>
            <a:ext cx="167652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086600" y="2209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286000" y="1676520"/>
            <a:ext cx="167652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t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 m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181480" y="1676520"/>
            <a:ext cx="167652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 st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 msg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 p(…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486400" y="2209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590920" y="2209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990720" y="4876920"/>
            <a:ext cx="243828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ed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ing ker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38680" y="4876920"/>
            <a:ext cx="243864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ed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ing ker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2057400" y="24379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2666880" y="2971800"/>
            <a:ext cx="1447920" cy="1905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29000" y="54864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6629400" y="243792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812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 flipV="1">
            <a:off x="4724280" y="3657240"/>
            <a:ext cx="144792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4724280" y="274320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677240" y="594360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t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478200" y="5943600"/>
            <a:ext cx="80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t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B243-2606-4B8C-BE9F-8CA9AF98A99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b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ent stu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es server - sends globally unique name (character string) provided by application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s up connection to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shal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guments and procedure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s invocation message (uses message pass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 stu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marshalls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kes procedure lo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s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F4DB-70B8-46F8-9858-19B6BD242BC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ntralized Multi-User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mb terminals connected to main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and presentation services on main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ID propertie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ion: DBMS sees an interleaved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ity and durability: system supports a major enter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abstraction, implemented by DBMS, provides ACID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28F8-C7D9-44EE-B56C-8D2A21FE23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nection Set-Up: I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publishes its interface as a file written 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face Definition Langu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DL).  Specifies procedure names, arguments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L compiler produces header file and server-specific stu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 file compiled with application code (type checking possi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 stub linked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3A70-DCC2-4EFB-98A0-9F674E55A6F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nection Set-Up: Directory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does not specify the location of server that supports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might 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might be supported by serv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rectory (Name) Servi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vides run-time rendezvo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registers its globally unique name, net address, interfaces it supports, protocols it us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stub sends server name or interface 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ory service responds with address,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2017-43EC-4D57-8052-975AA726066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: Fail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 failures (communication lines, computers) are exp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can often be provided despite fail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o response to invocation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reasons: communication slow, message lost, server crashed, server 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actions: resend message, contact different server, abort client, continue to w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ifferent actions appropriate to different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8485-ACDD-4CDC-990C-28D1B94813D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al RPC and Glob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omi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 execut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x_beg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initiate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stub calls transaction manager (T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 returns transaction id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nsactional RP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TRPC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stub append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ach call to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stub informs TM when it is called for firs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has joined the client’s transa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 commits by execu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x_com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stub calls 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 coordin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omic commit protoc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mong servers to ensure global atom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02E5-121B-4643-AEF2-95C77184FAE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 Manager and TR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8240" y="1447920"/>
            <a:ext cx="3093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x_begin             invoke 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 p(..)            pass tid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dy                 St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67280" y="1371600"/>
            <a:ext cx="2971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action Mgr, 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t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t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rd ne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transaction of t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34040" y="4495680"/>
            <a:ext cx="3377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a_reg (t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 p(..)                    p: 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b                              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ource Mgr,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" y="1981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42670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4038480" y="1981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00" y="19810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267080" y="4572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267080" y="57913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267080" y="45720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610480" y="4572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81280" y="3733920"/>
            <a:ext cx="8384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5410080" y="3200400"/>
            <a:ext cx="5335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5638320" y="388620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63868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5181480" y="5334120"/>
            <a:ext cx="1447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 flipV="1">
            <a:off x="3200040" y="4114440"/>
            <a:ext cx="1219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1447560" y="4114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57400" y="1981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5880" y="4572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562720" y="19810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562720" y="39625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8458200" y="19810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5562360" y="19810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752480" y="4952880"/>
            <a:ext cx="108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400080" y="3962520"/>
            <a:ext cx="1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a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2819520" y="48769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601992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752480" y="2286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809880" y="22096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3505320" y="25146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 flipV="1">
            <a:off x="1142640" y="2514600"/>
            <a:ext cx="1219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7652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74920" y="1461960"/>
            <a:ext cx="133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x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80060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AE56-6930-4FBD-8F41-54E7A66675B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nsaction Manager and Atomic Commit Protoc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77880" y="1447920"/>
            <a:ext cx="3375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x_begin           invoke 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x_commit        invoke TM(t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dy                 St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2240" y="1371600"/>
            <a:ext cx="2713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action Mgr, 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t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t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commit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334040" y="4495680"/>
            <a:ext cx="3377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b                              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ource Mgr,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85800" y="1981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85800" y="42670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038480" y="1981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" y="19810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267080" y="4572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57913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267080" y="45720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610480" y="4572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057400" y="1981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477120" y="4572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715000" y="19810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15000" y="39625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8610480" y="19810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5714640" y="19810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95160" y="3962520"/>
            <a:ext cx="1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a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5181120" y="41911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75248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09880" y="2209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504960" y="25146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1142640" y="2590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810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174920" y="1461960"/>
            <a:ext cx="133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x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80060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159984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4343040" y="3200400"/>
            <a:ext cx="15238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4648320" y="320040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31240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3276720" y="34290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6A89-E33B-4DCB-835C-DAE3DB92448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PC and Fail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bs must guarante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ctly once semant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handling failures.  Eith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procedure executed exactly once and transaction can continue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procedure does not execute and transaction ab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called procedure makes a (nested) call to another server and then crash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ph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left in system when transaction ab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phan elimination algorithm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A3CE-A274-444A-A438-81DDCB3029B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er-To-Peer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ymmetr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: Once a connection is established communicants are equal (peers) - both can execute send/receive.  If requestor is part of a transaction, requestee joins the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ynchron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ender continues executing after send; arbitrary patterns (streams) of messages possible; communication more flexible, complex, and error prone than RPC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 location transpa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E20C-90BF-4358-8392-1162C26F908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er-To-Peer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ion can b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lf dupl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only one peer is in send mode at a time) 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ll dupl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oth can send simultaneous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i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tatefu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each peer can maintain context over duration of exchang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message received can be interpreted with respect to that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A7A6-DB86-46F8-AAAB-A7A80A459D6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er-To-Peer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6840" y="358092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dule can have multiple connections concurr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onnection associated with transaction that create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ew instance of  called program is created when a connection is establi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nections associated with a particular transaction form an acyclic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nodes of graph coequal (no root as in R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209680" y="1447920"/>
            <a:ext cx="76212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86200" y="27432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209680" y="27432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809880" y="13716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486400" y="27432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97180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191120" y="2133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97180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495680" y="198108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1C30-C2A2-45EB-A29E-BA9F0387C77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ntralized Multi-User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6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32800" y="6094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4114800"/>
            <a:ext cx="8458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aptop"/>
          <p:cNvSpPr/>
          <p:nvPr/>
        </p:nvSpPr>
        <p:spPr>
          <a:xfrm>
            <a:off x="533520" y="2286000"/>
            <a:ext cx="1295280" cy="12859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251460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33526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36232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43800" y="3657600"/>
            <a:ext cx="9144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9461400">
            <a:off x="7065000" y="3047040"/>
            <a:ext cx="182916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84" y="93"/>
                </a:moveTo>
                <a:arcTo wR="10800" hR="10800" stAng="-5852060" swAng="3490320"/>
                <a:lnTo>
                  <a:pt x="10800" y="10800"/>
                </a:lnTo>
                <a:close/>
              </a:path>
              <a:path fill="none" w="21600" h="21600">
                <a:moveTo>
                  <a:pt x="9384" y="93"/>
                </a:moveTo>
                <a:arcTo wR="10800" hR="10800" stAng="-5852060" swAng="349032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45820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4380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98240" y="594360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70240" y="1676520"/>
            <a:ext cx="179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3924000" y="4381200"/>
            <a:ext cx="152640" cy="3124440"/>
          </a:xfrm>
          <a:custGeom>
            <a:avLst/>
            <a:gdLst>
              <a:gd name="textAreaLeft" fmla="*/ 97560 w 152640"/>
              <a:gd name="textAreaRight" fmla="*/ 153000 w 152640"/>
              <a:gd name="textAreaTop" fmla="*/ 81360 h 3124440"/>
              <a:gd name="textAreaBottom" fmla="*/ 3043080 h 312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5295960" y="-876240"/>
            <a:ext cx="152280" cy="6019560"/>
          </a:xfrm>
          <a:custGeom>
            <a:avLst/>
            <a:gdLst>
              <a:gd name="textAreaLeft" fmla="*/ 0 w 152280"/>
              <a:gd name="textAreaRight" fmla="*/ 55080 w 152280"/>
              <a:gd name="textAreaTop" fmla="*/ 156960 h 6019560"/>
              <a:gd name="textAreaBottom" fmla="*/ 5862600 h 601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2895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191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aptop"/>
          <p:cNvSpPr/>
          <p:nvPr/>
        </p:nvSpPr>
        <p:spPr>
          <a:xfrm>
            <a:off x="533520" y="4800600"/>
            <a:ext cx="1295280" cy="10573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2895480"/>
            <a:ext cx="685800" cy="129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571500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62320" y="487692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362320" y="4876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638680" y="4876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10920" y="4967280"/>
            <a:ext cx="281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ation   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           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2880" y="2590920"/>
            <a:ext cx="281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ation   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           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4876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5334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638680" y="41907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6200000">
            <a:off x="3560760" y="367920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• 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0480" y="1600200"/>
            <a:ext cx="17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1981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26280" y="396252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36576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38880" y="36576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8000" y="601992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mb ter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0B86-9E0A-4428-944B-B3EDA6D79E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er-To-Peer and Comm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equal status:  Since there is no root (as in RPC) who initiates the comm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ynchronous: How can initiator of commit be sure that all nodes have completed their computations?  (This is not a problem with RP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C846-B361-4007-A1ED-B93CEBD6996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: Syncpoints in Half Duplex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nod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nitiates commit.  It does this  wh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completes its computation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its connections are in send m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lare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ncpoi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waits for protocol to comple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P monitor sends syncpoint message to all neighbor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3202-8CE9-4848-9F37-FBA576A1CFF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cpoint Protocol (con’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s its computation and all its connections (other than connection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re in send mod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clares syncpoint and wa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P monitor sends syncpoint message to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s neighbors (other th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yncpoint message reaches all nodes, all computation is complete and all have agreed to comm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34AA-3AEA-48DB-B6E8-6ED0E92719F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cpoint Err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440" y="3504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wo nodes, all of whose connections are in send mode, initiate commit concurr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Protocol does not terminate.  First node to receive two syncpoint messages cannot declare a sync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809880" y="13716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09680" y="2590920"/>
            <a:ext cx="76212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86400" y="2590920"/>
            <a:ext cx="76212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86200" y="2590920"/>
            <a:ext cx="76212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209680" y="13716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971800" y="1752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191120" y="2133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971800" y="2971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648320" y="2971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5B21-1389-43EB-9A5C-981DA47AD53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Exceptional Sit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TRPC and peer-to-peer communication, a server services requests and is idle when no request is pen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ometimes a server needs an interrupt mechanism to inform it of exceptional events that require immediate response even if it is bu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E701-1336-4395-91C2-F86FFEC9ECA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trols flow of chemicals into furn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s tem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ust be informed when temperature reaches li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ution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l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riodically to check tem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teful if limit rarely reached, very wasteful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st respond fast (polling must be frequ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ution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rrup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en limit reac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9997-4C2E-4467-8284-7E831CE93CD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 handling modul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gister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of its event handling routine with TP monitor using event API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er operates as an interrupt rou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 generating module recognizes event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tif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vent handling module using event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P monitor interrupts event handling module and causes it to execute handling rout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73BA-AC9B-4A3E-ABB6-DA596F4BD17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3885840"/>
            <a:ext cx="80773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event generating module recognizes event in the context of a transaction, T,  execution of handler is part of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event generating module must know the identity of event handling mo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990720" y="1600200"/>
            <a:ext cx="327636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943600" y="1600200"/>
            <a:ext cx="25146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941080" y="1600200"/>
            <a:ext cx="18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 gener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988200" y="1600200"/>
            <a:ext cx="168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 hand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ule, E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505320" y="1981080"/>
            <a:ext cx="7617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96560" y="19051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962880" y="304812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3809880" y="2590560"/>
            <a:ext cx="15264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421160" y="18288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ify(EH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4266720" y="2133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296000" y="335268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ister(add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52388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92DE-43B1-4052-A23F-011B9E5E72F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t Brok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Use broker as an intermedi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s are named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handling modu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ndler with the TP monitor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cr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calling the broker with E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generating modu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the broker when it occ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k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if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vent handl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recogni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generating module is part of a transaction, execution of handler is al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1AF5-613A-43B3-B747-5E2CAE429DB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t Brok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440" y="533376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ker can cause alternate actions in addition to notifying hand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143000" y="1295280"/>
            <a:ext cx="28195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334120" y="1295280"/>
            <a:ext cx="24382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3124080"/>
            <a:ext cx="144756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676520" y="4343400"/>
            <a:ext cx="16761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019920" y="4267080"/>
            <a:ext cx="16761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140480" y="1295280"/>
            <a:ext cx="168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 hand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ule, E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31600" y="1295280"/>
            <a:ext cx="18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 gener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676160" y="43434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019920" y="4267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961440" y="3124080"/>
            <a:ext cx="8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2971800" y="38862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410080" y="388620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744280" y="380988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o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792040" y="373392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5181480" y="251460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411520" y="26668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(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733920" y="24382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87280" y="243828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scribe(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05280" y="281952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ister(add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44792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429000" y="1752480"/>
            <a:ext cx="533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820600" y="16765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058840" y="297180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ify(EH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882880" y="1981080"/>
            <a:ext cx="1079640" cy="1447920"/>
          </a:xfrm>
          <a:custGeom>
            <a:avLst/>
            <a:gdLst/>
            <a:ahLst/>
            <a:rect l="l" t="t" r="r" b="b"/>
            <a:pathLst>
              <a:path w="680" h="912">
                <a:moveTo>
                  <a:pt x="680" y="912"/>
                </a:moveTo>
                <a:cubicBezTo>
                  <a:pt x="396" y="772"/>
                  <a:pt x="112" y="632"/>
                  <a:pt x="56" y="480"/>
                </a:cubicBezTo>
                <a:cubicBezTo>
                  <a:pt x="0" y="328"/>
                  <a:pt x="296" y="80"/>
                  <a:pt x="3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CAD5-D658-429D-9B4D-B6D5B59C85F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 Processing in a Distributed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eased cost of hardware and communication make it possible to distribute components of transaction process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b terminal replaced by comp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/server organization generally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F04B-6BC7-407E-8676-7EF5EB1ADB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age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ch of this chapter deals with various architectures for increasing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erformance bottleneck we have not yet discussed is disk I/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hard to get throughput of thousands of transactions per second when each disk access requires a time measured in thousandths of a sec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72ED-44C5-4E75-97FB-E192335BB7E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k Ca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BMS maintains a disk cache in ma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tly accessed disk pages are kept in the cache and if at some later time a transaction accesses that page, it can access the cached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designers try to obtain over 90% hit rate in the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cache sizes are in the tens of giga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iscuss caches in detail in Chapter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7021-EBB4-49A2-8750-CA967B2EFAAD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ID 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AID (Redundant Array of Independent  Disks) consists of a set of disks configured to look like a single disk with increased throughput and rel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throughput is obtained by striping or partitioning each file over a number of disks, thus decreasing the time to access that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reliability is obtained by storing the data redundantly,  for example using parity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8BF2-A8CA-41B6-9922-0CC79FED4881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ID Systems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discuss RAID systems in detail in Chapter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we point out that a number of RAID levels have been defined, depending on the type of striping and redundancy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vels usually recommended for transaction processing system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5: Block-level striping of both data and p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10:  A striped array of mirrored d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CA8B-53CE-4B91-88A3-C56B7CC2CFC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S and S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NAS (Network Attached Storage) a file server, sometimes called an appliance, is directly connected to the same network as the application server and other ser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les on the appliance can be shared by all the 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7298-5D4D-4ADD-AAA9-40773FAC264C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S and SAN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SAN (Storage Attached Network) a server connects to its storage devices over a separate high speed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twork operates at about the same speed as the bus on which a disk might connected to th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rver accesses the storage devices using the same commands and at the same speed as if it were connected on a 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C095-D1E9-4190-A449-F55FB35B6C23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S and SAN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NAS and SAN can scale to more storage devices than if those devices were connected directly to th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s are usually considered preferable for high performance transaction processing systems because the DBMS can access the storage devices directly instead of having to go through a ser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2949-2668-44A2-9994-3FDC0F84A51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 Processing on the 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owth of the Internet has stimulated the development of many Internet services  involving transaction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with throughput requirements of thousands of transactions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F767-6221-4BD2-A92D-A78F606BCEF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2B and B2B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2B (Customer-to-Business)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involve people interacting with the system through their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2B (Business-to-Business)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fully autom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s on one business’s Web site communicates with programs on another business’s Web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8F66-E084-47D3-96FA-DDBBE321D2BE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nt-End and Back-End 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nt-end services refers to the interface a service offers to customers and busin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t is described to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t is invo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-end services refers to how that service is actually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1F75-6143-4B30-B299-8DF4771AAD3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Tiered Model of T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6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32800" y="6094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4114800"/>
            <a:ext cx="8458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251460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33526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36232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3657600"/>
            <a:ext cx="9144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9461400">
            <a:off x="7065000" y="3047040"/>
            <a:ext cx="182916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84" y="93"/>
                </a:moveTo>
                <a:arcTo wR="10800" hR="10800" stAng="-5852060" swAng="3490320"/>
                <a:lnTo>
                  <a:pt x="10800" y="10800"/>
                </a:lnTo>
                <a:close/>
              </a:path>
              <a:path fill="none" w="21600" h="21600">
                <a:moveTo>
                  <a:pt x="9384" y="93"/>
                </a:moveTo>
                <a:arcTo wR="10800" hR="10800" stAng="-5852060" swAng="349032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45820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4380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686040" y="59356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74960" y="1371600"/>
            <a:ext cx="174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7238880" y="1066320"/>
            <a:ext cx="152280" cy="2133360"/>
          </a:xfrm>
          <a:custGeom>
            <a:avLst/>
            <a:gdLst>
              <a:gd name="textAreaLeft" fmla="*/ 0 w 152280"/>
              <a:gd name="textAreaRight" fmla="*/ 55080 w 152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52480" y="2895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38880" y="4191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2895480"/>
            <a:ext cx="685800" cy="129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62320" y="571500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487692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362320" y="4876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638680" y="4876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10920" y="4967280"/>
            <a:ext cx="281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ation   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           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2880" y="2590920"/>
            <a:ext cx="281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ation   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           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86200" y="4876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5334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638680" y="41907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3560760" y="367920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• 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3086280" y="-266760"/>
            <a:ext cx="75960" cy="4876920"/>
          </a:xfrm>
          <a:custGeom>
            <a:avLst/>
            <a:gdLst>
              <a:gd name="textAreaLeft" fmla="*/ 0 w 75960"/>
              <a:gd name="textAreaRight" fmla="*/ 27360 w 75960"/>
              <a:gd name="textAreaTop" fmla="*/ 127080 h 4876920"/>
              <a:gd name="textAreaBottom" fmla="*/ 4749840 h 487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11560" y="160020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computr2"/>
          <p:cNvSpPr/>
          <p:nvPr/>
        </p:nvSpPr>
        <p:spPr>
          <a:xfrm>
            <a:off x="457200" y="2438280"/>
            <a:ext cx="1371600" cy="1067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computr2"/>
          <p:cNvSpPr/>
          <p:nvPr/>
        </p:nvSpPr>
        <p:spPr>
          <a:xfrm>
            <a:off x="457200" y="4724280"/>
            <a:ext cx="1371600" cy="1067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3360" y="5638680"/>
            <a:ext cx="17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6095880" y="49525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1342-98BE-4A7B-8E60-C5D1DDCC79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nt-End and Back-End Services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we discuss architectures for C2B systems in which the front-end services are provided by a browser and the back-end services can be implemented as discussed earlier in the chap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we discuss how back-end services can be implemented by commercial Web application 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same back-end implementations can be used for B2B services using a different front-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iscuss B2B front-end services in Chapter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0CC4-34AC-4CC0-94DE-C15AA7295B74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2B Transaction Processing on the 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information interchang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requests information from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sends to browser HTML page and possibly one or more Java programs called app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interacts with page and Java programs and sends information back to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servlet on server reads information from user,  processes it, perhaps accesses a database, and sends new page back to 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08CB-1042-4ACB-AE6C-0C6B938C5D37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2B Transaction Processing on the Internet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lets have a lifetime that extends beyond on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it is started, it creates a number of 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threads are assigned dynamically to each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lets provide API for maintaining contex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xt information is stored in file on Web server that  is accessed through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ssion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ok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servlet places session number in a cookie file in browser; subsequent servlets can access cook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idden fields in 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servlet places session number in hidden field in HTML document it sends to browser; hidden field is not displayed but is returned with HTML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ppended field to HTTP return 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session number is appended to HTTP return address and can be accessed by next serv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BA71-C9F7-4FE7-9C3E-F44CAC1A38BD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es for Transaction Processing on the 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wser plays the role of presentation server and  application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applet on browser implements the transaction and accesses database using JD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wser plays the role of presentation server, and servlet program on server plays the role of application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let program implements the transaction and accesses database using JD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20AD-8B1A-4DCB-A38C-E204A8699283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es for Transaction Processing on the 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high throughput applications require a three- or four-tiered archite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getting inputs from browser, the servlet program initiates the transaction on the application server, which is not connected to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server might be separated from the Web server by a fire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TP system’s viewpoint, the browser and servlet program together are acting as the presentation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C34A-0B78-4963-B45A-BF97020FEFD9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e of a Web Transaction Processing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971800" y="3276720"/>
            <a:ext cx="243828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867280" y="3276720"/>
            <a:ext cx="213372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3276720"/>
            <a:ext cx="198108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" y="35812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200400" y="3657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19920" y="3581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57200" y="48769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acts with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895480" y="4876920"/>
            <a:ext cx="266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the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943600" y="48769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s the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51460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41008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28600" y="388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971800" y="54864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pplication might be a transaction program that implements the business rules of the Web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33520" y="54864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va servlet receives messages and calls program on application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0843-537A-458A-ADCD-992656B7776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 Interface to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vle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Web server interacts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browser using HTTP messages and then initiates programs on the application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EFDA-9493-4219-85DE-3CB90C65E02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Application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eb application server is a set of tools and modules for building and executing transaction processing systems for the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ing the application server tier of th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is confusing beca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pplication serv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name usually given to the middle tier in an transaction process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4EFF-D27D-4AD7-810F-CF636F0300F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Application Servers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Web application servers support the J2EE (Java 2 Enterprise Edition)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Microsoft .N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iscuss J2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2EE   One language, many platfor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tandard implemented by many vend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NET   One platform, many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t of products of Microso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FCBA-2AB5-4CCA-961E-7FE1D95CE60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2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2EE defines a set of services and classes particularly oriented toward transaction-oriented Web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serv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prise Java b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74BE-298F-4909-B11D-5ED5815FDDE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of Stored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tages that result from having the database server export a stored procedure interface instead of an SQL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: procedures can be protected since they are maintained at the enterprise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traffic reduced, response time re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enance easier since newer versions don’t have to be distributed to client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can be implemented at the procedure (rather than the statement)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 can be prepared in ad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services sees a higher level of abstraction, doesn’t interact directly wit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F72E-E301-4045-881F-645E80B1E5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erprise Java Be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classes that implement the business methods of an enter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e within an infrastructure of services provided by the Web application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 transactions, persistence, concurrency, authorization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s declarative transaction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ean programmer can just declare that a particular method is to be a transaction and does not have to specify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m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n programmer can focus on business methods of the enterprise rather on details of system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6B19-4F3A-47E3-8821-BE4C64AA9E2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ity Be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tity be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s a persistent business object whose state is stored in the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entity bean corresponds to a database ta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instance of that bean corresponds to a row in that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12E9-C503-4EE3-AD80-8933ACC3745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an Entity Be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ntity bean called Account, which corresponds to a database table Ac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instance of that bean corresponds to a row in tha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 has  fields that include AccountId and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ountId is the primary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 entity bean has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ndByPrimaryK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thod that can be used to find the bean based on its primary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 has other methods that might inclu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os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thdr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A231-55C0-4FC2-99BD-BE8C480152F4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istence of Entity Be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hanges to the bean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ersist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at those changes are propagated to the corresponding database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ersistence can be managed either  manually by the bean itself using standard JDBC statements or automatically by the system (as described la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stem can also automatically manage the authorization and transactional properties of the bean (as described la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FEA6-67ED-4C3B-996A-3433336958B3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ssion Be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ssion be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s a client performing interactions within a session using the business methods of the enterp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ssion is a sequence of interactions by a user to accomplish some objective.  For example, a session might include selecting items from a catalog and then purchasing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ssion bean retains its state during all the interactions of the s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less session beans also ex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27CF-AAA0-4BEB-9F79-BF0BC47F2018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a Session Be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ppingCart provides the services of adding items to a “shopping cart” and then purchasing the selected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inclu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ItemToShoppingC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eck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ppingCart maintains state during all the interactions of a s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remembers what items are in the shopping c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1CB8-8B57-4ABC-8B65-D0139E0A0D12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ssion Beans and Entity Be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beans can call methods in entity b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eck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of the ShoppingCart session bean calls appropriate methods in the Customer, Order, and Shipping entity beans to record the order in the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3426-BA5E-4983-AB3A-3188366E0BA9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ssion Bean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beans can be transac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ansaction can be managed manually by the bean itself using standard JDBC or JTA  (Java Transaction API) calls or automatically by the system (as described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6433-7F18-4FF2-9461-BDAC906E4FA3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-76248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-Driven Be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f the communication so far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ynchron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ssion bean calls an entity bean and waits for a re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the sender of a message does not need to wait for a re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 can b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us increasing through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-driven beans are provided for this purp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ssage-driven be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like a session bean in that it implements the business methods of the enter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called when an asynchronous JMS message is placed on the message queue to which it is associ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is called by the system to process the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9969-2E4A-49D5-87D8-791353086781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a Message-Driven Be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shopping cart 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ck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completes, it sends an asynchronous message to the shipping department to ship the purchased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hipping department maintains a message queu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ippingMessageQ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message driven bean, ShippingMessageQListener, associated with that 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message is placed on the queue, the system selects an instance of the bean to process it and calls that bean’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nMess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EFB6-AE28-4A24-A20C-DACB90A608AF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-Tiered Model of T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6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32800" y="6094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4114800"/>
            <a:ext cx="8458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2514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0" y="3352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28600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5760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3733920"/>
            <a:ext cx="8384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3800" y="3657600"/>
            <a:ext cx="91440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9461400">
            <a:off x="7065000" y="3047040"/>
            <a:ext cx="182916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84" y="93"/>
                </a:moveTo>
                <a:arcTo wR="10800" hR="10800" stAng="-5852060" swAng="3490320"/>
                <a:lnTo>
                  <a:pt x="10800" y="10800"/>
                </a:lnTo>
                <a:close/>
              </a:path>
              <a:path fill="none" w="21600" h="21600">
                <a:moveTo>
                  <a:pt x="9384" y="93"/>
                </a:moveTo>
                <a:arcTo wR="10800" hR="10800" stAng="-5852060" swAng="349032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45820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4380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74960" y="1371600"/>
            <a:ext cx="174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7238880" y="1066320"/>
            <a:ext cx="152280" cy="2133360"/>
          </a:xfrm>
          <a:custGeom>
            <a:avLst/>
            <a:gdLst>
              <a:gd name="textAreaLeft" fmla="*/ 0 w 152280"/>
              <a:gd name="textAreaRight" fmla="*/ 55080 w 152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2895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16292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362320" y="4876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638680" y="3733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259092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33920" y="4876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7652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6200000">
            <a:off x="2646360" y="375516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• 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2133720" y="685440"/>
            <a:ext cx="75960" cy="2971800"/>
          </a:xfrm>
          <a:custGeom>
            <a:avLst/>
            <a:gdLst>
              <a:gd name="textAreaLeft" fmla="*/ 0 w 75960"/>
              <a:gd name="textAreaRight" fmla="*/ 27360 w 7596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93840" y="160020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computr2"/>
          <p:cNvSpPr/>
          <p:nvPr/>
        </p:nvSpPr>
        <p:spPr>
          <a:xfrm>
            <a:off x="457200" y="2438280"/>
            <a:ext cx="1371600" cy="1067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computr2"/>
          <p:cNvSpPr/>
          <p:nvPr/>
        </p:nvSpPr>
        <p:spPr>
          <a:xfrm>
            <a:off x="457200" y="4724280"/>
            <a:ext cx="1371600" cy="1067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64560" y="5638680"/>
            <a:ext cx="17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410080" y="457164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60520" y="4952880"/>
            <a:ext cx="142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62320" y="4876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62320" y="5715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42680" y="3809880"/>
            <a:ext cx="131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343400" y="3733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343400" y="4572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43400" y="3733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733920" y="419076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7600" y="2895480"/>
            <a:ext cx="685800" cy="129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4952880" y="1066320"/>
            <a:ext cx="152280" cy="2133360"/>
          </a:xfrm>
          <a:custGeom>
            <a:avLst/>
            <a:gdLst>
              <a:gd name="textAreaLeft" fmla="*/ 0 w 152280"/>
              <a:gd name="textAreaRight" fmla="*/ 55080 w 152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35600" y="1371600"/>
            <a:ext cx="199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3868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4267080" y="510516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03EE-7947-437F-BD51-E53FED654C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an Enterprise Be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a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 the implementations of the business methods of the enterp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remote interface  (also optionally a local interf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clients to access the bean class remotely, using RMI (or locally with the local interf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s as a proxy for the bean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 declarations of all the business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ome interface (also optionally a local home interf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 methods that control bean’s lif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, rem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finder methods(e.g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ndByPrimary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AC0F-7FF8-4A97-A5C7-A27F4C599904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an Enterprise Bean 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eployment descri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arative metadata for the be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s persistence, transactional, and authorization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3CCC-345B-4718-9C09-2A7D8EF900E5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Deployment Descrip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ployment descriptor for a banking application might say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thdra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 of an Account entity b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o be executed as a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executed either by the account owner or by a te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eld of the Account B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its persistence managed by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changes are automatically propagated to the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loyment descriptors are written in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0375-C28B-4EE2-B627-33D62FC3F67E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ion of a Deployment Descriptor Describing Autho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method-permission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role-name&gt; teller &lt;/role-na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method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ejb-name&gt; Account &lt;/ejb-na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method-name&g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ithdra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/method-na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method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method-permission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3683-81F7-4A4B-AA42-61BFB688A706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B  Contai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erprise beans together with their deployment descriptors are encapsulated within a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JB contain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pplied by the Web application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JB container provides system-level support for the beans based on information in their deployment descrip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A44C-7450-4FBE-BA22-8D5C465A1784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B Container 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JB container provides this support by intervening before and after each bean method is called and performing whatever actions are necess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method is called, the call goes to the similarly named interfa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rface method performs whatever actions are necessary before and after calling the bean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BE37-133E-44B0-9F7B-506F1AF00B07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B Container 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, if the deployment descriptor says the method is to run as a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terface method starts the transaction before calling the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s the transaction when the method comple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JB container supplies the code for the interface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4652-A674-41D4-9756-B8C89AE3BCF9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746280" y="1793880"/>
            <a:ext cx="85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62120" y="1752480"/>
            <a:ext cx="838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09480" y="1752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743200" y="685800"/>
            <a:ext cx="4648320" cy="32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743200" y="1676520"/>
            <a:ext cx="11430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419720" y="1676520"/>
            <a:ext cx="12189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248520" y="1676520"/>
            <a:ext cx="7617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486400" y="2666880"/>
            <a:ext cx="9907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743200" y="16765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pping C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67080" y="17524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pping Cart B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019920" y="167652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 B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562720" y="2666880"/>
            <a:ext cx="9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924680" y="1752480"/>
            <a:ext cx="1067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962520" y="4114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819520" y="2590920"/>
            <a:ext cx="120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te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648320" y="274320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an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11560" y="3352680"/>
            <a:ext cx="16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613560" y="240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553080" y="2590920"/>
            <a:ext cx="83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ity B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600200" y="1981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886200" y="1981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638680" y="205740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6019920" y="205704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01028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914400" y="51055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te and Local Interfaces Within a Co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447920" y="14479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7766-0C2C-4639-8373-BC078228D315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istence of Entity Be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istence of entity beans can be manag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ually by the bean itself (bean-managed persistence) using standard JDBC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ally by the container (container-managed persistence, cm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03A9-9F21-4AB4-B9DB-002274919DE1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Deployment Descriptor for Container Managed Persist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persistence-type&gt; container &lt;/persistence-typ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cmp-field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field-name&gt; balance &lt;/field-na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cmp-field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F9A9-1D50-42D8-A02D-6D1AB7694032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3T00:37:50Z</dcterms:created>
  <dc:creator>ARTHUR  BERNSTEIN</dc:creator>
  <dc:description/>
  <dc:language>en-US</dc:language>
  <cp:lastModifiedBy>Pearson Education</cp:lastModifiedBy>
  <cp:lastPrinted>1999-04-24T11:25:36Z</cp:lastPrinted>
  <dcterms:modified xsi:type="dcterms:W3CDTF">2005-04-06T15:57:30Z</dcterms:modified>
  <cp:revision>185</cp:revision>
  <dc:subject/>
  <dc:title>The Architecture of Transaction Processing Systems</dc:title>
</cp:coreProperties>
</file>