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A65-1EBD-41C6-A914-CDBFF583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F4D-D557-443D-87D4-92FAE219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AE9-3BDA-43EB-BA56-6EEA0E46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188-89FC-477E-941F-A369EE11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E859-7A47-41CA-A2CF-0803C582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EE3E-3DBA-4750-9E02-F7C0FA6D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6C08-AF32-4D08-9FED-DB942BAA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C0C3-3A99-416E-99D8-890730FE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50C6-8EB3-435F-8E03-7B88AE7F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4044-6AFF-441B-A7A7-A1FCD99B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3680-2F10-4F0C-A548-94044DC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D3F-7516-44AF-9139-2AA57C86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4D22-67AD-4582-8078-37382E3A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51A6-F261-42D0-BEE5-9C4BA575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3069-BC35-49B4-B019-45559EC9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51CB-D4AA-4FFB-9E97-87CF07F4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2F88-A111-4DE3-B15F-5B791F07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55AA-AEE9-45D2-A6A7-E79127D1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A8C-8737-493F-AFD9-5C1B8E35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ED6-A0FF-484F-8E9F-AF94C23B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9AF-9BC1-46F9-AF4C-90F7586B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80C4-70D4-4CD9-A1FA-2AAFA7AD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E08-FCE5-4D62-9051-FE68CA22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BB3-1D0B-44E8-BB7E-5E49DCC6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BA3E-34AC-4941-9BA6-1B81465E1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8840" y="91404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C251-375B-491E-9CDC-28B6359B4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8840" y="91404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2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8840" y="2819160"/>
            <a:ext cx="3429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ing Atomicity and Du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5BE9-5954-49A5-A644-4B0C62AC28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Abort Using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52578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rt 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can back to begin record using update records to revers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2133720"/>
            <a:ext cx="59436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133720"/>
            <a:ext cx="5715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 U      U       U       U       U       U     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    y        z        u        y        w     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    A      2.4     18      ab        3      4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36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0666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9960" y="400356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– begin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– update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97680" y="3976560"/>
            <a:ext cx="1014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ort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46748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158-B2A2-44CD-B5A3-AB5A552130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ging Save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vepoint recor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ed in log when savepoint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tid, savepoint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lback Proced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log backwards using tid to identify update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o updates using before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 scan when appropriate savepoint record encoun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2A9-703E-4B97-B433-6FABD72357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ash Recovery Using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rt all transactions active at time of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do you identify th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 recor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 rec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ended to log when transaction term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very Proced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log backwards - if T’s first record is an update record, T was active at time of crash.  Roll it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ransaction is not committed until its commit record is in the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205-540D-4735-9E75-410F56ADA5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ash Recovery Using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81280" y="4723920"/>
            <a:ext cx="5181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 not active at time of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133720"/>
            <a:ext cx="6858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133720"/>
            <a:ext cx="70102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 U      U       U       U       U      C      U     A    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    y        z        u        y               w            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    A       2.4     18     ab               3              4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99036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0666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8160" y="4003560"/>
            <a:ext cx="263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– begin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– update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– commit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– abort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2400" y="2133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5943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08840" y="4052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838188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769-5866-4172-AD80-9B52C2FE6A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ash Recovery Using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can must retrace entire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eriodically appe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point rec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og.  Contains tid’s of all active transactions at time of app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 scan goes at least as far as last checkpoint record app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active at time of crash determined from log suffix that includes last checkpoin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continues until those transactions have been roll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62E-E0DC-40E0-9D7E-2DC0E0EA4D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97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769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2096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209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581280"/>
            <a:ext cx="533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34290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800" y="152388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7656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8880" y="4003560"/>
            <a:ext cx="328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- update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- begin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- commit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- abort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K - checkpoint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077320" y="3123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2600" y="4994280"/>
            <a:ext cx="2555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ime of 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506-A4B9-4BF8-BADB-EC52BC02DC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-Ahead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updated two writes must occur: upd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database,  append of update log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goes fir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3280" y="2819520"/>
            <a:ext cx="70678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upd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append to log 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ash                          crash                            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before image in l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1337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2670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6294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5920" y="4648320"/>
            <a:ext cx="73724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append to log;  upd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ash                              crash                    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use before imag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has no eff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2096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111-0FB4-433D-B085-428FC0E4E2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-Ahead Log: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wo I/O operations for each databas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og buffer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log on mass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cal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lush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mass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sh cost pro-rated over multiple log app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ffectively reduces the cost to one I/O operation for each database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74D-FFCC-4865-AFF2-9FA98419DD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one I/O operation for each databas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atabase page cache in main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 is unit of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 containing requested item is brought to cache; then a copy of the item is transferred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n page in cache for futur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ache for requested item before doing I/O (I/O can be avoid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7A2-E781-4C7E-AB48-83AD959B1C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 and Log Buff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1828800"/>
            <a:ext cx="28191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2666880"/>
            <a:ext cx="3048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480060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502920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1828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4800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920" y="2514600"/>
            <a:ext cx="7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080" y="484200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3832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638680" y="41907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4191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610480" y="29714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22960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495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217-C006-4B06-986C-3DF62C5C47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Mal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processing systems have to maintain correctness in spite of mal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E26-A114-4E4C-846C-51EBD9CA68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che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he pages that have been updated are mark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he ultimately f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pages can simply be over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pages must be written to database before page frame can be re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8B7-62C4-4444-B971-154FFB316C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micity, Durability and  Buff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age and log buffers are vola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use affects the time data becomes non-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cates algorithms for atomicity and du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-ahead feature (move update records to log on mass store before database is updated) necessary to preserve atom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values written by a transaction must be on mass store when its commit record is written to log (move new values to mass store before commit record) to preserve du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not committed until commit record in log on mass st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new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449-127B-446B-8026-61ACC17D17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Mechanis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d vs. Unforced Wri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database p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forced write updates cache page, marks it dirty and returns control immediatel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d write updates cache page, marks it dirty, uses it to update database page on disk, and returns control when I/O comple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lo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forced append adds record to log buffer and returns control immediatel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d append, adds record to log buffer, writes buffer to log, and returns control when I/O comple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969F-B2ED-432D-B4B2-78D3952897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Mechanis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 Sequence Number (LSN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records are numbered sequenti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database page contains the LSN of the update record describing the most recent update of any item in the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4419720"/>
            <a:ext cx="685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4419720"/>
            <a:ext cx="685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4419720"/>
            <a:ext cx="685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4419720"/>
            <a:ext cx="685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19720"/>
            <a:ext cx="685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4419720"/>
            <a:ext cx="685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3962520"/>
            <a:ext cx="152424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680" y="5638680"/>
            <a:ext cx="111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 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7080" y="5715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65240" y="5715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952520" y="48006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248520" y="43434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668-D654-4D55-B17E-C2C2EBC9E4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rving Atomicity: the Write-Ahead Property and Buff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en the cache page replacement algorithm decides to write a dirty page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o mass store, an update record corresponding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still be in the log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log buffer if the LSN stor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greater than or equal to the LSN of the oldest record in the log buffer. 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eserves write-ahead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18B-03DD-47B8-864E-C5CEBFB361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rving Durability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ages updated by T might still be in cache when T’s commit record is appended to log buffe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commit record is in log buffer, it may be flushed to log at any time, causing a violation of dur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(dirty) pages in the cache that have been updated by T before appending T’s commit record to log buffe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ce poli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D1D-84EC-46B7-881B-22CC353104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ce Policy for Commi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update records of T in log buffer then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dirty pages updated by T in cache then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and (2) ens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omi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rite-ahead polic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’s commit record to log buffer then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buffer for immediate commit or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buffer when a group of transactions have committed (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up comm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and (3) ens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FC1-1815-49D7-A58D-1C5C7CDED8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ce Policy for Commi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4572000"/>
            <a:ext cx="4724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21337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67616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67616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10760" y="55627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41911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1219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1219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1219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142640" y="3276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15238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37339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2133720"/>
            <a:ext cx="297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640" y="220968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91120" y="4648320"/>
            <a:ext cx="4343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+1                  j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···         k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ld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5638680"/>
            <a:ext cx="9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81320" y="5638680"/>
            <a:ext cx="95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6748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17600" y="48006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5219640" y="331416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7734240" y="331416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4000" y="2057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2514600"/>
            <a:ext cx="2971800" cy="1676520"/>
          </a:xfrm>
          <a:custGeom>
            <a:avLst/>
            <a:gdLst/>
            <a:ahLst/>
            <a:rect l="l" t="t" r="r" b="b"/>
            <a:pathLst>
              <a:path w="1872" h="1056">
                <a:moveTo>
                  <a:pt x="0" y="1056"/>
                </a:moveTo>
                <a:cubicBezTo>
                  <a:pt x="28" y="784"/>
                  <a:pt x="56" y="512"/>
                  <a:pt x="336" y="384"/>
                </a:cubicBezTo>
                <a:cubicBezTo>
                  <a:pt x="616" y="256"/>
                  <a:pt x="1488" y="352"/>
                  <a:pt x="1680" y="288"/>
                </a:cubicBezTo>
                <a:cubicBezTo>
                  <a:pt x="1872" y="224"/>
                  <a:pt x="1528" y="40"/>
                  <a:pt x="148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2438280"/>
            <a:ext cx="698400" cy="1752840"/>
          </a:xfrm>
          <a:custGeom>
            <a:avLst/>
            <a:gdLst/>
            <a:ahLst/>
            <a:rect l="l" t="t" r="r" b="b"/>
            <a:pathLst>
              <a:path w="440" h="1104">
                <a:moveTo>
                  <a:pt x="0" y="1104"/>
                </a:moveTo>
                <a:cubicBezTo>
                  <a:pt x="164" y="924"/>
                  <a:pt x="328" y="744"/>
                  <a:pt x="384" y="576"/>
                </a:cubicBezTo>
                <a:cubicBezTo>
                  <a:pt x="440" y="408"/>
                  <a:pt x="392" y="192"/>
                  <a:pt x="336" y="96"/>
                </a:cubicBezTo>
                <a:cubicBezTo>
                  <a:pt x="280" y="0"/>
                  <a:pt x="164" y="0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286000" y="2971440"/>
            <a:ext cx="7632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79132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16292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19360" y="2986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848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459280" y="2895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95480" y="56530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590920" y="4571640"/>
            <a:ext cx="121896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3434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E5A-4C12-4DF0-B12B-9E40CC5C8AB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ce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’s updates are in database (on mass store) when it comm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must wait until dirty cache pages are for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containing items that are updated by many transaction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tspo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have to be forced with the commi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ransaction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an LRU page replacement algorithm would not write such a page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FE4-98FB-4232-8B0C-51F4BCF7BE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rving Durability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ages updated by T might still be in cache when T’s commit record is appended to log bu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Update record contai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fter im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alled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) as well as before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-ahead property still requires that update record be written to mass store before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it is no longer necessary to force dirty pages when commit record is written to log on mass store since all after images precede commit record in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ed to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-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7F4-8CD1-4DC7-A2AB-7987AEFA5E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lures: Cr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or failure, software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behaves unpredictably, destroying contents of ma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lat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s of mass stor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volatile mem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generally unaff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transactions interrupted, database left in inconsist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supports atomicity by providing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overy procedu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store database to consisten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rollforward is generally not feasible, recovery rolls active transactions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FC7-E8CF-4F75-9104-8FAF365B5B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-Force Commi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 T’s commit record to log buff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ffer for immediate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’s update records precede its commit record in buffer ensuring updates are durable before (or at the same time as) it com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’s dirty pages can be flushed from cache at any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pdate records have been writ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for write-ahead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’s dirty pages can be written before or after commi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70C-82C6-4AE6-BB05-1ECEB0D75B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Force Policy for Commi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91120" y="4572000"/>
            <a:ext cx="4724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1337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4038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67616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67616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10760" y="55627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8800" y="41911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1219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1219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1219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142640" y="3276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5238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37339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48320" y="2133720"/>
            <a:ext cx="297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7640" y="220968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02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4648320"/>
            <a:ext cx="4343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+1                  j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···    k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l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ew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10080" y="5638680"/>
            <a:ext cx="9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81320" y="5638680"/>
            <a:ext cx="95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6748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7600" y="48006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5219640" y="331416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7734240" y="331416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4000" y="22096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4120" y="2514600"/>
            <a:ext cx="2971800" cy="1676520"/>
          </a:xfrm>
          <a:custGeom>
            <a:avLst/>
            <a:gdLst/>
            <a:ahLst/>
            <a:rect l="l" t="t" r="r" b="b"/>
            <a:pathLst>
              <a:path w="1872" h="1056">
                <a:moveTo>
                  <a:pt x="0" y="1056"/>
                </a:moveTo>
                <a:cubicBezTo>
                  <a:pt x="28" y="784"/>
                  <a:pt x="56" y="512"/>
                  <a:pt x="336" y="384"/>
                </a:cubicBezTo>
                <a:cubicBezTo>
                  <a:pt x="616" y="256"/>
                  <a:pt x="1488" y="352"/>
                  <a:pt x="1680" y="288"/>
                </a:cubicBezTo>
                <a:cubicBezTo>
                  <a:pt x="1872" y="224"/>
                  <a:pt x="1528" y="40"/>
                  <a:pt x="148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2400" y="2438280"/>
            <a:ext cx="698400" cy="1752840"/>
          </a:xfrm>
          <a:custGeom>
            <a:avLst/>
            <a:gdLst/>
            <a:ahLst/>
            <a:rect l="l" t="t" r="r" b="b"/>
            <a:pathLst>
              <a:path w="440" h="1104">
                <a:moveTo>
                  <a:pt x="0" y="1104"/>
                </a:moveTo>
                <a:cubicBezTo>
                  <a:pt x="164" y="924"/>
                  <a:pt x="328" y="744"/>
                  <a:pt x="384" y="576"/>
                </a:cubicBezTo>
                <a:cubicBezTo>
                  <a:pt x="440" y="408"/>
                  <a:pt x="392" y="192"/>
                  <a:pt x="336" y="96"/>
                </a:cubicBezTo>
                <a:cubicBezTo>
                  <a:pt x="280" y="0"/>
                  <a:pt x="164" y="0"/>
                  <a:pt x="4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286000" y="2971440"/>
            <a:ext cx="7632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79132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162920" y="5486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19360" y="2986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3352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23520" y="3290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71800" y="57294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2590920" y="457164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267080" y="502884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67A-6D54-4452-B6D1-E6D2C3F5D9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-Force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doesn’t wait until dirty pages are for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 with hotspots don't have to be written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advant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sh recovery complicated: some updates of committed transactions (contained in redo records) might not be in database on restart after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records are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1402-85C8-4410-9476-3320F39635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No-Force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en a crash occurs there might exist some pages in database (on mass stor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ing updates of uncommitted transaction: they must be roll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do not (but should) contain the updates of committed transactions: they must be rolled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arp check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5C3-EF5D-4420-AC98-DC37C333B96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No-Force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839080" y="59436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23320" y="1981080"/>
            <a:ext cx="34948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                U              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l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ew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l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25146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30480" y="2590920"/>
            <a:ext cx="499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38862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39000" y="4038480"/>
            <a:ext cx="555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22096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22096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48769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58160" y="3429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2209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5257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34320" y="3276720"/>
            <a:ext cx="17172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m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ushe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t flu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91520" y="37749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19810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32004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1981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19720" y="1981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4120" y="1981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1981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629400" y="1981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67480" y="1981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924680" y="1981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534520" y="1981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853452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54920" y="5334120"/>
            <a:ext cx="4548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be rolled forward using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rolled back using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815-EC78-4DE2-9E74-F9E46B72C3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rp Check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far back must log be scanned in order to find update records of committed transactions that must be rolled forw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efore appending a checkpoint record, CK, to log buffer, halt processing and force all dirty pages from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 process can assume that all updates in records prior to CK were written to database (only updates in records after 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t be in data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210-CF0D-4C2E-BCCF-9B8AEC2BEC6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Sharp Check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og is scanned backward to most recent checkpoint record, CK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identify transactions active at time of cra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og is scanned forward from CK to most recent record. 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ter im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records are us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roll the database forw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og is scanned backwards to begin record of oldest transaction active at time of crash. 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fore im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update records of these transactions are us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roll these transactions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9A4F-E595-42C4-B9A8-D3AEFFE53C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Sharp Check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sue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atabase pages containing items updated after CK was appended to 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been flushed before cr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roble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ging, roll forward using after images in pass 2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mpot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forward  in this case is unnecessary, but not harm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75E-CFD4-4B7C-9016-F0D61D25E3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Sharp Check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sue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ome update records after CK might belong to an aborted transaction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These updates will not be rolled back in pass 3 sinc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not active at time of cr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rollback operations for aborting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ordinary updates and appe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nsating log rec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95280" y="4876920"/>
            <a:ext cx="609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5120" y="487692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487692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487692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4876920"/>
            <a:ext cx="609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76920" y="4876920"/>
            <a:ext cx="12189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5880" y="4876920"/>
            <a:ext cx="609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62920" y="6095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731520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487692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6160" y="614520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fore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3352680" y="57150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029200" y="57150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FF6-54A1-4571-95B2-13C3FCBEA4E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with Sharp Check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sue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at if system crashes during recove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y is restart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hysical logging is used, pass 2 and pass 3 operations are idempotent and hence can be re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E9B-2562-4610-8188-2FD0A32AB44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lures: Ab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cel butt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rred constraint che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adlock, lack of resour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chnique used by the recovery procedure supports atomic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l transaction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689-0FDD-495D-9BF7-8A2DF85B4D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zzy Check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annot stop the system to take sharp checkpoint (write dirty pag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zzy check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efore writing CK, record the identity of all dirty pages (do not flush them) in volatile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ecorded pages must be flushed before next checkpoint record is appended to log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94F-F978-4C88-B63D-201A1E1B8FC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zzy Check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320040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 corresponding to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recorded at 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will have been flushed by 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 corresponding to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recorded at 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gh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have been flushed at time of cr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2 must start at C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1828800"/>
            <a:ext cx="609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182880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0" y="182880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19520" y="182880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29000" y="182880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828800"/>
            <a:ext cx="609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48320" y="182880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182880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1828800"/>
            <a:ext cx="609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77120" y="182880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8520" y="2784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70866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906-04F1-4D99-AFAA-0D6125FAA86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ving 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at do you do when the log fills mass st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portions of log are not generally discarded since they contain important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of how database got to its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or analyzing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chiv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itial portion of the log on tertiary storage.  Only the portion of the log containing records of active transactions needs to be maintained on secondary 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785-C5EB-4850-80E1-057D009325D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ith physical logging, simple database updates can result in multiple update records with large before and after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“inser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”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ht cause reorganization of a data page and an index page for each index.  Before and after images might be entire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og the operation and its inverse instead of before and after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store “inser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, “dele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in update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472-4386-4D82-BDE3-682D97BCF1B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ogical operations might not be idempoten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P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x = x+5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2 roll forward does not work (it makes a difference whether the page on mass store was updated before the crash or after the cra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o not apply operation in update reco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database item in p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uring pass 2 i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.LS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C75-AA54-4425-BD37-354A3E9C2E8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Operations are not atomi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rash during the execution of a non-atomic operation can leave the database in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onsisten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“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 requires an update to both a data and an index page.  A crash might occur af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been insert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before the index has been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a logical redo operation in pass 2 to a physically inconsistent state is not likely t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here might be two copi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C2C-C499-4D4D-8BAF-6A98845B18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ological Log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ysical-to-a-page, logical-within-a-page logg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hysiological logg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gical operation involving multiple pages is broken into multiple logical mini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ini-operation is confined to a single page and hence is a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omes “ins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pag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and “insert pointer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page of index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ini-operation gets a separate log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mini-operations are not idempotent, use LSN check before applying operation in pass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220-A6DA-48FD-9DAB-E3CFB78449A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rred-Updat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ppend new value to intentions list (in volatile memory); append update record (containing only after image) to log buff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-ahead property does not apply since there is no before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r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iscard intentions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i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force commit record to log; initiate database update using intentions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ion of intentions list process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wr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ion rec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1CE-EE3F-4537-A084-82DB25F3208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y in Deferred-Updat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eckpoint record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list of committed (not active) but incomplete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ov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back to most recent checkpoint record to determine transactions that are committed but for which updates are incomplete at time of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forward to install after images for incomplete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hird pass required since transactions active (not committed) at time of crash have not affected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D54-6973-442E-80E7-1919E214F31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bility requires that the database be stored redundantly on distinct mass storage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copy on (mirrored) disk =&gt; high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og still needed to achieve atomicity after an abort or 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data in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ing the log (as in 2 above) to reconstruct the database is impractical since it requires a scan starting at firs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e log together with a periodi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u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E01-F4BB-4DEA-AC8F-EE2386444EA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lures: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bility requires that database state produced by committed transactions be preser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ility of failure of mass store implies that database state must be stored redundantly (in some form) on independent non-volatile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1DC-73B0-4F6C-A89A-DB7BD96723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dump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stops accepting new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it until all active transactions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p: copy entire database to a file on mass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art log and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7AE-769E-4170-83F6-36662FC26E6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ing Database From Simple 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 most recent dump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backward through lo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transactions that committed since dump was t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e aborted transactions and those that were active when media f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ward through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 after images of committed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CDE-6100-4F1D-860D-4A25D33A755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zzy 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system cannot be shut down to take a simple d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zzy d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in dump rec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y database records to dump file while system 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copying records of active transactions and records that are 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3F5-48D2-4EAE-8A02-ED306EF3243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zzy 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mp file migh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 incomplete execution of an active transaction that later com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 updates of an active transaction that later ab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33720" y="3886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01240" y="2895480"/>
            <a:ext cx="571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   dump(x)    dump(y)   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   commi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382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3276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76920" y="3276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99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209680" y="632448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28640" y="5334120"/>
            <a:ext cx="381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       dump(x)       abor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95480" y="5791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19720" y="5791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91320" y="5791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848360" y="34290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09920" y="586728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8660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5D3-D00D-4F70-9827-D2C6E542D16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ïve Restoration Using Fuzzy 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 dump on d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log backwards to begin dump record to produce list, L, of all transactions that committed since start of d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log forward and install after images in update records of all transactions in 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D56-737E-452D-8356-17E5EFB6309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ïve Restoration Using Fuzzy 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25909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33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143000" y="2590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2080" y="324972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rt d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8240" y="1496880"/>
            <a:ext cx="715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124080" y="2590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75080" y="3200400"/>
            <a:ext cx="16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ump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94880" y="1488960"/>
            <a:ext cx="944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5105520" y="2590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294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0920" y="324972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d d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85440" y="1488960"/>
            <a:ext cx="10893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985880" y="2681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864400" y="358128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 in L; roll it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5486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8128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219320" y="5486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48120" y="5486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48800" y="4419720"/>
            <a:ext cx="7920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8040" y="606888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rt d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61240" y="60688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d d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769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71600" y="4468680"/>
            <a:ext cx="81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40080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76480" y="4468680"/>
            <a:ext cx="83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09560" y="51195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720320" y="5943600"/>
            <a:ext cx="41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not in L; do not roll it 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0080" y="99072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t does some things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89A-A33F-4CCB-AD73-D273E577166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ïve Restoration Using Fuzzy 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" y="4800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82880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219320" y="480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0920" y="541008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rt d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79520" y="3657600"/>
            <a:ext cx="82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276720" y="480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8320" y="54100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ump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410080" y="480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78720" y="5410080"/>
            <a:ext cx="13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d d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7712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7840" y="3657600"/>
            <a:ext cx="94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48360" y="480060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aïve algorithm does not handle two c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commits before dump starts but its dirty pages might not have been flushed until dump complet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mp does not read T’s updates and T is not in L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p reads T’s updates but T later ab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D7A-94E4-4542-82C1-1EEAE480F0E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ing a Fuzzy 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e fuzzy checkpointing and compensating log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mp algorith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checkpoin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begin dump record (B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end dump record (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25D-A0C8-46FE-A029-F9CA407A4CD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ation Using Fuzzy D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 dump on mass storage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backward to CK3 to produce list, L, of all transactions active at time of media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forward from CK1; use redo records to roll the database forward to its state at time of media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backwards to begin record of oldest transaction in L, roll all transactions in L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43840" y="5638680"/>
            <a:ext cx="69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K1                        CK2  BD                ED       CK3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3808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2388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004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6252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6272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5308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3888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53341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45820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48720" y="4419720"/>
            <a:ext cx="85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4582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0640" y="4114800"/>
            <a:ext cx="276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l dirty pages in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 time of CK1 have b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ten to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57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55A-F0B1-470C-A933-57126C8788C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ce of records (sequential f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by appending (no upda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information from which database can be reconstru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by routines that handle abort and crash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and database stored on different mass storage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replicated to survive media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valuable historical data not in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database reach current st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EEF-B270-40E5-A8B2-1A05E34594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odification of the database cause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pdate reco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appended to lo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ecord contai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y of data item mod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y of transaction (tid) that did the 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fore im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undo record) – copy of data item before update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red to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hysical log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F7C-9F95-43DD-8630-C7A14998AA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38858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records in a 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2133720"/>
            <a:ext cx="52578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4280" y="2133720"/>
            <a:ext cx="518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    y        z        u        y        w     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    A      2.4     18      ab        3       4.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99036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0666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0880" y="396252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st rec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base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553080" y="34290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700-2F20-4463-BBD0-6BAC4E8E32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Abort Using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log backwards using tid to identify transaction’s update rec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each update using before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al done in last-in-first-ou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trict system new values unavailable to concurrent transactions (as a result of long term exclusive locks); hence rollback makes transaction a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erminating scan (log can be l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ppen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in recor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action, containing tid, prior to its first update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055-1608-4A6A-BC00-C7648587A3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1T01:12:46Z</dcterms:created>
  <dc:creator>ARTHUR  BERNSTEIN</dc:creator>
  <dc:description/>
  <dc:language>en-US</dc:language>
  <cp:lastModifiedBy>Pearson Education</cp:lastModifiedBy>
  <cp:lastPrinted>1999-04-26T14:51:09Z</cp:lastPrinted>
  <dcterms:modified xsi:type="dcterms:W3CDTF">2005-04-06T15:57:36Z</dcterms:modified>
  <cp:revision>141</cp:revision>
  <dc:subject/>
  <dc:title>Implementing Atomicity and Durability</dc:title>
</cp:coreProperties>
</file>