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A45-DC65-4999-BE57-1C1CED60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9F9-DDC2-494A-A054-59406D53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2C6-3C64-4CDE-B7EB-77BA35D0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374-DC1E-49FB-B61D-8E637937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265D-DCD8-4E59-B58A-F2B77714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9A6E-A6A4-4371-8E52-04985E17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09FC-9560-45B1-9417-22EC13FB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EAA2-0AAF-48A5-8EB9-FD56F983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AF86-1EFE-4858-8D19-1812B7E8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5044-6A39-45EE-B567-4DEA7E0F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A3E4-56CC-4279-8897-A4B55E33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CDD-D9F9-48E1-B7CA-14E68B96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60E1-A71E-4732-8166-4F7A8FE5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2088-57E2-494C-9369-45F70F93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5647-1F28-464C-9E92-66763F3B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05A3-D03A-4852-92C9-DAE90041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5AA9-3D6E-492A-A95C-2931CCC9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134-BC90-4FE8-82C6-7C7D962E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DEF-6062-4838-BC88-B7FF9023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581-2802-4EB6-B415-704FB47D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9E0-61F4-480A-94A3-89163397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6B8-8569-4007-8B79-3A5EDCBC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B06-4DC0-41FB-B75A-D20AB013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9DB-87C9-4940-A2BC-D9849E46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1B6B-4878-413F-9277-A3B5CD24B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5160" y="91440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A18F-5727-4A63-B65C-FCDCD197F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05160" y="91440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105160" y="274284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ing 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EECD-823E-48EB-8E28-2FD184A413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tativity of Read and Write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ut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operate on different data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tes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are 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utes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that do not commu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s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8EC-E1E5-41A3-ACAE-D5B69EDAA3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Ordered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accepts schedules that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flict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y serial schedule and would not be accepted by a two-phase locking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 example equivalent to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additional space required in database for storing timestamps and time for managing timest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 data item now implies writing back a new value of its timest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C26-5898-40F3-AD50-49F676F8FA4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stic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ask under simplifying (optimistic) as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perations rarely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afterwards if assumption was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id a conflict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o task if assumption was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a conflict has occurred rollback, else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benefit if assumption is generally true and check can be done effici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720-C85F-4416-9220-993D5B4E0D2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stic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der the optimistic assumption that conflicts do not oc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ad and write requests are always granted (no locking, no overhead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conflicts might oc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might be corrupted if writes were immediate, hence a deferred-update model i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has to be “validated” when it compl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conflict has occurred abort (but no rollback is necessary)  and redo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 contrasts with pessimistic control which assumes conflicts are likely, takes preventative measures (locking), and does no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E5A-0EC8-4492-A1AA-5003DC02344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stic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has three ph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 Ph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ransaction executes: reads from database, writes to intentions list (deferred-update, no changes to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idation P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heck whether conflicts occurred during read phase; if yes abort (discard intentions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 Ph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write intentions list to database (deferred update)  if validation success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implicity, we assume here that validation and write phases form a single critical section (only one transaction is in its validation/write phase at a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FA4-5653-4C4B-B021-3A7E7B37A08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01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stic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5320" y="1294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s an equivalent serial schedule in which the order of transactions is the order in which they enter validation (dynam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implicity, we will assume that validation and write phases form a single critical section (only one transaction is in its validation/write phase at a ti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4800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082520" y="525780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83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52116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5944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8600" y="4114800"/>
            <a:ext cx="558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nters             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nters                        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idation             validation                      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68320" y="52578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521160" y="52578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59440" y="52578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8800" y="5486400"/>
            <a:ext cx="136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id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rite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22096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505320" y="53341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4114800" y="5334120"/>
            <a:ext cx="198108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713480" y="5729400"/>
            <a:ext cx="3720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ivalent serial order =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D1B-445C-4BCA-948F-616E49D269EF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ers validation, a check is made to see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flicted with any transaction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at entered validation at an earli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uses two sets constructed during read ph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identity of all database item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identity of all database item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A3A-BEA7-4FA5-86EC-1F1C573B1CE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s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read phase started after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nished its validation/write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ll conflicts, hence commi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equivalent serial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46483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2552400" y="3543120"/>
            <a:ext cx="152640" cy="2971800"/>
          </a:xfrm>
          <a:custGeom>
            <a:avLst/>
            <a:gdLst>
              <a:gd name="textAreaLeft" fmla="*/ 97560 w 152640"/>
              <a:gd name="textAreaRight" fmla="*/ 15300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 rot="5400000">
            <a:off x="5524200" y="35431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 rot="5400000">
            <a:off x="7200720" y="35431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11160" y="5105520"/>
            <a:ext cx="2649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15760" y="3505320"/>
            <a:ext cx="408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       validation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has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4191120" y="4647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199040" y="5029200"/>
            <a:ext cx="109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72428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7760" y="3657600"/>
            <a:ext cx="117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28680" y="4689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BEF-1983-4F09-96E0-A9A78205A3D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: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read phase overlap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validation/write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S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S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then abor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ad of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ve preceded a write of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olation of equivalent seri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commi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equivalent serial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83920" y="3505320"/>
            <a:ext cx="39279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               validation/wr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phas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38080" y="47242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 rot="5400000">
            <a:off x="6972120" y="35431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 rot="5400000">
            <a:off x="5067000" y="35431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3657600" y="3657600"/>
            <a:ext cx="152640" cy="2743200"/>
          </a:xfrm>
          <a:custGeom>
            <a:avLst/>
            <a:gdLst>
              <a:gd name="textAreaLeft" fmla="*/ 97560 w 152640"/>
              <a:gd name="textAreaRight" fmla="*/ 153000 w 1526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03600" y="5029200"/>
            <a:ext cx="4379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                 validation/write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phas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5181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33160" y="5181480"/>
            <a:ext cx="942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6708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204360" y="3886200"/>
            <a:ext cx="101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986240" y="473868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6200000">
            <a:off x="1409400" y="42289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4ED-DCDC-4668-8A95-E7FA5460294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e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validation/write phase overlap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validation/write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happen since we have assumed that validation/write phases do not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, all possible overlaps o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ve been consi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060800" y="3344760"/>
            <a:ext cx="18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916200" y="5181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C64-D59F-45DD-BC20-E8D382CC758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e practical optimistic control allows case 3 and avoids the bottleneck implied by only allowing only one transaction at a time in the validation/write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se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validation/write phase overlap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validation/write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S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S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S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then abor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a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rite of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ve preceded a write of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 violation of equivalent seri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commi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equivalent serial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060800" y="3344760"/>
            <a:ext cx="18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16200" y="5181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22280" y="4876920"/>
            <a:ext cx="4687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phas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valid/write phas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134440" y="6095880"/>
            <a:ext cx="398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phas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valid/write phas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066680" y="57150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94880" y="4876920"/>
            <a:ext cx="101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 rot="5400000">
            <a:off x="4381560" y="460908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5400000">
            <a:off x="6553080" y="4189680"/>
            <a:ext cx="152280" cy="2438640"/>
          </a:xfrm>
          <a:custGeom>
            <a:avLst/>
            <a:gdLst>
              <a:gd name="textAreaLeft" fmla="*/ 97200 w 152280"/>
              <a:gd name="textAreaRight" fmla="*/ 152640 w 15228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28840" y="4724280"/>
            <a:ext cx="152640" cy="2438280"/>
          </a:xfrm>
          <a:custGeom>
            <a:avLst/>
            <a:gdLst>
              <a:gd name="textAreaLeft" fmla="*/ 97560 w 152640"/>
              <a:gd name="textAreaRight" fmla="*/ 153000 w 1526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2819160" y="5257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505320" y="5181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6477120" y="58669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404760" y="6095880"/>
            <a:ext cx="942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4D0-FE81-43AD-AE8F-3BC4130C429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ce of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change of adjacent 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 different trans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schedule creates an equivalent schedule if the operations comm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,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,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computes the same results (since operations return the same values in both schedules) and hence writes the same values to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base is left in the same final state (since the state seen by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ame in both schedu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90F-C25B-4E9F-AD77-4EDC7F1AC8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stic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ocking (and hence no waiting) means deadlocks are not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lback is a problem if optimistic assumption is not valid: work of entire transaction is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wo-phase locking, rollback occurs only with dead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timestamp-ordered control, rollback is detected before transaction comp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3D5-4228-43B9-8255-C24236D1487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valence of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valence is transitive: I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derived from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 series of such interchanges, 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quivalent to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D20-4440-41BB-8955-DCB5B87003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Equi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996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1219320"/>
            <a:ext cx="434340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7360" y="5029200"/>
            <a:ext cx="595872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quivalent t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rial schedu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ializ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the serial schedu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2362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048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8098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1066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79840" y="852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89548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94360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8769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75360" y="4662360"/>
            <a:ext cx="24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flicting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rdered in sam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A8F-4334-446E-8EA3-39A562FFD1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Equi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3640" y="6095520"/>
            <a:ext cx="228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0120" y="1295280"/>
            <a:ext cx="27626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 (x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X+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rite (x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7560" y="1295280"/>
            <a:ext cx="2762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 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rite (y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8098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44640" y="3505320"/>
            <a:ext cx="578520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itial stat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inal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=1, y=3         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y) 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       x=5, y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=1, y=3         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y) 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       x=5, y=1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=1, y=3         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y)        x=5, y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4280" y="4572000"/>
            <a:ext cx="24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rch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uting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3920" y="5334120"/>
            <a:ext cx="24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flicting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1905120"/>
            <a:ext cx="144756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876920" y="190512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334120" y="2286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2666880"/>
            <a:ext cx="45720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304812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2590920"/>
            <a:ext cx="320040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72D-FAE4-48F2-9E65-00FE06B8B2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is serializable if it is equivalent to a serial schedu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are totally isolated in a serializabl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is correc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 if it is a serializable schedule of consistent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hedule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 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CFF-FFE2-485A-A68D-D2650D8106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provid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erv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ition of correc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particular application there might be many accept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erializable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ing serializability might degrad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s offer a variety of isolation lev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most strin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levels of isolation give better perform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incorrect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adequate for som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BD2-D120-45FA-B6B0-4F2AFF1583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Schedule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derived from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a sequence of commutative interchanges if and only if conflicting operations i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ordered in the sam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tative interchanges do not reorder   conflicting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equence of commutative interchanges can be determined that takes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nce conflicting operations do not have to be reordered (see t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C75-BC39-45A3-9CA5-6C080C1037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Equi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wo schedules,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the same set of operation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flict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conflicting operations are ordered in the same way in bo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(using theorem) if one can be obtained from the other by a series of commutative inter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B9F-08CD-4D99-902D-116D7F787E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Equi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schedule is serializable if it is conflict equivalent to a serial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n S transaction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several pairs of conflicting operations (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flicts with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flicts with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,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en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ust preced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d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ust precede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,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vice versa) in order for S to be serializ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13372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81952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57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9112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39240" y="2514600"/>
            <a:ext cx="57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3440" y="312408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flict          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EF2-D623-4102-AC9D-20173EDB21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ing database correctness when many transactions are accessing the database concurr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each transaction maintains database correctness when executed in 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0E2-C725-4566-856D-A80F46CD3A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 Equi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chedules of the same set of operation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ew equival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ing read operations in each return the same values (hence computations are the s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schedules yield the same final databas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lict equivalence implies view equiva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 equivale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mply conflict equival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205-A6C5-4040-ABEF-47B3E5F81E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 Equi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32767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flict equivalent to a serial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has same effect as serial schedule    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ew equivalent to a serial schedule and hence serializ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16520" y="1828800"/>
            <a:ext cx="43596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(y)   w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(y)                       w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A65-B34B-45C8-BB18-9852AACF67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vs View Equi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3657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currency control based on view equivalence should provide better performance than one based on conflict equivalence since less reordering is done but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difficult to implement a view equivalence concurrency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1295280"/>
            <a:ext cx="327672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1752480"/>
            <a:ext cx="16002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5520" y="1614600"/>
            <a:ext cx="181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t of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at ar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ivalent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ial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27240" y="1676520"/>
            <a:ext cx="181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t of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at are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quivalent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ial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13372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24280" y="220968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223-6BF9-4101-BC84-B8D221CC8D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lict Equivalence and 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ability is a conservative notion of correctness and conflict equivalence provides a conservative technique for determining serializ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a concurrency control that guarantees conflict equivalence to serial schedules ensures correctness and is easily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7D5-7D3E-4011-8F75-66D60956E8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ialization Graph of a Schedule, 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s represent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directed edge from nod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nod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n oper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,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conflicts with an oper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,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,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d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,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 schedule is conflict serializable if and only if its serialization graph has no cy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229-3F90-471A-A219-40F2616848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0520" y="2860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73520" y="18702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1240" y="36226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0920" y="18702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78640" y="2860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31120" y="2860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59920" y="28605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295280" y="22860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20574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2004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86000" y="3200040"/>
            <a:ext cx="3276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3124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97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2209680"/>
            <a:ext cx="2895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362320" y="320040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32800" y="2894760"/>
            <a:ext cx="1681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6360" y="5257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4267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37080" y="6019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46760" y="4267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94480" y="5257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46960" y="5257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75760" y="5257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311120" y="468288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06760" y="445464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11120" y="559764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301840" y="5597280"/>
            <a:ext cx="3276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11720" y="55213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35560" y="5445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06760" y="4606920"/>
            <a:ext cx="2895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378160" y="559764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11040" y="1981080"/>
            <a:ext cx="3134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is serializable i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1400" y="4114800"/>
            <a:ext cx="3158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is not serializable d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yc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743200" y="4571640"/>
            <a:ext cx="4648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44520" y="1219320"/>
            <a:ext cx="259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 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,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,j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487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143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720" y="7002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flict (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7080" y="2209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758-D46B-45D0-ACD9-41CFCFCB14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uition: Serializability and Nonserializ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nonserializabl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ways to think about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conflicts, the operatio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annot be interchanged to make an equivalent serial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ote it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preced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ny ordering, and becaus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d it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follow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ny ordering --- clearly an impos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34320" y="2362320"/>
            <a:ext cx="990360" cy="304560"/>
          </a:xfrm>
          <a:custGeom>
            <a:avLst/>
            <a:gdLst/>
            <a:ahLst/>
            <a:rect l="l" t="t" r="r" b="b"/>
            <a:pathLst>
              <a:path w="624" h="192">
                <a:moveTo>
                  <a:pt x="0" y="192"/>
                </a:moveTo>
                <a:cubicBezTo>
                  <a:pt x="116" y="96"/>
                  <a:pt x="232" y="0"/>
                  <a:pt x="336" y="0"/>
                </a:cubicBezTo>
                <a:cubicBezTo>
                  <a:pt x="440" y="0"/>
                  <a:pt x="576" y="160"/>
                  <a:pt x="624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6933600" y="2971080"/>
            <a:ext cx="990360" cy="304920"/>
          </a:xfrm>
          <a:custGeom>
            <a:avLst/>
            <a:gdLst/>
            <a:ahLst/>
            <a:rect l="l" t="t" r="r" b="b"/>
            <a:pathLst>
              <a:path w="624" h="192">
                <a:moveTo>
                  <a:pt x="0" y="192"/>
                </a:moveTo>
                <a:cubicBezTo>
                  <a:pt x="116" y="96"/>
                  <a:pt x="232" y="0"/>
                  <a:pt x="336" y="0"/>
                </a:cubicBezTo>
                <a:cubicBezTo>
                  <a:pt x="440" y="0"/>
                  <a:pt x="576" y="160"/>
                  <a:pt x="624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47120" y="2590920"/>
            <a:ext cx="156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C1F-C8E9-481E-8940-2306E97BA8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ability: Schedules with Abor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borted but has had an indirect effect on the database – schedul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ve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 uncommitted data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rty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ncurrency contro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over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does not allow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mit until all other transactions that wrote value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d have com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16160" y="1676520"/>
            <a:ext cx="4944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(x)   w(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81920" y="5410080"/>
            <a:ext cx="6089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(x)   w(y)                               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(x)                                           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00240" y="5410080"/>
            <a:ext cx="957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FA2-AA34-4072-8115-CC5D0EE7DD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caded Ab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verable schedules solve abort problem but all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scaded ab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bort of one transaction forces abort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solution: prohibit dirty 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81560" y="3200400"/>
            <a:ext cx="59202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(y)  w(z)                 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(x)  w(y)                         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(x)                                 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53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540-510B-4718-8ED7-45AD5308D4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ty 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 wr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transaction writes a data item written by an activ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y write complicates rollba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11240" y="4114800"/>
            <a:ext cx="40305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(x)         ab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(x)                   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38880" y="358128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rollback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48200" y="5181480"/>
            <a:ext cx="222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value of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be resto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6386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4B2-F4E6-4416-8772-802FB2523C2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 exec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each transaction is consistent and isolated from all others, schedule is guaranteed to be correct for all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dequate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system has multiple asynchronous resources and transaction uses only 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t exec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performance (multi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nterleavings produce correct result, others do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interested in concurrent schedules that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erial schedules.  These are referred to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hed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237-D77E-44F6-BC7B-D8493432EA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ct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ict sched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irty writes and dirty reads are prohib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and serializable are two different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, non-serializable sched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le, non-strict schedu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472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375-56AD-43E5-B19F-4DA8A3EDF9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29714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cy control cannot see entire sche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sees one request at a time and must decide whether to allow it to be servi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: Do not service a request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violates strictness or serializability,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possibility that a subsequent arrival might cause a violation of serializ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1828800"/>
            <a:ext cx="3353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2209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8520" y="2209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8720" y="1725480"/>
            <a:ext cx="19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riving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6680" y="2174760"/>
            <a:ext cx="21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rans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4920" y="1447920"/>
            <a:ext cx="232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ict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ializable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19440" y="2209680"/>
            <a:ext cx="24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ocessing eng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A60-D828-4854-8883-EA066F426D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s of Concurrency Cont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mediate Updat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del we have discus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rite updates a database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ad copies value from a database i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 makes updates d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t undoes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erred Up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we will discuss this l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rite stores new value in the transaction’s intentions list (do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the databas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ad copies value from the database or the transaction’s intentions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 uses intentions list to durably updat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t discards intentions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914-DF31-4FCF-A3E2-FC09EA98F6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vs. Deferred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1828800"/>
            <a:ext cx="14475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4572000"/>
            <a:ext cx="175284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1828800"/>
            <a:ext cx="14475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088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4572000"/>
            <a:ext cx="175284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38880" y="1828800"/>
            <a:ext cx="15242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019920" y="2895480"/>
            <a:ext cx="198108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412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133720" y="30477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09552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93480" y="331776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41800" y="377496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/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9360" y="34704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7320" y="19810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57150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rred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0480" y="571500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8B2A-454C-431E-9931-533AB3872F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s of Concurrency Cont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ss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action requests permission for each database (read/write) op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 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ra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peration (submit it for exec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t until a subsequent event occurs (commit or abort of another transaction),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s are ma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ervative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 that a commit request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precautions even if conflicts do not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27BB-E7E9-44AE-B300-44C70C38F2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s of Concurrency Cont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for database operations (read/write)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n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to commi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ght be den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is aborted if it performed a non-serializabl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that conflicts are not lik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571-3973-403B-94ED-91C1CAEA8F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-Update Pessimistic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ly us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first a simpl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such a control allowed a transaction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o perform some operation and then, whi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still active ,it allowed another transaction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to perform a conflicting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 would not be strict and so this situation cannot be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consider a bit further what might happen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1A1-D62E-4817-B366-35FA837147E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-Update Pessimistic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ec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ecutes  a conflicting opera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follow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y equivalent serial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ter make conflicting accesse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cannot allow order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, op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has to use transitive closure of transaction ordering to prevent loop in serialization graph (too complic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se 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 commi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3352680" y="388548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00"/>
                </a:lnTo>
                <a:cubicBezTo>
                  <a:pt x="10800" y="9800"/>
                  <a:pt x="5400" y="10700"/>
                  <a:pt x="0" y="10700"/>
                </a:cubicBezTo>
                <a:cubicBezTo>
                  <a:pt x="5400" y="10700"/>
                  <a:pt x="10800" y="11600"/>
                  <a:pt x="10800" y="125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4280" y="58672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s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8672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244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0EE-DA11-4E0C-A907-A1D117FE8D3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-Update Pessimistic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request that imposes an ordering amo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action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requesting trans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request that does not conflict with previously granted reques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can be used as each request arr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transaction’s request is delayed, it is forced to wait (but the transaction is still considered ac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ed requests are reconsidered when a trans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s (aborts or commits) since it becomes in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15D-D17A-40FE-BDA9-197C81068B1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-Update Pessimistic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ach schedule, S, is equivalent to a serial schedule in which transactions are ordered in the order in which they commit in S (and possibly other serial schedules as we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When a transaction commits, none of its operations conflict with those of other active transactions. Therefore it can be ordered before all active transactio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The following (non-serializable) schedule is not permitted becaus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active at the ti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hich conflicts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was requ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01920" y="5867280"/>
            <a:ext cx="299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 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40B7-9F00-42AD-B311-EB3A2E02CF7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40381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nt - performs correctly when executed in isolation starting in a consistent databas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es database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s database to a new state that corresponds to new real-world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5360" y="762120"/>
            <a:ext cx="314172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: begin_transac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,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971800"/>
            <a:ext cx="12952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44792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22096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2895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2514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90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9132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2743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2286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2240" y="1219320"/>
            <a:ext cx="259488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action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ommit applies to th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61840" y="232740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743200" y="28191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819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7B9-AC5F-4690-8842-81007FA48B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-Update Pessimistic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5181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nd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nflict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 can be repeated at subsequent com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70560" y="1981080"/>
            <a:ext cx="249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: o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o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3924360" y="17902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98240" y="2666880"/>
            <a:ext cx="158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 conflic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28840" y="274320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105160" y="24379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92520" y="3540240"/>
            <a:ext cx="301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o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o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07160" y="4191120"/>
            <a:ext cx="1604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l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5240" y="4191120"/>
            <a:ext cx="172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m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erations of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4647960" y="3199680"/>
            <a:ext cx="228600" cy="1905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048120" y="3962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221-B101-45E7-A0A6-A3032D4BCD6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-Update Pessimistic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 order is useful since transactions might perform external actions visible to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a deposit transaction commits, you expect a subsequent transaction to see the new account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884-7CCF-4B0F-9C67-06A83E3F5E7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d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ntrols that cause transactions to wait can cause deadloc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bort one transaction in the cycl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ait-for graph to detect cycle when a request is delayed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 deadlock when a transaction waits longer than some time-out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10240" y="2971800"/>
            <a:ext cx="106308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3240" y="2971800"/>
            <a:ext cx="106308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E33-FF14-4E76-81C7-9047389E5FB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mplementation of an Immediate-Update Pessimistic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can read a database item if it holds a read (shared) lock on the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rea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pdate the item if it holds a write (exclusive)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transaction does not already hold the required lock, a lock request is automatically made as part of the (read or write)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1E4-A224-4001-8CEB-8ADEF72D68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for read lock on an item is granted if no transaction currently holds write lock on the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read an item written by an activ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for write lock granted if no transaction holds any lock on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write an item read/written by an active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is delayed if request cannot be gr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58520" y="4765680"/>
            <a:ext cx="461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e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d mode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        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x            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5562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38480" y="55627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CD4-0049-4230-9009-EE610F91691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ocks held by a transaction are released when the transaction completes (commits or abor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ayed requests are re-examined at this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2C19-5840-4886-8064-3E665AF844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lock is not granted if the requested access conflicts with a prior access of an active transaction; instead the transaction waits.  This enforces the ru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grant a request that imposes an ordering among active transactions (delay the requesting transa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ing schedules are serializable and str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CDF-37BB-48C2-8D9F-D168E52B890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18960" y="6019560"/>
            <a:ext cx="1522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76920" y="2743200"/>
            <a:ext cx="13716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30120" y="2133720"/>
            <a:ext cx="147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60440" y="3747960"/>
            <a:ext cx="70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57240" y="2819520"/>
            <a:ext cx="2007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40680" y="2743200"/>
            <a:ext cx="204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6688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1447920" y="3733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32004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3200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71440" y="3657600"/>
            <a:ext cx="175356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for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 wait since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lds read 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7339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8200" y="3809880"/>
            <a:ext cx="21848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) can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heduled s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eleases its 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7315200" y="33526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4B7-0EC5-440E-A0CE-6F8055EA5EC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k set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(x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it set, W(x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each active database ite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n entry for each granted lock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an entry for each pending request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entry is removed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(x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ue to transaction termination), promote (non-conflicting) entri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some scheduling polic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FS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 a lock list, </a:t>
            </a:r>
            <a:r>
              <a:rPr b="0" lang="en-US" sz="28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with each transaction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ench Script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elements in all lock and wait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lease locks on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792-5C78-4251-8DB3-F0E430CF17B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1280" y="190512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29200" y="190512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289548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1148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0292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50292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28800" y="251460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472428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971800" y="4495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4952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27432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819520" y="22096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220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5410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59436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5486040" y="57150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486400" y="25905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34080" y="430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33720" y="5146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5776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81080" y="301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88920" y="3013200"/>
            <a:ext cx="2695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olds a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waits for 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749-29DB-4657-AECE-FE2860D32EE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9120" y="2708280"/>
            <a:ext cx="51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97180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143000" y="3657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88920" y="454500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3048120"/>
            <a:ext cx="1828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6576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6760" y="2182680"/>
            <a:ext cx="239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riving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merge of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hedu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9960" y="1981080"/>
            <a:ext cx="244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chedule in wh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s are servi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to preserve iso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70760" y="34704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057720" y="2019240"/>
            <a:ext cx="152640" cy="5105520"/>
          </a:xfrm>
          <a:custGeom>
            <a:avLst/>
            <a:gdLst>
              <a:gd name="textAreaLeft" fmla="*/ 97560 w 152640"/>
              <a:gd name="textAreaRight" fmla="*/ 153000 w 152640"/>
              <a:gd name="textAreaTop" fmla="*/ 132840 h 5105520"/>
              <a:gd name="textAreaBottom" fmla="*/ 4972680 h 510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8480" y="48006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1828440" y="41911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895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D82-8AE8-4329-8D72-39EE1DD4B6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ual 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performance possible if transactions are allowed to release locks before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release lock on item when finished accessing the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early lock release can lead to non-serializable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92160" y="5181480"/>
            <a:ext cx="7102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(x) r(x) u(x)                                             l(y) r(y) u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(x) l(y) w(x) w(y) u(x) u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6200000">
            <a:off x="5829480" y="5524200"/>
            <a:ext cx="75960" cy="106668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480" y="601992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7280" y="3352680"/>
            <a:ext cx="6382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(x) r(x) l(y) r(y) u(x)      w(y)  u(y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(x) l(z) w(x) w(z) u(x) u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F1E-9A3C-4479-81BE-E8CB8734ED4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hase 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does not release a lock until it has all the locks it will ever requ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has a locking phase followed by an unlocking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s serializability when locking is done manu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3886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62320" y="5029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61640" y="4842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5120" y="3429000"/>
            <a:ext cx="131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d by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895480" y="4191120"/>
            <a:ext cx="1295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91120" y="419112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176360" y="319392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first un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191120" y="36576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00960" y="36990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com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943600" y="41148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EDEE-D358-41C6-A4ED-12ECE51FF55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hase 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 concurrency control  that uses two phase locking produces only serializable sche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of (sketch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ider two transaction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chedule S produced by a two-phase locking control and assum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first unlock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ecede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first unlock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y do not access common data items, then all operations comm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they do. All of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accesses to common items precede all of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.  If this were not so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first unlock must precede a lock request of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Since both transactions are two-phase, this implies that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first unlock precedes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first unlock, contradicting the assumption.  Hence, all conflicts betwe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in the same dir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follows that the serialization graph is cycle-free since if there is a cyc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it must be the case that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… &lt;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074-4770-4432-BE20-1ABD09AAE82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hase 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produced by a two-phase locking control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serial schedule in which transactions are ordered by the time of their first unlock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necessarily recoverable (dirty reads and writes are possi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7440" y="495288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l(x) r(x) l(y) w(y) u(y)                                             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l(y) r(y) l(z) w(z) u(z) u(y)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EF7-D9A7-43F7-855A-B4E700E9CC2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Phase 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wo-phase locking control that holds write locks until commit produces strict, serializable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ict two-phase locking control hol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cks until commit and produces strict serializable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utomatic lo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serial schedule in which transactions are ordered by their comm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ct” is used in two different ways: a control that releases read locks early guarante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ctn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ut is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wo-phase locking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CEA-A728-400B-A630-115C23CB2A3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Granu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tem: variable, record, row, table,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item is accessed, the DBMS locks an entity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tem.  The size of that entity determine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nula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loc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rse granularity (large entities locked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transactions tend to access multiple items in the same entity, fewer lock requests need to be processed and  less lock storage spac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advantag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currency is reduced since some items are unnecessarily 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 granularity (small entities lock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and disadvantages are rever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B40-8AFA-46F8-9DDB-A39883326F1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 Granu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locking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a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entire table when a row is acc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(tuple) locking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only the row that is acces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e locking (compromis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row is accessed, lock the containing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D496-F4E1-4F2B-A117-866CB25212C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s and Semant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ta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write operations have little associated semantics and hence little associated commutati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perations on the same item, only reads commu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operations (for example operations on objects) have more semantics, a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mutativity to be recogn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ncurrency to be achie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CD9-EED3-40E5-944A-02ECE0D19A6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Operations and  Commuta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currency control that deals with operations at an abstract level can recognize more commutativity and achieve more con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osit(acct,n), withdraw(acct,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n accou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(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ollar amou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45720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e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d Mode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( )         withdraw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(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(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X                  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53341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5334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54D-D457-4585-9CFE-1FA66511F8A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ncurrency Control Based on Abstrac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control gran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ithdra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cks based on this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transaction ha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ck on an account object, another transaction can also obtai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ck on th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not be possible if control viewed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llowed by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ttempted 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683-7D47-41DE-B450-47163A3C844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1360" y="2590920"/>
            <a:ext cx="317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47720" y="4495680"/>
            <a:ext cx="32641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,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,3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,2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41960" y="335268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02080" y="49878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065-AB9A-4D4E-B80E-D446662584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ncurrency Control Based on Abstrac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oth hold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ck on the sa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 their deposit operations do not delay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result, the schedule can contain: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acct,n) … deposi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cct,m )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acct,m) … deposi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cct,n )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two deposit operations mu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isolated from each other.   Assum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ccount balance, the schedule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al)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al)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al) 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a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cannot be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13D-812F-45BA-B7BA-6EC76A89267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vs. Total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osit( 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thdraw(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oper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y are defined in all database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thdraw(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two possible outcome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K,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al oper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operations that are not defined in all database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thdraw(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decomposed into two partial operations, which cover all database st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OK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NO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6AB-B11F-40E8-8A26-9B2C05F5A2A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account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(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fined in all initial states (to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OK(acct,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fined in all states in which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l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par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NO(acct,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efined in all states in which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l &lt;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par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transaction subm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thdraw( 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rol checks balance and converts to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thdrawOK(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ithdrawNO( 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cquires appropriate 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272-06BE-4C4A-AB51-29D26DA11E9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operations allow even more semantics to be int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ight: whi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posit( 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es not commute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ithdraw( 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does (backward) commute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ithdrawOK(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8360" y="4952880"/>
            <a:ext cx="82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OK(a,n) deposit(a,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eposit(a,m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OK(a.n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BEB-F5BB-4630-87ED-D04837F4780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ward Commuta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ckward comm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in all states in which the sequenc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, 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fined, the sequ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, 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efined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 the same information in both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base is left in the same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(a,m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commutes throu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OK(a,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ll database states in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thdrawOK(a,n), deposit(a,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fined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osit(a,m), withdrawOK(a,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lso def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OK(a,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es not backward commute throu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(a,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commute is not sym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C53-B345-44D6-9E6D-98281A81267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ncurrency Control Based on Partial Abstrac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440" y="44953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gra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relation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ym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backward commuta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59960" y="2209680"/>
            <a:ext cx="794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e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d Mode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( )   withdrawOK( )  withdrawNO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osit(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OK(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X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NO(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29718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76720" y="2971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F3C-7B8D-419B-BC94-A142CB1E1E2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ncurrency Control Based on Partial Abstrac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creased concurrency and hence increased transaction 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ncurrency control has to access the database to determine the return value (hence the operation requested) before consulting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(with an immediate update system) if T wri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later aborts, physical restoration can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762-2366-4832-81D4-B1A1DBBD613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icity and Abstract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rite operation (the only conventional operation that modifies items) conflict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ther operations on the sam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 resto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store original value) does not work with abstract operations since two operations that modify a data item might commut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you handle the schedule:    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abor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   if both operations modif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cal resto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with compensating operations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 increment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ensat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remen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A30-4DC0-4DCF-9934-E49CE676FA0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loser Look at Compen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discussed compensation before, but now we want to use it in combination with locking to guarantee serializability and atom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ust define compensation more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C70-6397-45EE-A8DF-E80DDC9CCC3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for an Operation to Have a Compensating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operation to have a compensating operation, it must be one-to-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input there is a unique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ameters of the compensating operation are the same as the parameters of the operation being compens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ment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ens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rement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976-2EBA-4446-ADCC-3DF0B2B3813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s arriving interleaved schedule into a correct interleaved schedule to be submitted to th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s servicing a request (reordering) - causes a transaction to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uses to service a request - causes transaction to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 taken by concurrency control have performance cost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is to avoid delaying or refusing to service a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B62-3F82-458E-92E5-34AA3629C0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Restoration  (Compens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schedul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abor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(backward) commute throug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nce the concurrency control scheduled the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equivalent to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abor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or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implemented with a compensating operation: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equivalent to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equivalen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FCB-16CF-4096-94BC-597950811F1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Restoration (Compens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rement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ment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remen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incremen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incremen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men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557320" y="327672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ensating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6400440" y="36576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864-5B09-4B59-83CE-A68600229B7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do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ll operations have compensating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et(x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e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not one-to-one and has no compensating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oes have an undo opera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(x, X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ets the value 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what it was right bef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et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E8A-D03C-4E86-9E3D-A563CBCC9A4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evious Approach  Does Not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e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rese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se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,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commute, we can rewrite the schedule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e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rese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 se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,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is schedule does not undo the result of  rese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),  because the value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e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rts is different in the seco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DE7-3F64-4DDD-AAB0-92456878187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Do with Undo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approach is to require that the operation get an exclusive lock, so that no other operation can come between an operation and its undo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8E7-F457-45BD-9B83-0A0E88B5242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ut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q p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p 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und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the same initial value in both schedules, and thus the undo operation works correc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229-813F-46EB-AF4F-61A8336A92D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and recoverability is guaranteed if the condition under which an oper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conflict with a previously granted oper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ward commutes throu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 compensating operation, or when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 is hel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un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ckward commutes throug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522-149F-46A6-A5F8-351A5DECA01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ll Another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we can decompose an operation that does not have a compensating operation into two partial operations, each of which does have a compensating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es not have a compensating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ing on the initial value of the account, it might perform the withdrawal and decrement that value by x or it might just return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has an undo operatio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itionalDeposi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partial operation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OK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NO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ne-to-one and hence do have compensating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C2B-FFD2-40BE-A5F2-2DA855CFAA9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mplementation of Save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s a savepoint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sert a marker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lock list, </a:t>
            </a:r>
            <a:r>
              <a:rPr b="0" lang="en-US" sz="28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that separates lock entries acquired before creation from those acquired after 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lls back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ease all locks preceding marker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 addition to undoing all updates made since savepoint cre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B2ED-AD82-40C1-A6C5-B1B038F8C8F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190512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190512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581280" y="289548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81280" y="41148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50292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05520" y="50292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251460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472428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971800" y="4495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1800" y="4952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27432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819520" y="22096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7080" y="220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67080" y="5410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77120" y="42670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ench Script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266720" y="4495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410080" y="2590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34080" y="430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33720" y="5146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5776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81080" y="301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43840" y="2590920"/>
            <a:ext cx="27698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do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’s update to y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lease its write 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ls back to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50532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267080" y="38862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2F6-7E14-447C-A2A6-CC83514870B2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leaved schedu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erial schedules are the only ones guaranteed to be correc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ce bas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muta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base operat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te if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 all initial database st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y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turn the same resul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ave the database in the same final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when executed in either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389-E246-4ECE-9D76-1E697D6BFE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mplementation o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i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thing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overable que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Since queue is implemented by a separate server (different from DBMS), the locking discipline need not be two-phase;  discipline can be designed to suit the semantics of (the abstract operations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on head (tail) pointer released when dequeue (enqueue) operations compl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 not strict or iso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on entry that is enqueued or dequeued held to commi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FC4-99EF-4235-AE0A-E1635DBA918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able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1522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040" y="205740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queue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50400" y="2666880"/>
            <a:ext cx="15822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e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05704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2057040" y="32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17524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434340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434340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3080" y="434340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51055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0400" y="510552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657600" y="4647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958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7238520" y="46479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01240" y="541008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25480" y="3962520"/>
            <a:ext cx="41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CBD-CA86-466E-B0BA-F2866ECD0F3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mplementation of Nes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ed transactions satisf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transactions are isolated with respect to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ent does not execute concurrently with its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ild (and its descendants) is isolated from its siblings (and their descend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CD3-89AE-40F2-A830-6647CD3B798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mplementation of Nes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quest to rea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subtransaction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nested transaction T is granted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ther nested transaction holds a write lock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ther subtransactions of  T holding write lock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ancestors of  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hence are not execu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45720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9880" y="5486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38280" y="548640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971440" y="5105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657600" y="51055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70520" y="4343400"/>
            <a:ext cx="152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ld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 or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0200" y="4648320"/>
            <a:ext cx="126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ld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 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590920" y="49528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343040" y="5029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34E-033D-49A8-A82F-E6CE57E48B1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u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quest to rea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ubtransaction T' of nested transaction T is granted even though an ancestor of  T' holds a write lock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75840" y="2743200"/>
            <a:ext cx="5933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:  begin transaction                   T:  begi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…                      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(x)                                           w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’: begi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…                            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(x)                                                  r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…                            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it                                      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nesting                            with n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335760" y="4129200"/>
            <a:ext cx="13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(x)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th w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2437920" y="4495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4495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276720" y="3581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572000" y="3581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43792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072-6801-44C9-A37C-98BD84BF35D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mplementation of Nes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quest to wr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subtransaction T ' of nested transaction T is granted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ther nested transaction holds a read or write lock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ther subtransactions of  T holding read or write locks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ancestors of  T ' (and hence are not execu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90720" y="4038480"/>
            <a:ext cx="160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ld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d or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76720" y="396252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90920" y="510552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38480" y="5105520"/>
            <a:ext cx="685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048120" y="44956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44956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69840" y="3962520"/>
            <a:ext cx="139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not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y 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514600" y="43434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647960" y="46483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1C7-5DA7-4A7E-8E7E-5CA3E4A5A22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mplementation of Nes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ocks obtained by T' are held until it compl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aborts, all locks are disca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commits, any locks it holds that are not held by its parent are inherited by its 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op-level transaction (and hence entire nested transaction) commits, all locks are discar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C3F-155E-4563-ABAC-1E83CCEA651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 Implementation of Multilevel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ization of strict two-phase locking concurrenc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emantics of operations at each level to determine commut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different concurrency control at each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3B5-A189-4042-B841-2B62D63C508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457840" y="-425088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Switch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8280" y="182880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(s1, s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880" y="2895480"/>
            <a:ext cx="68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estInc(s2)                                                   Dec(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520" y="4191120"/>
            <a:ext cx="72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l(t2)      Upd(t2)                                            Upd(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0160" y="5334120"/>
            <a:ext cx="82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Rd(p2)      Rd(p2)   Wr(p2)                        Rd(p1)      Wr(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0" y="2438280"/>
            <a:ext cx="2819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915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599840" y="46483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51760" y="60609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0532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" y="38098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" y="5029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" y="27432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65720" y="1066680"/>
            <a:ext cx="268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action (sequential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ves student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ction to anoth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ses TestInc, 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4952520" y="18288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9568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438280" y="2209680"/>
            <a:ext cx="198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1460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676520" y="327672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90920" y="3505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67480" y="3048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288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00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895120" y="46483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800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391520" y="4267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543800" y="43434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6781320" y="44956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20120" y="47242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6080" y="2438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ction abs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6800" y="35053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uple abs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7160" y="47242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ge abs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D22-B6F8-46AC-9EB3-25007D46791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ve(s1,s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duc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nc(s2), Dec(s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1,s2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v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1, s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ght produ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n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2), TestIn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3), De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1), De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w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rations on the same object commute (they do not impose an ordering among transactions), this schedule is equivalent to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n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2), De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1), TestIn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3), De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and hence could be allowed by a multilevel control, bu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9102-8F57-4ABB-8C8B-F36E3CB6C3E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al 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(x, 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copy the value of database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local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(x, 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copy the value of local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atabase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mean a read or writ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transaction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 rot="10800000">
          <a:off x="1527120" y="1295280"/>
          <a:ext cx="135000" cy="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1527120" y="1295280"/>
                    <a:ext cx="135000" cy="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CB8-58AE-4EE0-8805-6FD01514A5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control assumes that the execution of operations it schedules is isolated: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conflict,  they can be executed concurrently and the result will be either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o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o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rue in a multilevel control where an operation is implemented as a program at the next lower level that might invoke multiple operations at the level below.  Hence, concurrent operations at one level might not be totally ordered at the nex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871-2F32-4D7F-9053-AF4B9E19383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9640" y="2590920"/>
            <a:ext cx="401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1)             De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29640" y="4038480"/>
            <a:ext cx="401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t1)             Up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7480" y="5486400"/>
            <a:ext cx="7926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1)               R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1)                 W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1)           W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2480" y="3124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733920" y="3124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524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4572000"/>
            <a:ext cx="3733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7339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4572000"/>
            <a:ext cx="3581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017400" y="1870200"/>
            <a:ext cx="28832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te at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tly,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nterlea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0F9-1299-4076-9E59-F82C79403A0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aranteeing Operation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e a concurrency control at each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ceives  a request from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ec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cy control at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chedu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executed; it assumes execution is i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mplemented as a progra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in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xecuted as a subtransaction so that it is serializable with respect  to other operations scheduled by 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ility guaranteed by C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F7A-DCB2-4914-8B29-EC9C83317AB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aranteeing Operation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60160" y="1219320"/>
            <a:ext cx="7554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requ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3240" y="2438280"/>
            <a:ext cx="370836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o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nsactions at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serializable (if o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mm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o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n execution of sub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 equivalent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o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o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29200" y="3352680"/>
            <a:ext cx="914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76920" y="2286000"/>
            <a:ext cx="1218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952880" y="5638680"/>
            <a:ext cx="12193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536520" y="2909880"/>
            <a:ext cx="2160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transaction at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xecuted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 gran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2160" y="5334120"/>
            <a:ext cx="35607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s serializ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subtransactions at 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198108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9480" y="51055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41008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864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86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019560" y="3809880"/>
            <a:ext cx="5331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86400" y="4114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5867280" y="411480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48640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715000" y="4495680"/>
            <a:ext cx="380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609588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128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148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714640" y="16765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55A-21A6-4CFB-9EE4-5FFC3876795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ultilevel Concurrency Control for th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rol at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stI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rol at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p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rol at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ADB-3C0A-4B7B-BDE6-3C5C43BD4BF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Ordered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ransaction given a (unique) timestamp (current clock value) when initi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the immediate updat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antees equivalent serial order based on timestamps (initiation or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 oppose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which the equivalent serial order is determined as the schedule progres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6F6-3D85-49F1-97F0-25979D5CA7A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Ordered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each database item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e two timestam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t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largest timestamp of any transaction that has writt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t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largest timestamp of any transaction that has rea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n indication of whether or not the last write to that item is from a committed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ED5-FC90-4480-9C8A-B3262182291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Ordered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 requests to rea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S(T) &lt; wt(x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T is too old; abort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S(T) &gt; wt(x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mmitted, grant T’s read and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S(T) &gt; rt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g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S(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t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not committed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waits (to avoid a dirty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937-E7CE-4B59-8C20-F22B9305FE0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stamp-Ordered Concurrency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 requests to wr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S(T) &lt; rt(x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 is too old; abor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t(x) &lt; TS(T) &lt; wt(x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no transaction that rea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uld have read the value T is attempting to write and no transaction will read that value (See R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committed, grant the request but do not do the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called the Thomas Write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committed, T waits to see if newer value will commit.  If it does, discard T’s write, else perform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t(x), rt(x) &lt; TS(T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mmitted, grant the request and assig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S(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t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lse T w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D34-C9C2-4A22-9EF6-1EDD59CC9D3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-106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S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&lt; TS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ommitted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read and write timestamps are less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S(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R2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S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&gt; wt(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S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t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W3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S(T2) &gt; rt(y), wt(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ssig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S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t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W3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S(T2) &gt; rt(x), wt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ssig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S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t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(W2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t(x) &lt; TS(T1) &lt; wt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grant request, but do not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do the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149480" y="2514600"/>
            <a:ext cx="6706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r(y)                                           w(x)  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w(y)       w(x)  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D88-5F98-404C-B734-30CA4D8C1D8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4T14:22:32Z</dcterms:created>
  <dc:creator>ARTHUR  BERNSTEIN</dc:creator>
  <dc:description/>
  <dc:language>en-US</dc:language>
  <cp:lastModifiedBy>Pearson Education</cp:lastModifiedBy>
  <dcterms:modified xsi:type="dcterms:W3CDTF">2005-04-06T15:57:49Z</dcterms:modified>
  <cp:revision>274</cp:revision>
  <dc:subject/>
  <dc:title>Implementing Isolation</dc:title>
</cp:coreProperties>
</file>