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305-B9EE-420C-AFFE-8679994B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C2E-2C3E-4D3B-94B4-2663EA47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8E6-25F7-4B4D-9ACA-E4C37263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B1A-8941-4F45-B87A-351FB8EF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A4D1-68A0-468E-904F-607182BA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2ACE-849D-44B6-BB93-911123DC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04FA-410D-493F-AD8E-5DAE012D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905D-D912-4889-8004-214985C0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9566-0828-4F70-92D8-AE99E3F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ED9D-8CBC-4881-A874-69B53F36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953A-3C7D-4375-AC61-A9EF1D8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950-C2DF-49A3-9DE7-E58DCDF5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6AA-838E-465C-8353-0BCEAD2F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0A0C-1757-47E8-B428-959BE159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A086-D5B5-4959-A252-0E218CFB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75FC-5F3F-4A00-9987-697FB378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D6AA-5B09-4030-9864-CCFB3437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938-D9EB-4385-8B1D-93B0163D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E56-94B9-4A23-BD19-6018924F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671-4B24-4A07-8DED-C0553E1D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9C3-54C8-49C8-A6EA-4E6339A0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082-DBE5-4A49-A052-F2033D20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4194-839D-4B6C-A522-E4506936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774-1BDF-49BF-A743-255C3C5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ECFD-0323-4A97-A6B9-A1A3A7CF7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520" y="914400"/>
            <a:ext cx="3505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4423-C475-4463-AC51-A5E32965A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2520" y="914400"/>
            <a:ext cx="3505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520" y="2742840"/>
            <a:ext cx="3581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of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Systems: Integration of Legacy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ny enterprises support multipl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ing separate task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automation requires that these systems be 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876920"/>
            <a:ext cx="2209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3657600"/>
            <a:ext cx="2209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4876920"/>
            <a:ext cx="13716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365760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429000"/>
            <a:ext cx="188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draw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6840" y="4800600"/>
            <a:ext cx="13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5105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343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038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5257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56560" y="37749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e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5692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6A6-871B-4942-B7EB-00224F96F0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5320" y="30456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5320" y="15235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te transactions at multiple servers into a single (distributed)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distributed applications are legacy systems; some are built from scratch as distribut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6480" y="3276720"/>
            <a:ext cx="227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_beg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_p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draw_p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_com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5240" y="331164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45240" y="437832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02040" y="3235320"/>
            <a:ext cx="1752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02040" y="4378320"/>
            <a:ext cx="1752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01320" y="323532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01320" y="437832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886200"/>
            <a:ext cx="1616040" cy="79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666880" y="3692520"/>
            <a:ext cx="11588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648320"/>
            <a:ext cx="184464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54520" y="475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33412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40520" y="346392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40880" y="445464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2A1-81E8-46E1-9747-CB07C1B848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stributed transaction should be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trans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loc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aintaine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rializ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he transaction should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i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nsactions commit or all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 constraints are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oncurrently executing distributed transaction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ach subtransaction is dur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8DF-3443-4D58-B17A-4FC3421F63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king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obal atom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funds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both subtransactions commit or neither do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x_begi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draw(acct1)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(acct2);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x_comm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E3E-A807-4552-842F-1185B1FCA3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king Example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obal consist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 of all account balances at bank branches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assets recorded at main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28C-A73C-44D7-895B-839876E05C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king Example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obal iso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local serializability at each site does not guarantee global serializ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t_inter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transaction is serialized aft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transaction in DBMS at branch 1 and bef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d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BMS at branch 2 (local isolation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glob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886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t_interest                      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balances at branch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interest at branch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interest at branch 2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balances at branch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7B1-4BAF-4BFB-9337-656447A1FA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rted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560" y="2666880"/>
            <a:ext cx="304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_beg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SELEC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INSER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SELEC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_com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2514600"/>
            <a:ext cx="1371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3733920"/>
            <a:ext cx="1371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4724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75680" y="27082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91880" y="388620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t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35268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36576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52680" y="2971800"/>
            <a:ext cx="2210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2743200"/>
            <a:ext cx="304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220968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5909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3733920"/>
            <a:ext cx="3049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55960" y="468936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48320" y="4419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1430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ystem might export an interface for execu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SQL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7360" y="5527800"/>
            <a:ext cx="707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the local system might export an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ecuting subtrans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198-15B7-4F06-9E83-A0D487FBCF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databases accessed by a distributed transaction is referred to a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databa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federated data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atabase retains its autonomy and might support local (non-distributed)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database might have global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balances of individual bank accounts at all branch offices = total assets stored at main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636-DD0A-4B5E-8034-DF509DF10B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stributed transaction invokes subtrans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odel: one distributed transaction might invoke another as a subtransaction, yielding a hierarchic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365760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56386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56386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46483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6483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276720" y="41911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4191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8120" y="51814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1814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2200" y="374796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41972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876560" y="40384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252-D562-4829-B2FD-EF54C06EC4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s of Distribu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19160" y="137124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iblings execute concurrent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arent execute concurrently with childre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nitiates comm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2193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22096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28600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276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32767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37720" y="17524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447560" y="2819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28195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41911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erarch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concurrency among subtransactions, root initiates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er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ncurrency among siblings and between parent and children, any subtransaction can initiate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A17-1EA4-4B92-81B8-238FBB1FA0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ing Applic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pplications involve long transactions that make many database a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eal with such complex applications many transaction processing systems provide mechanisms for imposing some structure on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086-AC6F-499D-BB7D-2CBD4611F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designer has little control over the structure. Decomposition fixed by distribution of data and/or exported interfaces (legacy environ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ly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713-183D-4EC0-88A2-10F965DD6C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ack of mechanisms that al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p-dow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al decomposition of a transaction into sub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subtransactions to abort without aborting the entir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a nested transaction looks similar to a distributed transaction, i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ceived of as a tool for accessing a multi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19B-ABBA-4774-A5FF-1BB92462DC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Nes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66520" y="1294920"/>
            <a:ext cx="58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ent can create children to perform subtasks; children might execute sequentially or concurrently; parent waits until all children complete (no communication between parent and childr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2193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22096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22096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3276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32767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37720" y="17524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17524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7560" y="27432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27432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39625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transaction (together with its descendants) is isolated with respect to each sibling (and its descendants). Hence, siblings are serializable, but order is not determined and nested transac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-determin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Concurrent nested transactions are serializ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3B3-3BD4-4172-B302-5F66098943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Nes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66880" y="1371600"/>
            <a:ext cx="6477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transaction is atomic.  It can abort or commit independently of other subtransactions.  Commi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commit of parent (since child task is a subtask of parent task).  Abort causes abort of all subtransaction’s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12193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22096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22096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32004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32004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37720" y="17524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1752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447560" y="2819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81080" y="2819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267080"/>
            <a:ext cx="8610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transaction commits when root  commits.  At that point updates of committed subtransactions are made du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4DA-D037-465C-8DC7-11113AFD96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Transaction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19051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3124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3124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43434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54864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54864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434340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54864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54864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9400" y="121932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ing a fligh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 to Des Mo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30600" y="1981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--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604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--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6800" y="32004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 --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7600" y="44197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 -- Chic --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31560" y="4419720"/>
            <a:ext cx="23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 -- StL --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7960" y="601992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 -- C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3760" y="60199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 --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3640" y="60199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 -- S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3120" y="60199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L -- 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447920" y="2438280"/>
            <a:ext cx="1676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90560" y="48769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81280" y="4876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866920" y="4876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29400" y="48769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3581280"/>
            <a:ext cx="2514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45600" y="237636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20004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6320" y="35956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657600" y="3809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0" y="48006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4290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48769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70040" y="260496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4680" y="4876920"/>
            <a:ext cx="17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op in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59320" y="480060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op in St. Lou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3200" y="44956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27E-3651-4EF8-BA9E-E4689E87D0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22860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124080"/>
            <a:ext cx="6094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1240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44197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44197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12952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434340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32004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320040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99840" y="2743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990360" y="36576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36576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27432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7560" y="54100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8195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86600" y="21337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30481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742840" y="16765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57800" y="167652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40044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2590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2133720"/>
            <a:ext cx="228600" cy="2819160"/>
          </a:xfrm>
          <a:custGeom>
            <a:avLst/>
            <a:gdLst>
              <a:gd name="textAreaLeft" fmla="*/ 0 w 228600"/>
              <a:gd name="textAreaRight" fmla="*/ 82440 w 22860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74920" y="562932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4876920" y="3504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22320" y="914400"/>
            <a:ext cx="24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 of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410080" y="12952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4419720"/>
            <a:ext cx="152280" cy="60948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441972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3680" y="5181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3716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3840" y="24382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3880" y="26668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819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983-3173-482C-9669-B14DA7C215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Nest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subtransactions are not necessarily consistent, but nested transaction as a whole is c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8B4-C41C-4BBE-B88C-9F2436F78D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ing to Increase Transaction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 the models previously discussed, a transaction generally locks items it accesses and holds locks until commit time to guarantee serializabilti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liminates bad interleavings, but limits concurrency and henc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8120" y="2819520"/>
            <a:ext cx="87058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quire lock on x                     release lock on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 r(x:12) .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 w(x:13)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: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est read(x)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(x: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 w(x:14) 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wai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quire lock on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32B-1FBC-4EDE-80D6-B508BFB2F7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Switch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8280" y="18288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(s1, s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2895480"/>
            <a:ext cx="68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stInc(s2)                                                   Dec(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520" y="4191120"/>
            <a:ext cx="72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(t2)      Upd(t2)                                            Upd(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160" y="5334120"/>
            <a:ext cx="82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Rd(p2)      Rd(p2)   Wr(p2)                        Rd(p1)      Wr(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2438280"/>
            <a:ext cx="2819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599840" y="46483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51760" y="6060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532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38098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5029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27432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1840" y="1090440"/>
            <a:ext cx="20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ansaction m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 from s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1 to section s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ses TestInc, 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952520" y="18288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568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38280" y="2209680"/>
            <a:ext cx="198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76520" y="327672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90920" y="3505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67480" y="3048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88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2895120" y="46483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4800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91520" y="4267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43800" y="4343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781320" y="44956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20120" y="47242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6080" y="2438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ction ab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6800" y="35053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uple ab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7160" y="47242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ge ab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3962520"/>
            <a:ext cx="15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roll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ored in tu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1 and 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960" y="55627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uples sto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1 and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428640" y="41907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4495320" y="57909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5165-71DC-4ABE-B3AD-322EA89DE9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ing into Multiple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463-AF76-481D-8C75-E475AF391C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tion on local 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een by DBMS; hence will be ignored in most future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DBMS using call or statement leve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sched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commit applies to these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tern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es a singl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quate for simpl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82360" y="198108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2514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2920" y="3581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2920" y="4724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DAD-2CB8-497C-A152-5FFC47921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in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rivial): Invoking begin_transaction at the start of each transaction involves communication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chaining, a new transaction is started automatically for an application program when the program commits or aborts the previous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approach taken in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0AD-3C6C-4823-9478-06D5D9CAA6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in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2071800"/>
            <a:ext cx="192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760" y="4572000"/>
            <a:ext cx="22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 not included i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 sinc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no db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533160" y="342864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520" y="327636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4360" y="2057400"/>
            <a:ext cx="192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78400" y="4572000"/>
            <a:ext cx="208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 s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 does not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120" y="2286000"/>
            <a:ext cx="957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247800" y="457200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6400" y="1371600"/>
            <a:ext cx="12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858000" y="2057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00992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696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5048-8EE0-4DA2-94BA-285317F5AA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ined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the system crashes during the execution of a long-running transaction, considerable work can be lo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7600" y="2867040"/>
            <a:ext cx="483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ning allows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decomposed into sub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with 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updates are m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ble at intermediat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less work is lost in a cr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43440" y="3048120"/>
            <a:ext cx="10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0960" y="3352680"/>
            <a:ext cx="9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90600" y="35463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71ED-3789-42C3-87D8-FF03EFB7F0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3962520"/>
            <a:ext cx="8001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ning compared with savepoi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point:  explicit rollback to arbitrary savepoint;  all updates lost in a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ing:  abort rolls back to last commit; only the updates of the most recent transaction lost in a cr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60948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;       -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date recs 1 - 1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;       -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date recs 1001 -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3;       -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date recs 2001 - 3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2F9-3924-4406-A5B4-FA44951FD1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ining Considerations -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as a whole is not atomic.  If crash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B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not roll the entire transaction b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subtransactions have commit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updates are dur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pdates might have been accessed by other transactions (locks have been releas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roll itself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8480" y="39862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9D4-F9E9-47BD-960E-CBEA0DFEF9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ining Considerations -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 forward requires that on recovery the application can determine how much work has been com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ubtransaction must tell successor where it left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between successive subtransactions cannot use local variables (they are lost in a cra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database to communicate between sub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40480" y="3986280"/>
            <a:ext cx="62049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rec_index: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;                         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date records 1 -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(rec_index:1000);   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ave index of last record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(rec_index:1000);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t index of last record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;                         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pdate records 1001 –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(rec_index:2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4A6-8B10-4D82-983D-1B4A54C1317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ining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as a whole is not isol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state between successive subtransactions might change since locks are released (but performance impro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nsactions might not be c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nsistent intermediate states visible to concurrent transactions during execution or after a cra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5680" y="3352680"/>
            <a:ext cx="849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ubtransaction 1                                                             subtransa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 r(x:15)…w(x:24)… commit                                 r(x:30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:                                             …w(x:30)…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78F-82B9-4235-A700-ABFC050D1B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Semantics for Ch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n commits the transaction (makes it durable) and starts a new transaction, but does not release 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transactions do not have to be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y is complicated (as before); rollforward 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formanc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7DF-FF86-44F0-BD61-E8C8450DA7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blem With Obtaining Atomicity With Ch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use the first semantics for ch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nsactions give up locks when they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after a subtransaction of a transa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its changes to some item and com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transaction changes the same item and com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uld then like to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our usual definition of chained transactions, atomicity cannot be achieved because of the committed sub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D78-81AE-4067-AD93-1265AD1264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want to achieve some measure of atomicity by undoing the effects of all the committed subtransactions when the overall transaction wants to 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ight think we can undo the updates made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just restoring the values each item had when T started  (physical logg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ill not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F11-0835-446C-9D05-9F2EE750D4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t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48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t causes the execution of a program that restores the variables updated by the transaction to the state they had when the transaction first accesse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64040" y="2133720"/>
            <a:ext cx="320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3200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3962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8EF-43D8-469F-ACAC-C72CE509AB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Update(x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mi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…                   abor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                                     Update(x)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,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orts, we just restore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value it had b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pdated i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update would be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E8C-2F55-42AC-A80C-3ABB57C561F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approach to this problem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restoring a value physically, we restore it logically by executing a compensating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tudent registration system, 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reg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transaction compensates for a successfu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eg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gist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roll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reg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rements that sam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ion works even if some other concurr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gist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transaction has also incremen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FBE-FB80-4E1B-931C-35CB1BE46B8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gas: An Extension To Chained Transactions That Achieves Partial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subtransa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chained transa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compensating transa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if a transa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ing of 5 chained subtransactions aborts after the first 3 subtransactions have committed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,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perform the desired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590-687C-4892-9663-24934174144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gas and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this type of compensation, when a transaction aborts, the value of every item it changed is eventually restored to the value it had before that transaction sta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complete atomicity is not guarant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ther concurrent transaction might have read the changed value before it was restored to its origin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8D1-A9FB-477D-AF80-7B092935CDC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ative Transaction Demar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already talked about two ways in which procedures can execute within a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part of the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d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child in a nested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A85-F009-44CB-9F55-BCE2F13FA7C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ative Transaction Demarcation 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ther possible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lling transaction  is suspended, and a new transaction is started.   When it completes the first transaction conti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The called procedure is at a site that charges for its services and wants to be paid even if the calling transaction ab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lling transaction is suspended, and the called procedure executes outside of any transaction.  When it completes the first transaction conti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The called procedure accesses a non-transactional fil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E69-7680-4D23-B6B6-55981ACCC59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ative Transaction Demarcation 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ay to implement such alternatives is throug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larative transaction demar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e in some data structure, outside of any transaction, the desired transaction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procedure is called, the system intercepts the call and provides the desired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DC1-2112-40D3-8A41-B7370B047C6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of Declarative Transaction  Demar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tive transaction demarcation is implemented within J2EE and 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iscuss J2EE (.NET is simil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transactional behavior of each procedure is declared as an attributed in a separate file called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loyment 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2D9-20E2-43BE-B351-4DB22612488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attributes (in J2EE)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quires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havior for each attribute depends on whether or not the procedure is called from within a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ilities are on th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228-B156-4F69-9E74-F133F967F3C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838080" y="762120"/>
          <a:ext cx="6782040" cy="5235480"/>
        </p:xfrm>
        <a:graphic>
          <a:graphicData uri="http://schemas.openxmlformats.org/drawingml/2006/table">
            <a:tbl>
              <a:tblPr/>
              <a:tblGrid>
                <a:gridCol w="266724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 of Called 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in a Trans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a Trans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s a New Trans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cutes Within the Trans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res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s a New Trans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s a New Trans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 Thr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cutes Within the Trans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Not Sta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Susp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Not Sta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cutes Within the Trans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action Not Sta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ception Thr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3565440" y="95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228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 of Callin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57400" y="6172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Pos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505320" y="152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228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0120" y="228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0A9-9E82-4FC6-BE6D-BDE0453AF3B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mitations of Fl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total rollback (abort) i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rollback no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work lost in case of cr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to accessing a single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transaction takes place at a single point i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8FE-FAA4-44CA-BC53-88347B5DF1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on of Each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ire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cedure must execute with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outside a transaction, a new transaction i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within a transaction, it executes within tha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15F-C352-4CAD-867D-95C8774C002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on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iresNe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xecute within a new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outside a transaction, a new transaction i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within a transaction, that transaction is suspended and a new transaction  is started.   When that transaction completes, the first transaction res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is semantics is different from nested transactions.  In this case the commit of the  new transaction is not condit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A37-2B15-4294-AC34-BD0AD9B8731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on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da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execute within an existing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outside a transaction, an exception is th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within a transaction, it executes within tha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9E5-6604-4004-BDD3-15F6FDAEBB7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on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Suppor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suppor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outside a transaction, a transaction is not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inside a transaction, that transaction is suspended until the procedure completes after which the transaction res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D6A-686E-4533-80F9-488430D0A5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on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or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xecute within or not within a transaction, but cannot start a new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outside a transaction, a transaction is not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inside a transaction, it executes within tha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4E8C-F891-40B4-ABF1-A1DDD913BEC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ion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v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never execute with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outside a transaction, a new transaction is not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alled from within a transaction, an exception is th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A2F-EEE4-4A21-B3AD-22DE6239281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osi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dra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actions in a banking application would have attribu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alled to perform a deposit, a new transaction would be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alled from within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ansaction to transfer money between accounts, they would execute within that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011-AABA-4670-A02D-7F408417183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r of individual procedures does not  have to know the transactional context in which the procedure will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ame procedure can be used in different transaction contex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ttributes are specified for each different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iscuss J2EE in more detail and how declarative transaction demarcation is implemented in J2EE in the Architecture chap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C76-01E0-4854-9BFD-4DE9BBBA265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ultilevel transaction is a nested set of subtransactio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mitment of a subtransaction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condi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ausing it to release its lock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level transactions are atomic and their concurrent execution is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996-C9BA-4FB7-8D33-ACA23551135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s viewed as a sequence of increasing, application oriented, levels of abstract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evel supports a set of abstract objects and abstract operations (methods) for accessing  thos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bstract operation is implemented as a transaction using the abstractions at the next lower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006-7C54-4E4B-94E5-446195A40F7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iding Structure Within a Single Trans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664-ACA9-4897-B59D-20117E3180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457840" y="-425088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- Switch S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8280" y="182880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(s1, s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0880" y="2895480"/>
            <a:ext cx="68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stInc(s2)                                                   Dec(s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520" y="4191120"/>
            <a:ext cx="72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el(t2)      Upd(t2)                                            Upd(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160" y="5334120"/>
            <a:ext cx="82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Rd(p2)      Rd(p2)   Wr(p2)                        Rd(p1)      Wr(p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0" y="2438280"/>
            <a:ext cx="2819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15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599840" y="46483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51760" y="6060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5320" y="6324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38098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" y="5029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27432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65720" y="1066680"/>
            <a:ext cx="268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action (sequential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ves student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ction to anoth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ses TestInc, 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952520" y="18288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9568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38280" y="2209680"/>
            <a:ext cx="198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1676520" y="327672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3505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048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288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4419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895120" y="46483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4800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91520" y="4267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43800" y="4343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781320" y="44956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20120" y="47242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6080" y="2438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ction ab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6800" y="35053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uple ab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7160" y="47242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ge abst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A9F-9B8E-44F6-9176-2C23DA426ED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nt initiates a single subtransaction at a time and waits for its completion.  Hence a multilevel transaction is sequent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eaf subtransactions in the tree are at the sam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leaf transactions access the data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are with distributed and nes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DB8-49CA-4585-89EB-943DBE53748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subtransaction (at any level) completes, it commits unconditionally and releases locks that it has acquired on items at the next lower lev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c(s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s t2; unlocks t2  when it com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nge it has made to the locked item becomes visible to subtransactions of other trans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cremented value of t2 is visible to a subsequent execu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oncurrent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reates problems maintaining isolation and atomi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0B1-F912-4D9C-BBAC-74E664F74D3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taining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4723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terleaved execution of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stI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results in error (we will return to this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5920" y="1981080"/>
            <a:ext cx="54781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2 is unloc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Sel comm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c1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(t2)                             Upd(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c2: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(t2)   Upd(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l2 can lock 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F64-B75B-41C9-8569-69FE7551A52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taining 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1 aborts, the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existed prior to its access cannot simply be restored (physical resto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restoration must be done us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nsating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ensat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ensates for a successfu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stIn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no compensation needed for unsuccessfu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stI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8040" y="1828800"/>
            <a:ext cx="809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1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c(s2)  Dec(s1)                                               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2: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Inc(s3)  Dec(s1) 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E85-1882-4EBB-8967-13DD4CD591F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ensating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level model uses compensating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 rot="5400000">
            <a:off x="7277040" y="354204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66800" y="3200400"/>
            <a:ext cx="23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gical rest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using compens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used by 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90280" y="4648320"/>
            <a:ext cx="747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stInc(s2)  Dec(s1)                                               Inc(s1)  Dec(s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: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stInc(s3)  Dec(s1) 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D6A-8CFC-4D5F-8757-E69F123B6EF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 of Multilevel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we shall see later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level transactions are ato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ontrast with Sagas, which also use compensation, but do not guarantee atom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t execution of multilevel transactions is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89E-3DA5-4BFD-A22B-CE595B98E44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able Que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Distributed model assumes that the subtransactions of a transaction follow one another immediately (or are concurre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applications the requirement is that a subtransaction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ual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d, but not necessarily immediat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overable queue is a transactional data structure in which information about transactions to be executed later can be durably st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F8A-16CA-4BED-9CB1-BBBD2577B2E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2120" y="3733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 is enqueued if T1 commits (deleted if it aborts);  item is deleted if T2 commits (restored if it abo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tem enqueued by T1 cannot be dequeued by T2 until T1 com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 is 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2560" y="1447920"/>
            <a:ext cx="7734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: begin transaction;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T2: begin transac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dequeue(ite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m :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ic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form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erv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queue(item)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;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2057400"/>
            <a:ext cx="1676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19920" y="1981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4812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053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5627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601992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A1C-FC69-4067-B3FF-417414AA4FC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e Queue for  Billing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120" y="3733920"/>
            <a:ext cx="15238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3920" y="3733920"/>
            <a:ext cx="15238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29400" y="3733920"/>
            <a:ext cx="15238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286000" y="32004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52680" y="3200400"/>
            <a:ext cx="381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257800" y="320004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2004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362320" y="2438280"/>
            <a:ext cx="1295280" cy="7621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57800" y="2438280"/>
            <a:ext cx="1295280" cy="7621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3F6-A39D-4EB7-9C6A-BAB2D3111EF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e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nsaction detects condition that requires rollback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c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base changes that it has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nsaction reverses changes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ansaction uses the rollback facility within DBMS to undo th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434-AB37-4FA3-A2D0-356246F3BF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t Implemention of the Sam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71600" y="3733920"/>
            <a:ext cx="15238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86400" y="2362320"/>
            <a:ext cx="15238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5181480"/>
            <a:ext cx="1523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895480" y="320004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95480" y="44197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48320" y="5638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257800"/>
            <a:ext cx="1295280" cy="762120"/>
          </a:xfrm>
          <a:prstGeom prst="roundRect">
            <a:avLst>
              <a:gd name="adj" fmla="val 45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2438280"/>
            <a:ext cx="1295280" cy="762120"/>
          </a:xfrm>
          <a:prstGeom prst="roundRect">
            <a:avLst>
              <a:gd name="adj" fmla="val 452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DDD-5957-4928-A92F-E4A57D549CA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able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ue could be implemented within database, but performance s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transaction should not hold long duration locks on a heavily used dat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4200" y="3886200"/>
            <a:ext cx="7671240" cy="23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quire lock on queue in db                                      release lock on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 en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………..compute………………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 enq(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(wai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en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: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 enq(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(wait)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: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uest enq(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(wa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396480" y="594360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quire lock on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62012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9F2-5891-4356-A34B-7895C3DF626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able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implementation takes advantage of semantics to improv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atomic and isolated, but some queue locks are released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3873600"/>
            <a:ext cx="807732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quire lock on queue and entry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lease lock on queue                                release lock on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 en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………..compute………………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………….compute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:                       en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……………..compute 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:                                  en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………….compute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95280" y="4191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1600" y="5943600"/>
            <a:ext cx="1782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quire 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n queue and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057400" y="5638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A35-95C3-4391-9A1B-E4C0F90F3C0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verable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ue and DBMS are two separat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must be committed at both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is implemented at the DBMS and applies to the schedule of requests made to the DBM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43040" y="1461960"/>
            <a:ext cx="192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34120" y="1523880"/>
            <a:ext cx="16761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4120" y="2590920"/>
            <a:ext cx="16761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ver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19810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828800" y="2209680"/>
            <a:ext cx="3505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752480" y="2438280"/>
            <a:ext cx="3581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2590920"/>
            <a:ext cx="3429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981080" y="2514600"/>
            <a:ext cx="33530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81080" y="35053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A95-B70F-4C26-B679-412D30F9C57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, any scheduling policy for accessing the queue might be enforc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a FIFO queue might not behave in a FIFO ma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4156200"/>
            <a:ext cx="8132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:  en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commit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tore 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:                          en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:                                                   de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                     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4:                                                                deq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…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010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D2C-AD94-4A9B-BE29-FAEAB8E365A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ing Real-World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real-world action performed from within a transaction, T, cannot be rolled back if crash occurs before comm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covery after a crash, how can we tell if the action has occurr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example:  We do not want to dispense cash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47760" y="2514600"/>
            <a:ext cx="32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:  begin_transa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 database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ate dev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765840" y="3138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0955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095520" y="34290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867280" y="3352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38C-D2DF-45BD-B73F-39176572996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ing Real-World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(part 1) T enqueues entry.  If T aborts, item is dequeued; if T commits action executed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2120" y="25146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2590920"/>
            <a:ext cx="16002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2514600"/>
            <a:ext cx="838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00800" y="2438280"/>
            <a:ext cx="16765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81680" y="2666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00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48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6728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87880" y="3276720"/>
            <a:ext cx="2945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gin_transa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queue ent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ate dev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6840" y="3276720"/>
            <a:ext cx="32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:  begin_transa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date database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queue ent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5360" y="5257800"/>
            <a:ext cx="490644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executes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lem still exists withi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27A-CF92-4B5C-8DE1-E5B093AF818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ing Real-World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(part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 maintains read-only counter (hardware) that is automatically incremented with each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nd increment are assumed to occur ato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er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6035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9480" y="1295280"/>
            <a:ext cx="838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09680" y="1523880"/>
            <a:ext cx="1600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95680" y="1295280"/>
            <a:ext cx="838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2200" y="1219320"/>
            <a:ext cx="22096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29400" y="14479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781680" y="2209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95680" y="2286000"/>
            <a:ext cx="8384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95680" y="2590920"/>
            <a:ext cx="8384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41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5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1752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5257800" y="1828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1280" y="4572000"/>
            <a:ext cx="36385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gin_transac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que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ate dev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ord counter in d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4120" y="1676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76B-A709-44BD-A8F9-29B8C776731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ing Real-World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ecov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448280" y="2438280"/>
            <a:ext cx="657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ore queue and database (value read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) to last comm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vice value &gt; recorded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card head ent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rt serv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06A-80EA-4F12-92B4-FDD66A04661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al Worl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e hardware counter and the database counter were both at 100 before the transaction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hardware performs its action,  it increments its counter to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then increment the database counter to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ystem crashed after the hardware performed its action the database increment (if it had occurred) would be rolled back to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when the system re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hardware counter was 101 and the database counter was 100, we would know that the action had been perfor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 both counters were the same  (100), we would know that the action had not taken p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D18-67D0-47E5-BEE4-69E9CF4F79C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e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3733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back to s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base upd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bsequent to creation of s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 and S3 updated the database (else there is no point rolling back over 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counter and local variable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lled ba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point creation does not make prior database changes durable (abort roll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anges b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2200" y="380880"/>
            <a:ext cx="46857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:= create_savepo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:= create_savepo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condition) {rollback (s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S5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4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59960" y="115740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ll to 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371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B7D-46E1-4000-B8F3-0979D41A49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ing 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ing deferred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2120" y="20574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205740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205740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666880" y="3352680"/>
            <a:ext cx="1600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666880" y="4648320"/>
            <a:ext cx="1676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574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2819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65760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2819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5280" y="4952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343040" y="4952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172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17184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240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5760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057760" y="19051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642120" y="19461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1960" y="4952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404240" y="4917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33400" y="1793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33040" y="26319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61400" y="5715000"/>
            <a:ext cx="79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 there are multiple clients (producers)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ervers (consum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0B9-462F-414F-9B8B-1EFF5C9F5C1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None of the previous models are sufficiently flexible to describe complex, long-running enterprise processes involving computational and non-computational tasks in distributed, heterogeneous systems over extended periods of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DDD4-4C84-47EA-91B1-EAFBD9862B0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contained job performed by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y transaction (agent = database ser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ing task (agent = hum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n associa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defines type of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gent can perform specified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s input from other tasks, produces outp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physical status: committed, aborted, 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d task has logical status: success,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E2C-D0A6-4999-A3EC-81EBB9C08E1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execution precedence specified separately from task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ontrol flow langu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using graphical too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86040" y="308916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it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2, T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2120" y="4648320"/>
            <a:ext cx="8380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33720" y="4648320"/>
            <a:ext cx="83808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09880" y="4191120"/>
            <a:ext cx="8384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09880" y="5334120"/>
            <a:ext cx="8384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410080" y="4648320"/>
            <a:ext cx="8384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0020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895480" y="464796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48320" y="46483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4648320" y="50288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95480" y="52578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67080" y="545148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5181480" y="502884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563868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048120" y="51051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EAA-93F5-4FFF-A9EA-16A78996282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al alternatives can be specif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/physical status of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of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a variable output by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paths can be specified in case of task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347840" y="2708280"/>
            <a:ext cx="52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dition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lse exec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7D2-D24D-43AA-A8A0-A2A6C6A3D0C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6183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es flow of data between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1640" y="3657600"/>
            <a:ext cx="822600" cy="10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3240" y="3657600"/>
            <a:ext cx="822600" cy="10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649760" y="3200400"/>
            <a:ext cx="822240" cy="10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49760" y="4343400"/>
            <a:ext cx="822240" cy="10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49960" y="3657600"/>
            <a:ext cx="822240" cy="1017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40080" y="4114800"/>
            <a:ext cx="522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487840" y="3657600"/>
            <a:ext cx="746280" cy="46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5360" y="4267080"/>
            <a:ext cx="897120" cy="6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286000" y="3263760"/>
            <a:ext cx="2362320" cy="470160"/>
          </a:xfrm>
          <a:custGeom>
            <a:avLst/>
            <a:gdLst/>
            <a:ahLst/>
            <a:rect l="l" t="t" r="r" b="b"/>
            <a:pathLst>
              <a:path w="1488" h="296">
                <a:moveTo>
                  <a:pt x="0" y="296"/>
                </a:moveTo>
                <a:cubicBezTo>
                  <a:pt x="236" y="156"/>
                  <a:pt x="472" y="16"/>
                  <a:pt x="720" y="8"/>
                </a:cubicBezTo>
                <a:cubicBezTo>
                  <a:pt x="968" y="0"/>
                  <a:pt x="1360" y="208"/>
                  <a:pt x="1488" y="24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3C1-02B2-467B-9F73-9C0768CA0FF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on Precedence in a Catalog Order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35812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76520" y="3581280"/>
            <a:ext cx="9903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95480" y="35812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91120" y="3581280"/>
            <a:ext cx="9903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86400" y="35812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77120" y="2819520"/>
            <a:ext cx="9903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53080" y="42670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543800" y="35812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581280" y="228600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3716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66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62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251460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95680" y="281952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400800" y="34286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00800" y="4114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746748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91520" y="33526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042640" y="29098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13280" y="20494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93120" y="28954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14600" y="32004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172200" y="32004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4B9-A294-49CD-9FEA-4ADFEC69C99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 of Data in a Catalog Order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35812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676520" y="3581280"/>
            <a:ext cx="9903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895480" y="35812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91120" y="3581280"/>
            <a:ext cx="9903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486400" y="35812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77120" y="2819520"/>
            <a:ext cx="9903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53080" y="42670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543800" y="358128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2286000"/>
            <a:ext cx="9907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52480" y="37339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1219320" y="2743200"/>
            <a:ext cx="236196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3716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862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814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632448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4114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2590920" y="28951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4191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43000" y="4191120"/>
            <a:ext cx="2286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133720" y="4191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3429000" y="419076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35D-C70F-4CB3-A267-773D36A19A7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 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le of performing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set of associated roles describing tasks it can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worklist listing tasks that have been assigned to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implement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list stored in a recoverabl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is an infinitely looping process that processes one queue element on each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B54-573A-4FC4-B0F2-B4C2535EEF6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 and ACID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tasks might be ACID, but workflow as a whole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ask might not be essential:  its failure is ignored even though workflow comp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t workflows might see each other’s intermediat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ht not choose to compensate for a task even though workflow f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E11-F4D8-4A8D-8BD2-A1D37512FD2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Save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we are making airplane reservations for a long tr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don-NY   NY-Chicago  Chicago-Des Mo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ight put savepoints after the code that made the London-NY and NY-Chicago re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cannot get a reservation from Chicago to Des Moines, we would rollback to the savepoint after the London-NY reservation and then perhaps try to get a reservation through St Lou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0FC-8ACF-449F-B00B-F9A80C68F2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 and ACID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ask is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Can ultimately be made to commit if retried a sufficient number of tim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nsa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Compensating task exist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dra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Neither retriable nor compensatabl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y a non-refundable ti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349-EFD2-4C58-92BE-F6FD162EA09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 and ACID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omicity of a workflow is guaranteed if each execution path is characterized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compensatable}*, [pivot], {retriable}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uarantee isolation since intermediate states are vi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F68-E7CF-45CB-A93E-BE6D3BA5B3F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flow Managemen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echanism for specifying workflow (control flow language, GU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echanism for controlling execution of concurrent workf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 and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lists and load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s (data reformatting) and controls flow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workflow state durably (data, task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recoverable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recovery of WFMS  itself (resume workfl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59F-12F4-4EB2-B8EA-172EF6AEAE5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ce of Workfl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management of an enterprise to guarantee that certain activities are carried out in accordance with established business rules, even though those activities involve  a collection of agents, perhaps in different locations and perhaps with minimal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54D-0D41-4419-B1FA-32584E5C89B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01:34:00Z</dcterms:created>
  <dc:creator>ARTHUR  BERNSTEIN</dc:creator>
  <dc:description/>
  <dc:language>en-US</dc:language>
  <cp:lastModifiedBy>Pearson Education</cp:lastModifiedBy>
  <dcterms:modified xsi:type="dcterms:W3CDTF">2005-04-06T15:58:01Z</dcterms:modified>
  <cp:revision>212</cp:revision>
  <dc:subject/>
  <dc:title>Models of Transactions</dc:title>
</cp:coreProperties>
</file>