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543-020C-4F6A-8B2B-BE733E79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3AC-5CE7-41C2-BB14-E7EABEBC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073-555A-4349-BD3E-AF84CFB3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972-14BD-4057-A35F-4E9F85FD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B21C-26FB-42DF-BEE0-1C25AC5F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F135-A0FB-42D1-8975-B4B2CA93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89B3-09FD-4F1F-BBB3-DEC97B89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7743-4E10-4735-BB70-395EBABF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8B91-AE80-41FE-B6BC-8759C53D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FF86-0797-4188-9B53-E3AB0AB8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ABD9-B831-46C2-92F6-DC2CE7C1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765-DA5E-4C36-A154-BC9FFDD5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F466-312D-4539-991B-0B16C20F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F336-A578-454E-98BF-22252E71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28E9-42C3-4F52-90B0-386DE192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A95E-224D-4550-8671-32350BE0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364D-09F6-494A-8EE7-8EF5C6F7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7B6-77EB-46A5-9CA4-46E52CBF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8A4-CF43-4909-BE31-12830B41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21C-DDCB-43F9-8F95-E07B1AC8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76D-1864-4EB1-AAFD-5B420AF6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05E-B398-42B6-B1C8-BFBD3246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339-01CC-4F31-A5F7-90678F9D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44B-CAD3-4B51-A79D-3214DBC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59F7-BC99-40DF-A4D2-F77746FE2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5160" y="91440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5FE9-6C77-4A2D-8B16-F5E32445E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05160" y="91440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181480" y="2742840"/>
            <a:ext cx="3276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 Properties of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B387-0021-4DBC-A17E-A63F8CCDEA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: Embed constraint in 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ECK, ASSER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tatic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IG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ynamic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confidence in correctness and decreases maintenanc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ways desirable since unnecessary checking (overhead) migh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osit transaction modif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cannot violate constrai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la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: Perform check in application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necessary checks are per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tters references to constraint throughout ap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maintain as transactions are modified/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695-D02C-4519-AE28-37D9D430E0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al-world event either happens or does not h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either registers or does not reg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the system must ensure that either the corresponding transaction runs to completion or, if not, it has no effect 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rue of ordinary programs.  A crash could leave files partially updated on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CA3-9A10-4485-94E9-4919EAD331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it and Ab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transaction successfully completes it is said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stem is responsible for ensuring that all changes to the database have been sa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transaction does not successfully complete, it is said 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stem is responsible for undoing,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lling back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changes the transaction has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6DD-91D2-4A47-802B-CBE673A89F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Ab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cr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aborted b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cannot be made atomic (a site is d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did not maintain database consistency (integrity constraint is vio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was not is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 not available (dead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 requests to roll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8A8-784B-4CC5-B505-1498CC7EB6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 for 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and TP monitor provide commands for setting transaction boundaries. 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mit command is a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might commit the transaction, or it might abort it for one of the reasons on the  previous 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llback command is always satis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6AC-B208-4BF2-B62B-DFE00D1A4D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must ensure that once a transaction commits, its effect on the database state is not lost in spite of subsequent fail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rue of ordinary programs. A media failure after a program successfully terminates could cause the file system to be restored to a state that preceded the program’s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67D-CDE0-4003-8A2A-8D0554F030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Du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stored redundantly on mass storage devices to protect against media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 of mass storage devices affects type of media failures that can be tole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vail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extent to which a (possibly distributed) system can provide service despite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stop DBMS (mirrored dis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very based DBMS (l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C08-4EF7-4682-9267-BBCD195666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al Exec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ransactions execute in sequ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ne starts after the previous one comple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on of one transaction is not affected by the operations of another since they do not overlap i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ecution of each transaction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l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all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initial database state and all transactions are consistent, then the final database state will be consistent and will accurately reflect the real-world stat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 execution is inadequate from a performance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6E8E-A85A-4AE4-AEBA-6B24559EAA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execution offers performance benef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 system has multiple resources capable of executing independentl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pu’s, I/O devices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action typically uses only one resource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only concurrently executing transactions  can make effective use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urrently executing transactions yield interleaved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E4E-8B1C-407C-9DA5-996804099E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urrent Ex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1676520"/>
            <a:ext cx="160020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572000"/>
            <a:ext cx="16002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819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2971800"/>
            <a:ext cx="16002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87840" y="2971800"/>
            <a:ext cx="20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4240" y="60958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7400" y="1371600"/>
            <a:ext cx="2637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of d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s output by 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72840" y="1801800"/>
            <a:ext cx="1128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72840" y="5078520"/>
            <a:ext cx="1128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10160" y="3809880"/>
            <a:ext cx="213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22096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733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56960" y="4800600"/>
            <a:ext cx="29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leaved sequence of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s input to 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4038120" y="60195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343040" y="18288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752480" y="274284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5146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53341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6920" y="4267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720" y="685800"/>
            <a:ext cx="13068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tr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5238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C4B-7DB4-43DF-AD82-B085807F5A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enterprises use databases to store information about their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Balances of all depositors at a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event occurs in the real world that changes the state of the enterprise, a program is executed to change the database state in a corresponding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Bank balance must be updated when deposit i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a program is calle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DAA-48BA-4EF3-9A75-B52B93CCEA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leaved execution of a set of consistent transactions offers performance benefit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not be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course registration;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r_r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umber of current registr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733920"/>
            <a:ext cx="8206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1: r(cur_reg : 29)…………w(cur_reg : 30) 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2:             r(cur_reg : 29)……………..…w(cur_reg : 30) 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50292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atabase state no longer correspond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world state, integrity constraint vi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r_r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gt;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_of_registered_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6680" y="2971800"/>
            <a:ext cx="21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mpu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een by 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809520" y="35812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343400" y="358128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9FD-35D5-4DFC-8090-7477D8469C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ction of Atomicity and 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osits $100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nts credit and commits befo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borts and rolls balance back to $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had an effect even though it abor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360" y="1905120"/>
            <a:ext cx="841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1: r(bal:10) w(bal:1000010)                                    ab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2:                             r(bal:1000010) w(yes!!!) 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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6AF-913E-41A2-830D-C51E4C897D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leaved schedule of transactions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ola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its effect is the same as if the transactions had executed serially in some order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follows that serializable schedules are always correct (for any appl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alizable is better than serial from a performance point of vie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uses locking to ensure that concurrent schedules are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2819520"/>
            <a:ext cx="297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(x)        w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(y)         w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A1B-1B50-4589-912C-C1BC73EB48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lation in the Real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upports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olation level, which guarantees serializability and hence correctness for all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of applications running at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RIALIZ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ften not adeq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also supports weaker levels of isolation with better performance characterist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beware! -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icular applic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t run correctly at a weake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A71-4667-473B-8BB4-2A84DBA33F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programmer is responsible for creating consistent transactions and choosing appropriate isolatio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is responsible for creating the abstractions of atomicity, durability, and i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ly simplifies programmer’s task since she does not have to be concerned with failures or con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2EF-18D2-4AE7-BA32-26E02655F9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aTransaction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information from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Balance transaction: Read customer’s balance in database and outpu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database to reflect the occurrence of a real world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 transaction: Update customer’s balance in data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the occurrence of a real world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draw transaction:  Dispense cash (and update customer’s balance in data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F97-5BA4-40EA-9729-DB4EDEAA61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ecution of each transaction must maintain the relationship between the database state and the enterpris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additional requirements are placed on the execution of transactions beyond those placed on ordinary progra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ist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4724280"/>
            <a:ext cx="25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19112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924"/>
                </a:lnTo>
                <a:cubicBezTo>
                  <a:pt x="10800" y="8824"/>
                  <a:pt x="16200" y="9724"/>
                  <a:pt x="21600" y="9724"/>
                </a:cubicBezTo>
                <a:cubicBezTo>
                  <a:pt x="16200" y="9724"/>
                  <a:pt x="10800" y="10624"/>
                  <a:pt x="10800" y="115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77E-E0A9-4010-A9AC-1990217DDE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prise (Business) 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mit the occurrence of certain real-world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cannot register for a course if the current number of registrants equals the maximum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ingly, allowable database states are restri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_reg &lt;= max_r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limitations are called (static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grity constraint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rtions that must be satisfied by the databas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13B-E352-4829-B443-03F815C5DE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tatic consistency requirements are related to the fact that the database might store the same information in different way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r_r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_of_registered_stud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limitations are also expressed as integr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base is consist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all static integrity constraints are satis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D40-6ADE-4736-86F3-C6F86E9419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sistent database state does not necessarily model the actual state of the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posit transaction that increments the balance by the wrong amount maintains the integrity constrai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lanc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oes not maintain the relation between the enterprise and database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sistent transaction maintains database consistenc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orrespondence between the database state and the enterprise state (implements its specif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 of deposit transaction includes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lance = balance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amt_deposit ,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initial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9E3-4B93-4DAC-AFC2-C0B783B834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nstraints restrict allowable state tran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action might transform the database from one consistent state to another, but the transition might not be permi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letter grade in a course (A, B, C, D, F) cannot be changed to an incomplete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constraints cannot be checked by examining the databas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7F6-CFA4-427B-B0F2-F1B1B94470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Consist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action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st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, assuming the database is in a consistent state initially,  when the transaction complet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tatic integrity constraints are satisfied (but constraints might be violated in intermediate st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hecked by examining snapshot of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tate satisfies specifications of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be checked from database snap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ynamic constraints have been vi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be checked from database snap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D25-CF46-40D2-9437-32655FC377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5T01:47:56Z</dcterms:created>
  <dc:creator>ARTHUR  BERNSTEIN</dc:creator>
  <dc:description/>
  <dc:language>en-US</dc:language>
  <cp:lastModifiedBy>Pearson Education</cp:lastModifiedBy>
  <cp:lastPrinted>1999-04-18T13:38:36Z</cp:lastPrinted>
  <dcterms:modified xsi:type="dcterms:W3CDTF">2005-04-06T15:58:07Z</dcterms:modified>
  <cp:revision>82</cp:revision>
  <dc:subject/>
  <dc:title>A Closer Look</dc:title>
</cp:coreProperties>
</file>