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DC0-847A-4067-97AD-9B6F0E81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18B-ECB7-41D8-B235-55A50F63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0C8-C9A8-454B-A6B8-91E2A8E3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1FD-B85F-4F73-AE32-75A81193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2E95-CDCC-49E7-B069-11C42515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47BF-C3D1-4DBE-AC8A-C246C196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8B4F-3045-4E2F-9B46-AFC44ED9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A6E-E0DD-427E-A380-906715DA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ABF1-EC6A-49DA-A50E-815664A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B1A-C974-4BDF-9CDA-2D5DD279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89B3-C99A-4336-9E87-7A910FE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B15-E719-4BB2-945A-E47C30B2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BE27-A755-4B9A-8CCE-8141FDDD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D84B-56C6-45EB-B11A-B908531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3524-968C-4BAF-BA77-65B5B275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98FA-36EF-4D88-BDEB-48791051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8D93-B900-4DD2-85B8-D533D670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869-6DB0-4011-B346-90039599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96E-B69C-4BDD-A677-226AA83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E28-B7E8-4479-A25E-8C922D40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3A7-4ADF-4A17-B581-4419C8EE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784-85E9-47C6-B5B0-0E1F6E6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BDB-EAEB-444D-A623-45EB5AF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C2A-BABC-4B8E-874A-2B732F57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FCE5-14AF-4B42-9C86-517ECAA47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8A6C-AB20-4126-8795-4A76BBCE4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520" y="2742840"/>
            <a:ext cx="3505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AP and 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Cu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 tables can be viewed as an N-dimension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cu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3-dimensional in our 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ries in the cube are the valu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es_A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7400" y="3174840"/>
            <a:ext cx="4191120" cy="31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2D8-D0A0-434C-93E6-58EC178CE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mension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mensions of the fact table are further described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imension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Market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duct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Time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ension 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Market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ity, State, 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duct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Name, Category, 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cc00cc"/>
                </a:solidFill>
                <a:latin typeface="Times New Roman"/>
              </a:rPr>
              <a:t>Time_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Week, Month, 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D0F-4A8B-4ED1-8B2B-F75EF44192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act and dimension relations can be displayed in an E-R diagram, which looks like a star and is call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r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754380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3828-1886-4F68-8BC0-FE3F92A6D5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LAP queries involv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data in the fact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o find the total sales (over time) of each product in each market, we might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ggregation is over the enti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mension and thus produces a two-dimensional view of the  data. (Note: aggregation here is over time, not supermarkets or products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5F0-0057-4E86-B9A4-644B18CE50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over 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of the previous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2666880"/>
          <a:ext cx="7086600" cy="3551400"/>
        </p:xfrm>
        <a:graphic>
          <a:graphicData uri="http://schemas.openxmlformats.org/drawingml/2006/table">
            <a:tbl>
              <a:tblPr/>
              <a:tblGrid>
                <a:gridCol w="2997360"/>
                <a:gridCol w="1091880"/>
                <a:gridCol w="1020960"/>
                <a:gridCol w="955800"/>
                <a:gridCol w="1020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_Am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258880" y="21337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-30960" y="4527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245-046C-4D23-AFA3-2830BE48F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lling Down and Rolling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imension tables form an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ggregation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ng a series of queries  that moves down a hierarchy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ggregation over regions to that over states) is calle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ill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the fact table or information more specific than the requested aggregati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c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ng a series of queries  that moves up the hierarchy (e.g., from states to regions)  is called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oll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In a rollup, coarser aggregations can be computed using prior queries for finer aggreg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003-73A2-49FB-A37D-EECE031959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lling down on market: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, Product_Id, Time_Id, 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, City, State, 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.</a:t>
            </a: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Reg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M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</a:t>
            </a:r>
            <a:r>
              <a:rPr b="0" i="1" lang="en-US" sz="2000" spc="-1" strike="noStrike">
                <a:solidFill>
                  <a:srgbClr val="cc00cc"/>
                </a:solidFill>
                <a:latin typeface="Times New Roman"/>
              </a:rPr>
              <a:t>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.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M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illing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411-1884-4902-9C78-17D73980FD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ing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ing up on market,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lready created a tab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_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M.</a:t>
            </a:r>
            <a:r>
              <a:rPr b="0" i="1" lang="en-US" sz="1800" spc="-1" strike="noStrike">
                <a:solidFill>
                  <a:srgbClr val="cc00cc"/>
                </a:solidFill>
                <a:latin typeface="Times New Roman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,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R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M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.</a:t>
            </a:r>
            <a:r>
              <a:rPr b="0" i="1" lang="en-US" sz="1800" spc="-1" strike="noStrike">
                <a:solidFill>
                  <a:srgbClr val="cc00cc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can roll up from ther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     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M.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e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_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M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M.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Reg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 reuse the results of query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E02-6A93-4648-A916-668B33DFDB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vo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view the data as a multi-dimensional cube and group on a subset of the axes, we are said to be perform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those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voting on dimensions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data cube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that we us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ggregate ove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ttribute of the dimension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ivoting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s to grouping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aggreg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,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.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6172200"/>
            <a:ext cx="914400" cy="457200"/>
          </a:xfrm>
          <a:prstGeom prst="wedgeRoundRectCallout">
            <a:avLst>
              <a:gd name="adj1" fmla="val -251041"/>
              <a:gd name="adj2" fmla="val -336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733560" y="510480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FAD-48DC-441D-988D-746321F4C9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Hierarchy as a Lat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ll aggregation hierarchies are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hierarchy is a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s are not contained in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roll up days into weeks or months, but we can only roll up weeks into quar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479680" cy="32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969-3352-4902-9E0C-5404EA4AFE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TP Compared With O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Line Transaction Processing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L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database that is an accurate model of  some real-world enterprise. Supports day-to-day operations.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 simple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ly frequen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access only a small fraction o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Line Analytic Processing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information in database to guide strategic decisions. 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equent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access a large fraction o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need not be up-to-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057-9C8F-4B69-9703-D24DAB3E0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cing-and-D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u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pecify a particular value for an axis (or several axes), we are performing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cing the data cube i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mension (choosing sales only in week 12)  then pivoting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ggregating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Week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‘Wk-1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 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S. </a:t>
            </a:r>
            <a:r>
              <a:rPr b="0" i="1" lang="en-US" sz="2400" spc="-1" strike="noStrike">
                <a:solidFill>
                  <a:srgbClr val="33cc33"/>
                </a:solidFill>
                <a:latin typeface="Times New Roman"/>
              </a:rPr>
              <a:t>Produc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4343400"/>
            <a:ext cx="914400" cy="380880"/>
          </a:xfrm>
          <a:prstGeom prst="wedgeRoundRectCallout">
            <a:avLst>
              <a:gd name="adj1" fmla="val -162500"/>
              <a:gd name="adj2" fmla="val 195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5943600"/>
            <a:ext cx="914400" cy="457200"/>
          </a:xfrm>
          <a:prstGeom prst="wedgeRoundRectCallout">
            <a:avLst>
              <a:gd name="adj1" fmla="val -261458"/>
              <a:gd name="adj2" fmla="val -461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68C-4A23-4FC7-BA0D-F5815B9C0F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cing-and-D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slicing and dicing involves several queries to find the “right slice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stance, change the slice &amp; the axes (from the prev. exampl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cing 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ensions then pivoting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e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 the time dimen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.Quarter =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.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arket_id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12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S.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,  T.</a:t>
            </a:r>
            <a:r>
              <a:rPr b="0" i="1" lang="en-US" sz="2000" spc="-1" strike="noStrike">
                <a:solidFill>
                  <a:srgbClr val="33cc33"/>
                </a:solidFill>
                <a:latin typeface="Times New Roman"/>
              </a:rPr>
              <a:t>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419720"/>
            <a:ext cx="914400" cy="380880"/>
          </a:xfrm>
          <a:prstGeom prst="wedgeRoundRectCallout">
            <a:avLst>
              <a:gd name="adj1" fmla="val -136458"/>
              <a:gd name="adj2" fmla="val 145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48006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248520"/>
            <a:ext cx="914400" cy="380880"/>
          </a:xfrm>
          <a:prstGeom prst="wedgeRoundRectCallout">
            <a:avLst>
              <a:gd name="adj1" fmla="val -334375"/>
              <a:gd name="adj2" fmla="val -64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3467160" y="499068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6F4-3499-4755-A854-621CECB553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UB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struct the following  table, would take 4 queries (next sl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71600" y="2666880"/>
          <a:ext cx="7086600" cy="3551400"/>
        </p:xfrm>
        <a:graphic>
          <a:graphicData uri="http://schemas.openxmlformats.org/drawingml/2006/table">
            <a:tbl>
              <a:tblPr/>
              <a:tblGrid>
                <a:gridCol w="2997360"/>
                <a:gridCol w="1091880"/>
                <a:gridCol w="1020960"/>
                <a:gridCol w="955800"/>
                <a:gridCol w="1020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_Am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5258880" y="21337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-30960" y="45273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A9A-F7E4-4F0B-A990-690259991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table entries, without the totals (aggregation on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.Market_Id, S.Produ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row totals (aggregation on time and mar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column totals (aggregation on time and produ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the grand total (aggregation on time, markets, and produ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A57-1658-4AB8-AA72-A03D52534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the 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UB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these three queries is waste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oes much of the work of the other two:  if we could save that result and aggregate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could compute the other queries more effici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UBE clause is part of SQL: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 CU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v1, v2, …, v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collection of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, one for each of the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ubsets of v1, v2, …, v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5CF-3733-4DCE-AAA2-B718A6B2A6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 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UB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query returns all the information needed to make the previous products/markets t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 CU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DBD-11E7-42EA-8F0E-0F9A4A6F1C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L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OLL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U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pt that instead of aggregating over all subsets of the arguments, it creates subsets moving from right to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Y ROLLUP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series of these aggreg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Y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OLL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in SQL: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DD1-4DD3-45C3-8D53-2F905CDE6D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 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LUP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ROLL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(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ggregates with the finest granula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ith the next level of granular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grand total is computed wit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638-3335-45DA-86D8-9AA03290C9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OLLU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me query with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U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ggregates with the finest granula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ith the next level of granular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hen the grand total wit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9B3-48A8-4318-95C1-FFE368860A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UB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or is often used to precompute aggregations on all dimensions of a fact table and then save them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erialized vie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o speed up futur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C5F1-6DDE-41AC-B164-B72650F46C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Gro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TP-style trans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 Smith, from Schenectady, N.Y., just bought a box of tomatoes; charge his account; deliver the tomatoes from our Schenectady warehouse; decrease our inventory of tomatoes from that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AP-style trans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cases of tomatoes were sold in all northeast warehouses in the years 2000 and 200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6E2-C6EB-45F7-B880-16A268ADC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AP and MO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OLAP:  RO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AP data is stored in a relational database as previously described.  Data cube is a conceptual view – wa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 ab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fact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mensional OLAP:  MO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provides an OLAP server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fact table as a data cube using a special multi-dimensional (non-relational)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99D-B55F-423E-9233-44F871F1CC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query language for MOLAP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MOLAP vendors (and many ROLAP vendors) provide proprietary visual languages that allow casual users to make queries that involve pivots, drilling down, or roll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105-944C-4116-B778-01B1BA68BE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AP applications are characterized by a very large amount of data that is relatively static, with infrequent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various aggregations can be precomputed and stored in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 jo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 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map ind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o improve efficiency (recall the methods to compute star joins in Chapter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updates are infrequent, the inefficiencies associated with updates are min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857-2381-4FA2-88B3-C749ED7646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(often derived from OLTP) for both OLAP and data mining applications is usually stored in a special database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warehouses are generally large and contain data that has been gathered at different times from DBMSs provided by different vendors and with different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ng such a data warehouse is not triv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4AA-CDBD-4A14-A3C0-E2DF88D9E2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volved in Populating  a Data Wareho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yntax used in different DMBSs for the same data might b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names:  SSN vs. Ss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domains:  Integer vs.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emantics might b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ing sales on a daily basis vs. summarizing sales on a monthly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Cl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errors and inconsistenci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488-7615-42E9-A41B-E21257EF93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with other databases, a warehouse must include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physical and logical organiza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about the source of each data item and the dates on which it was loaded and refre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BAC-CD92-4B7E-A70C-426EFD992D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mental Up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 volume of data in a data warehouse makes loading and updating a significan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fficiency, updating is usually incre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arts are updated at different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mental updates might result in the database being in an inconsisten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not important because queries involve only statistical summaries of data, which are not greatly affected by such 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821-3A99-4E2D-B393-194EBF8AA9C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ing Data into A Data Ware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1120" y="2209680"/>
            <a:ext cx="778176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AE9-E897-4BEC-BA0A-C03A65730C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empt at knowledge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for patterns and structure in a sea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echniques from many disciplines, such as statistical analysis and machine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echniques are not our mai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AAF-F731-49B8-AAC7-CBAB10A76C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of Data M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 patterns in data that associate instances of that data to related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what types of books does a customer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patterns in data that can be used to classify that data (and possibly the people it descri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“high-end buyers” and “low-end” 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lassification might then be used 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bank customers will default on their mortg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es for classification are known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25A-8889-4B84-A624-0777740CE7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AP: Traditional Compared with New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OLAP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data the enterprise gathers in its usual activities, perhaps in its OLTP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re ad hoc, perhaps designed and carried out  by non-professionals (mana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er Applications (e.g., Internet compan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prise actively gathers data it wants, perhaps purchas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are sophisticated, designed by professionals, and used in more sophisticated 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D7B-01A1-4125-A7EB-8AC3061F6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patterns in data that can be used to classify that data (and possibly the people it describes) into categories determined by a similarity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Are cancer patients clustered in any geographic area (possibly around certain power plants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e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known in advance, unlike is the classification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C2B-830F-4E5E-BE3D-1EAFAB4DC0B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rrelation between certain values in a database (in the same or different colum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n a convenience store in the early evening, a large percentage of customers who bought diapers also bought b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ssociation can be described using the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urchase_diapers  =&gt;  Purchase_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957-8011-4F49-9147-B9F27A8D91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dence and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whether an association exists, the system compute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d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at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fide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=&gt;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ntage of transactions (recorded in the database) that contain B among those that cont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pers =&gt; Be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ercentage of customers who bought beer among those who bought di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ntage of transactions that contain both items among al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* (customers who bought both Diapers and Bee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l custom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DED-AC59-478F-87F3-3BE80081EF6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certain an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certain that an association exists, both the confidence and the support must be above a certain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ce states that there is a high probability, given the data, that someone who purchased diapers also bought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tates that the data shows a large percentage of people who purchased both diapers and beer (so that the confidence measure is not an accid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E2CC-DA3F-4E01-A1ED-6264413875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iori Algorithm for Computing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his observ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upport for  A =&gt; B  is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the suppor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eparately be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items whose support is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heck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with support &gt; T (presumably, m&lt;&lt;n), find all pairs of such items whose support is larger th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 checking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ar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s with support &gt; T, compute the confidence for each 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checking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C7D-6DB8-48F4-922A-14D17B37C2B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finding patterns in data items that can be used to place those items in certain categories.That classification can then be used to predict futur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bank might gather data from the application forms of past customers who applied for a mortgage and classify them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aul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n-defaul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n when new customers apply, they might use the information on their application forms to predict whether or not they would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159-5B7E-445A-B07A-0323F075C3E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oan Risk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 bank used only three types of information to do the clas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or not the applicant was mar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or not the applicant had previously defaul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nts current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about previous applicants might be stored in a table call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in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AB4-E5C8-47B2-BEDF-D307803E79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52280" y="685800"/>
          <a:ext cx="8763120" cy="5452920"/>
        </p:xfrm>
        <a:graphic>
          <a:graphicData uri="http://schemas.openxmlformats.org/drawingml/2006/table">
            <a:tbl>
              <a:tblPr/>
              <a:tblGrid>
                <a:gridCol w="1447920"/>
                <a:gridCol w="1446120"/>
                <a:gridCol w="2411640"/>
                <a:gridCol w="1528560"/>
                <a:gridCol w="192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ious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3252960" y="4680"/>
            <a:ext cx="1942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raining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5C2-88EF-4C8C-B3EA-5627756BE50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52280" y="762120"/>
          <a:ext cx="8763120" cy="5452920"/>
        </p:xfrm>
        <a:graphic>
          <a:graphicData uri="http://schemas.openxmlformats.org/drawingml/2006/table">
            <a:tbl>
              <a:tblPr/>
              <a:tblGrid>
                <a:gridCol w="1447920"/>
                <a:gridCol w="1446120"/>
                <a:gridCol w="2411280"/>
                <a:gridCol w="1528920"/>
                <a:gridCol w="192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r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viousDefa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0"/>
            <a:ext cx="3657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Training Table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3DD1-8A92-4B6C-9CB1-66E3FFCF8CD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Using Deci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use the information in this table to classify new applicants into defaulters or non defau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approach is to use the training table to make a deci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435C-0598-470C-81C4-D2D9D02D5B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Groc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cases of tomatoes were sold in all northeast warehouses in the years 2000 and 200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e a profile of the grocery purchases of John Smith for the years 2000 and 2001 (so that we can customize our marketing to him and get more of his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E12-155D-41A5-8549-FE4CC0BD9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429000" y="762120"/>
            <a:ext cx="2209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2743200"/>
            <a:ext cx="17528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2743200"/>
            <a:ext cx="16002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4800600"/>
            <a:ext cx="144792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047760" y="152388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152388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057400" y="38098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57800" y="38862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38862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360" y="5867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86728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6324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4876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8380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ious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3048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5105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1905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41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038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4114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5867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5867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=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040" y="595440"/>
            <a:ext cx="27590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 Decis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578-D0C6-45BC-9C8D-2499C15008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sion Trees Imply Classification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lassification rule implied by the tree corresponds to a path from the root to a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one such rul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vious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o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Yes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lt; 3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533-877B-4A85-9C38-0CC1C740E29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ision Trees Might Make Mistak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classification rules developed from a decision tree might incorrectly classify some data;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vious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o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Y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gt;=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correctly classify customer C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unreasonable to expect that a small number of classification rules can always correctly classify a large amount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Produce the best possible tree from the give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BA6-8209-4073-8DB9-AEF7BD467EA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ing a Decision Tree From a Training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algorithms have been developed for constructing a decision tree from a 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iscuss th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3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3 starts by selecting the attribute to be used at the top level of the tree to make the first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ecision yields the nodes at the second level of the tree. The procedure repeats on each of thes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517-830B-41FC-AD46-FBE41C64620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king the Top-Most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we want to pick the attribute that gives the “most information” about the final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3 algorithm use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sure from Information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iningTabl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l-GR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robability of the outcome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ally: 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pproximat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#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ems in the table with outcome=i) / (# of all items in the t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C07-B16B-438F-AC40-65F2C99050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ties of the Entrop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4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Σ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opy determines the degree of randomness in the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½      – data is completely 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½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½ – ½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½ = ½ + ½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or 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data  is totally non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 – 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wer the entropy – the less randomness is in the da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more information is in the d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C07-788B-4C09-A76A-BE016339907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entire table, 6 entries have  the outcome “Yes”and 14 have the outcome “N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e entropy of the entire tabl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(6/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/20 + 14/20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/20) = .8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D3 algorithm selects as the top-most node the attribute that provides the largest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xplained n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1A5-791A-48AC-A7CD-14F111D450F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Gain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ttribute, A, and compute the entropies of the subtrees w.r.t. that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0" lang="el-GR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=1..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op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u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ndom the data has become after splitting the training set into sub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9051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320040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320040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3200400"/>
            <a:ext cx="9144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181120" y="2286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38880" y="2286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5120" y="237636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72560" y="251460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91880" y="2438280"/>
            <a:ext cx="7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4800" y="3352680"/>
            <a:ext cx="1905120" cy="1676520"/>
          </a:xfrm>
          <a:custGeom>
            <a:avLst/>
            <a:gdLst/>
            <a:ahLst/>
            <a:rect l="l" t="t" r="r" b="b"/>
            <a:pathLst>
              <a:path w="1200" h="1056">
                <a:moveTo>
                  <a:pt x="480" y="48"/>
                </a:moveTo>
                <a:lnTo>
                  <a:pt x="0" y="1056"/>
                </a:lnTo>
                <a:lnTo>
                  <a:pt x="1200" y="1056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342900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384" y="0"/>
                </a:moveTo>
                <a:lnTo>
                  <a:pt x="0" y="1296"/>
                </a:lnTo>
                <a:lnTo>
                  <a:pt x="1200" y="1296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3429000"/>
            <a:ext cx="1600200" cy="1447920"/>
          </a:xfrm>
          <a:custGeom>
            <a:avLst/>
            <a:gdLst/>
            <a:ahLst/>
            <a:rect l="l" t="t" r="r" b="b"/>
            <a:pathLst>
              <a:path w="1008" h="912">
                <a:moveTo>
                  <a:pt x="144" y="0"/>
                </a:moveTo>
                <a:lnTo>
                  <a:pt x="0" y="912"/>
                </a:lnTo>
                <a:lnTo>
                  <a:pt x="1008" y="912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59120" y="1549440"/>
            <a:ext cx="5295960" cy="4622760"/>
          </a:xfrm>
          <a:custGeom>
            <a:avLst/>
            <a:gdLst/>
            <a:ahLst/>
            <a:rect l="l" t="t" r="r" b="b"/>
            <a:pathLst>
              <a:path w="3336" h="2912">
                <a:moveTo>
                  <a:pt x="1472" y="80"/>
                </a:moveTo>
                <a:cubicBezTo>
                  <a:pt x="1184" y="120"/>
                  <a:pt x="1040" y="40"/>
                  <a:pt x="800" y="320"/>
                </a:cubicBezTo>
                <a:cubicBezTo>
                  <a:pt x="560" y="600"/>
                  <a:pt x="64" y="1368"/>
                  <a:pt x="32" y="1760"/>
                </a:cubicBezTo>
                <a:cubicBezTo>
                  <a:pt x="0" y="2152"/>
                  <a:pt x="136" y="2504"/>
                  <a:pt x="608" y="2672"/>
                </a:cubicBezTo>
                <a:cubicBezTo>
                  <a:pt x="1080" y="2840"/>
                  <a:pt x="2416" y="2912"/>
                  <a:pt x="2864" y="2768"/>
                </a:cubicBezTo>
                <a:cubicBezTo>
                  <a:pt x="3312" y="2624"/>
                  <a:pt x="3256" y="2176"/>
                  <a:pt x="3296" y="1808"/>
                </a:cubicBezTo>
                <a:cubicBezTo>
                  <a:pt x="3336" y="1440"/>
                  <a:pt x="3232" y="848"/>
                  <a:pt x="3104" y="560"/>
                </a:cubicBezTo>
                <a:cubicBezTo>
                  <a:pt x="2976" y="272"/>
                  <a:pt x="2800" y="160"/>
                  <a:pt x="2528" y="80"/>
                </a:cubicBezTo>
                <a:cubicBezTo>
                  <a:pt x="2256" y="0"/>
                  <a:pt x="1760" y="40"/>
                  <a:pt x="1472" y="8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60720" y="5805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1920" y="4038480"/>
            <a:ext cx="103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3520" y="4952880"/>
            <a:ext cx="103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8800" y="4038480"/>
            <a:ext cx="103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D5E-D4CE-43B2-ADF4-2A18DFA39BF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Gai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op-most node in the tree w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would be two subtre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ub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Y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ub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N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opies of these two subtrees would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“Ye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of the 6 entries have the outcome “Yes” and 2 have “No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is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/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.9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“N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of the 14 entries have the outcome “Yes” and 12 have “N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is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/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/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/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.5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verage entropy of these subtrees is (.918+.592)/2 = .6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top attribute 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881 – .690  = .1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6DC-FD35-472D-B220-4DFC18CE952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Information G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top-most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gain =  .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top-most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gain =  .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top-most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mpute information gain for all possible 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for the range Income &lt; 50 and Income &gt;= 50 the Information Gain is .0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Information Gain turns out to be for the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vious 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so we select that as the top-most attribute in the decision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D97-41A7-442B-A955-FB5C1C6378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ttempt at knowledge discovery – to extract knowledge from a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with O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percentage of people who make over $50,000 defaulted on their mortgage in the year 2000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information about salary, net worth, and other historical data be used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di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o will default on their mortg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1F5-352E-45BA-9F06-06D36DAAE4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st of the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the process on the each of the sub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subtrees might have different top-most nodes and/or different ranges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nodes in a subtree have the same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btree becomes a leaf node and the procedure stops for tha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nodes in a subtree do not have the same out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attributes to use: That subtree becomes a leaf node and the procedure stops for that sub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classification rules that access such a subtree will incorrectly classify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da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the subtre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viousDefau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o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rri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Y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&gt;= 30 incorrectly classifies C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attributes to use: Continue th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FDF-7EDD-4DF8-878B-F3C40539C71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Meas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of other measures can be used to produce a decision tree from a training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Ratio  =  (Information Gain)/Split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SplitInfo =    – </a:t>
            </a:r>
            <a:r>
              <a:rPr b="0" lang="el-GR" sz="28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 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t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t| is the number of entries in the table  being decomposed and |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 is the number of entries in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able pro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ni Index = 1 -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886200" y="56386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C51-6ED9-407E-9A1A-29ED979D84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ural Networks : Another Approach to Classification and Pred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hine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tgage broker believes that several factors might affect whether or not a customer is likely to default on mortgage, but does now know how to weight thes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data from past customers to “learn” a set of weights to be used  in the decision for futur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al networks, a technique studied in the context of Artificial Intelligence, provides a model for analyzing this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learning algorithms have been proposed in the literature and are being used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5FA-D960-490A-B236-F822015E950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odel of a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factors are represen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here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1 or 0, and the  weight of each such factor is represen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the weighted sum of the factors is compared with a thresho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If the weighted sum exceeds the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1 and we predict that the customer will default; otherwise the output is 0 and we predict he would be considered a good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3880" y="3886200"/>
                <a:ext cx="2362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9DC-5CCC-433F-AA1A-A445F50381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is simplified if we introduce a new weigh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equa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assume there is a new input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always equals –1.  Then the above inequality be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523880" y="4267080"/>
                <a:ext cx="25146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D320-9545-4131-8A51-128F7B831F0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Function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odel is said to 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-function ac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output is 1 if the weighted sum of the inputs is greater than or equal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output is 0 other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with this activation function are sometimes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tr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we will discuss another activ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DF0-0AB8-4AEB-B931-B318538C7E6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ptron Learn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values of each weight (and threshold) to some small rando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 inputs one at a time and compute th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esired output for some input is d and the actual output is y, change each weight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  is a small constant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rning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until some termination condition is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3962520"/>
                <a:ext cx="4343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905120" y="4724280"/>
                <a:ext cx="304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1ED-75D6-4BA6-BD09-4B62ECB7FFC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e for Learn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error, no change in the weights ar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n error, each weight is changed in the direction to decrease the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 if the output is 0 and the desired output is 1, the weights of all the inputs that were 1 are increased and the threshold is de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60E-B70E-4E2D-889D-FDD7A939D14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 and Problems with Perceptron Learning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decision can always be made correctly by a single neuron, this algorithm will eventually “learn” the correct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is that, for most applications, the decision cannot be made, even approximately, by a single neu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herefore consider networks of such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1DD-BE9E-46E0-B9D7-C69A0922194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838080"/>
            <a:ext cx="12956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838080"/>
            <a:ext cx="129528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838080"/>
            <a:ext cx="12193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124080"/>
            <a:ext cx="144792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124080"/>
            <a:ext cx="137160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5105520"/>
            <a:ext cx="152424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105520"/>
            <a:ext cx="1447920" cy="99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152280"/>
            <a:ext cx="396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8120" y="152280"/>
            <a:ext cx="3733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hree Level Neural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1295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pu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38098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idde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571500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utrpu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1905120"/>
            <a:ext cx="3353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1905120"/>
            <a:ext cx="12193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1600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733560" y="19051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400440" y="1905120"/>
            <a:ext cx="7621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14600" y="41911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419112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971440" y="41911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41911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6BE-961B-42BF-87D7-B01D9493927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Wareho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AP and data mining databases are frequently stored on special servers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wareho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commodate the huge amount of data generated by OLTP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OLAP queries and data mining to be run off-line so as not to impact the performance of OL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F74-E3D1-41D3-B4A0-3607B407C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-Level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put level just gathers the inputs and submits them to the other levels (no neur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ddle or hidden level consists of neurons that make intermediate decisions and send them to the outpu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layer makes the final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2B3-64B7-4E37-A806-4A3AFDDCE5A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Sigmoid Activat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thematically derive a learning algorithm for such a neural network, we must take deriv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cannot take derivatives of the step function activ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we must use a continuous activ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mon such activation function is the sigmoi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(1+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057400" y="5562720"/>
                <a:ext cx="16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w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13A1-DEEB-4864-9AE1-40842767F60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gmoid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143000" y="1219320"/>
          <a:ext cx="655308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55308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4BD-4E0C-49AD-8C6E-A44B734D3C12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Sigmoid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sense the sigmoid function is similar to the step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the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 asymptotic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arge positive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becomes asymptotic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large negative value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it is continuous and, as can be easily computed,  has the deri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used in many of the following comp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23880" y="4724280"/>
                <a:ext cx="4051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54A-41CF-4DF2-833F-3FB9AEC6BE0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Algorithm for a Single Sigmoid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ea is to take the derivative of the squared error with respect to each of the weights and change each weight by a small multiple of the negative of that deriv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the Gradient Desc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in the direction towards the minimum of th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981080" y="5105520"/>
                <a:ext cx="4038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C2B-0DEF-4960-9DC5-9FED08A485A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lgorithm for One Neuron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 bit of math, and using the previous result for the derivative of the sigmoid function, we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219320" y="3809880"/>
                <a:ext cx="6629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FCB-802C-4C2B-BAE8-E9469D24532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ogation Algorithm for 3-Level Neural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ly set the values of all weights to some small random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he inputs from the learning set one at a time and, for each input, compute the outputs of the neurons in the outpu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33A-4A05-461C-908A-67E97B68021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 the weights of each neuron in the out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same reasoning as for the single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025640" y="4114800"/>
                <a:ext cx="7092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250-3F76-4C09-B085-52B8651C152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asons that will be clear later, this equation can be simplifi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127160" y="3408480"/>
                <a:ext cx="55198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δ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203480" y="4952880"/>
                <a:ext cx="6510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7E4-27A4-487B-877A-B7D3ED323FD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consider neurons in the hidden layer.  Assume first that there is only one neuron in the outpu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same reasoning as before, the gradient descent method tells u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133720" y="4800600"/>
                <a:ext cx="403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d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1EE7-2B41-4BC6-975E-7EA9B4FE30B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AP, Data Mining, and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A” in OLAP stands for “Analytica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OLAP and Data Mining applications involve sophisticated analysis methods from the fields of mathematics, statistical analysis, and artificial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main interest is in the database aspects of these fields, not the sophisticated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015-1B68-4181-B6A7-478FB3144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the math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where        was previously computed (the back propagation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84200" y="2743200"/>
                <a:ext cx="4318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447920" y="4114800"/>
                <a:ext cx="609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den>
                        </m:f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590920" y="502920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69E-AB55-4F34-881C-A5968D157DF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more than one neuron in the output layer, we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1089000" y="2743200"/>
                <a:ext cx="561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r>
                          <m:t xml:space="preserve">(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id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209680" y="4191120"/>
                <a:ext cx="3962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×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716040" y="5562720"/>
                <a:ext cx="7407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id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/>
                    </m:nary>
                    <m:r>
                      <m:t xml:space="preserve">(</m:t>
                    </m:r>
                    <m:r>
                      <m:t xml:space="preserve">w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i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den>
                        </m:f>
                      </m:sup>
                    </m:sSup>
                    <m:r>
                      <m:t xml:space="preserve">×</m:t>
                    </m:r>
                    <m:r>
                      <m:t xml:space="preserve">δ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750-DD64-4930-A0DE-02514088049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Propagation  Algorithm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he training until some termination condition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in the training set has been used some fixed number of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errors has stopped decreasing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eights have stopped changing signific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errors has reached some predetermined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3E1-E149-49E6-AC7F-53A57A6697A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t of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 attributes for th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ilarity measure based on those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placing those items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us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uch that items in the same cluster are close according to the similarity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Classification: there the categories are known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cancer patients might have the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might be placed in clusters with similar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E31-8B82-42A3-8E66-115F5423AA7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Clustering Students b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523880" y="2286000"/>
          <a:ext cx="6096240" cy="3633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67A-62D3-4335-A5F4-AF11AC9E6F3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-Mean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luster a set of items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s at random to be the (initial) centers of the clusters (so each selected item is in its own clu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each i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the training 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cluster to which it is closest to the ce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culate the centers of each cluster as the mean of the items in that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he procedure starting at Step 2 until there is no change in the membership of any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DD5-810A-4B74-A0F7-FC03D6D0B55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udent 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want 2 clusters bas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ly pick S1 (age 17) and S4 (age 20) as the centers of the initia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luste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  17  18         20  23 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ers of these cluste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333  and 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istribute items among the clusters based on the new cen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  17  18  20        23  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epeat the procedure, the clusters remain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4DA-1D48-47DF-A808-58397066A76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Hiearchical or Aglomerative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lusters is not fixed in adv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ly select each item in the training set as the center of its own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wo clusters to merge into a single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pproach it to pick the clusters whose centers are closest according to some measure (e.g., Euclidian dist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until some termination condition is reached (e.g., the number of clusters falls below some li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84F-455E-406E-838E-C88752D535B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lain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     18      20      23     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17            18      20      23     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17  18                20      23     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17  18  20                    23     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17  18  20                    23  26  --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-means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 17  18  20  23 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4E1-CAD8-480C-AE21-FE7D5C32A79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way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results of the hierarchical algorithm is with the use of a tree call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nd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are clusters in the intermediate stages of the hierarchical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ee is constructed in reverse order of the execution of the hierarchical algorithm, starting with the final (single)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E0A-F4EF-498D-99E2-79528F67730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ct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LAP applications are based o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ct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a supermarket application might be based o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ble can be view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dimen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duct_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_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the dimensions that represent specific supermarkets, products, and time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es_Am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a function of the other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29D-6AC6-41FC-9A79-DF8342F15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438280" y="380880"/>
            <a:ext cx="396252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676520"/>
            <a:ext cx="2133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28800" y="2819520"/>
            <a:ext cx="1676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95280" y="4114800"/>
            <a:ext cx="1371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51814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51814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51814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518148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5181480"/>
            <a:ext cx="762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72400" y="51814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411480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200040" y="1219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1219320"/>
            <a:ext cx="32004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933960" y="4724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4724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219320" y="4648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46483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981080" y="34290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90920" y="3429000"/>
            <a:ext cx="1600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2590560" y="2362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2362320"/>
            <a:ext cx="236196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38280" y="5181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5181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5181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1814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924680" y="5181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629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2 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41148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 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3720" y="28954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  17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14600" y="18288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  17  18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53352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  17  18  20  22 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6095880"/>
            <a:ext cx="533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A Dendrogram for the Student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2570040"/>
            <a:ext cx="7165800" cy="3380040"/>
          </a:xfrm>
          <a:custGeom>
            <a:avLst/>
            <a:gdLst/>
            <a:ahLst/>
            <a:rect l="l" t="t" r="r" b="b"/>
            <a:pathLst>
              <a:path w="4514" h="2129">
                <a:moveTo>
                  <a:pt x="696" y="0"/>
                </a:moveTo>
                <a:cubicBezTo>
                  <a:pt x="565" y="25"/>
                  <a:pt x="438" y="59"/>
                  <a:pt x="310" y="94"/>
                </a:cubicBezTo>
                <a:cubicBezTo>
                  <a:pt x="271" y="105"/>
                  <a:pt x="232" y="113"/>
                  <a:pt x="193" y="124"/>
                </a:cubicBezTo>
                <a:cubicBezTo>
                  <a:pt x="169" y="131"/>
                  <a:pt x="120" y="145"/>
                  <a:pt x="120" y="145"/>
                </a:cubicBezTo>
                <a:cubicBezTo>
                  <a:pt x="96" y="169"/>
                  <a:pt x="103" y="164"/>
                  <a:pt x="77" y="182"/>
                </a:cubicBezTo>
                <a:cubicBezTo>
                  <a:pt x="62" y="192"/>
                  <a:pt x="33" y="211"/>
                  <a:pt x="33" y="211"/>
                </a:cubicBezTo>
                <a:cubicBezTo>
                  <a:pt x="28" y="218"/>
                  <a:pt x="22" y="225"/>
                  <a:pt x="18" y="233"/>
                </a:cubicBezTo>
                <a:cubicBezTo>
                  <a:pt x="12" y="247"/>
                  <a:pt x="4" y="277"/>
                  <a:pt x="4" y="277"/>
                </a:cubicBezTo>
                <a:cubicBezTo>
                  <a:pt x="7" y="331"/>
                  <a:pt x="0" y="393"/>
                  <a:pt x="26" y="444"/>
                </a:cubicBezTo>
                <a:cubicBezTo>
                  <a:pt x="43" y="476"/>
                  <a:pt x="47" y="470"/>
                  <a:pt x="84" y="495"/>
                </a:cubicBezTo>
                <a:cubicBezTo>
                  <a:pt x="173" y="554"/>
                  <a:pt x="278" y="576"/>
                  <a:pt x="383" y="590"/>
                </a:cubicBezTo>
                <a:cubicBezTo>
                  <a:pt x="446" y="613"/>
                  <a:pt x="515" y="614"/>
                  <a:pt x="580" y="627"/>
                </a:cubicBezTo>
                <a:cubicBezTo>
                  <a:pt x="717" y="655"/>
                  <a:pt x="856" y="683"/>
                  <a:pt x="995" y="700"/>
                </a:cubicBezTo>
                <a:cubicBezTo>
                  <a:pt x="1043" y="731"/>
                  <a:pt x="1108" y="741"/>
                  <a:pt x="1163" y="751"/>
                </a:cubicBezTo>
                <a:cubicBezTo>
                  <a:pt x="1219" y="786"/>
                  <a:pt x="1287" y="798"/>
                  <a:pt x="1345" y="831"/>
                </a:cubicBezTo>
                <a:cubicBezTo>
                  <a:pt x="1371" y="846"/>
                  <a:pt x="1393" y="866"/>
                  <a:pt x="1418" y="882"/>
                </a:cubicBezTo>
                <a:cubicBezTo>
                  <a:pt x="1472" y="917"/>
                  <a:pt x="1541" y="922"/>
                  <a:pt x="1593" y="962"/>
                </a:cubicBezTo>
                <a:cubicBezTo>
                  <a:pt x="1641" y="998"/>
                  <a:pt x="1696" y="1048"/>
                  <a:pt x="1746" y="1079"/>
                </a:cubicBezTo>
                <a:cubicBezTo>
                  <a:pt x="1789" y="1106"/>
                  <a:pt x="1838" y="1132"/>
                  <a:pt x="1877" y="1166"/>
                </a:cubicBezTo>
                <a:cubicBezTo>
                  <a:pt x="1902" y="1187"/>
                  <a:pt x="1914" y="1217"/>
                  <a:pt x="1936" y="1239"/>
                </a:cubicBezTo>
                <a:cubicBezTo>
                  <a:pt x="1984" y="1287"/>
                  <a:pt x="2025" y="1343"/>
                  <a:pt x="2074" y="1392"/>
                </a:cubicBezTo>
                <a:cubicBezTo>
                  <a:pt x="2084" y="1421"/>
                  <a:pt x="2096" y="1436"/>
                  <a:pt x="2118" y="1458"/>
                </a:cubicBezTo>
                <a:cubicBezTo>
                  <a:pt x="2133" y="1493"/>
                  <a:pt x="2142" y="1511"/>
                  <a:pt x="2169" y="1538"/>
                </a:cubicBezTo>
                <a:cubicBezTo>
                  <a:pt x="2187" y="1593"/>
                  <a:pt x="2163" y="1525"/>
                  <a:pt x="2191" y="1582"/>
                </a:cubicBezTo>
                <a:cubicBezTo>
                  <a:pt x="2202" y="1605"/>
                  <a:pt x="2205" y="1625"/>
                  <a:pt x="2220" y="1647"/>
                </a:cubicBezTo>
                <a:cubicBezTo>
                  <a:pt x="2232" y="1698"/>
                  <a:pt x="2264" y="1746"/>
                  <a:pt x="2286" y="1793"/>
                </a:cubicBezTo>
                <a:cubicBezTo>
                  <a:pt x="2304" y="1832"/>
                  <a:pt x="2307" y="1862"/>
                  <a:pt x="2330" y="1895"/>
                </a:cubicBezTo>
                <a:cubicBezTo>
                  <a:pt x="2367" y="2012"/>
                  <a:pt x="2466" y="2068"/>
                  <a:pt x="2577" y="2092"/>
                </a:cubicBezTo>
                <a:cubicBezTo>
                  <a:pt x="2592" y="2095"/>
                  <a:pt x="2606" y="2105"/>
                  <a:pt x="2621" y="2107"/>
                </a:cubicBezTo>
                <a:cubicBezTo>
                  <a:pt x="2652" y="2111"/>
                  <a:pt x="2684" y="2111"/>
                  <a:pt x="2716" y="2114"/>
                </a:cubicBezTo>
                <a:cubicBezTo>
                  <a:pt x="2762" y="2118"/>
                  <a:pt x="2854" y="2129"/>
                  <a:pt x="2854" y="2129"/>
                </a:cubicBezTo>
                <a:cubicBezTo>
                  <a:pt x="2916" y="2123"/>
                  <a:pt x="2919" y="2126"/>
                  <a:pt x="2964" y="2114"/>
                </a:cubicBezTo>
                <a:cubicBezTo>
                  <a:pt x="2986" y="2108"/>
                  <a:pt x="3029" y="2092"/>
                  <a:pt x="3029" y="2092"/>
                </a:cubicBezTo>
                <a:cubicBezTo>
                  <a:pt x="3073" y="2048"/>
                  <a:pt x="3087" y="2046"/>
                  <a:pt x="3110" y="1983"/>
                </a:cubicBezTo>
                <a:cubicBezTo>
                  <a:pt x="3129" y="1845"/>
                  <a:pt x="3121" y="1908"/>
                  <a:pt x="3139" y="1757"/>
                </a:cubicBezTo>
                <a:cubicBezTo>
                  <a:pt x="3147" y="1691"/>
                  <a:pt x="3152" y="1609"/>
                  <a:pt x="3190" y="1553"/>
                </a:cubicBezTo>
                <a:cubicBezTo>
                  <a:pt x="3199" y="1524"/>
                  <a:pt x="3204" y="1511"/>
                  <a:pt x="3234" y="1502"/>
                </a:cubicBezTo>
                <a:cubicBezTo>
                  <a:pt x="3272" y="1475"/>
                  <a:pt x="3318" y="1467"/>
                  <a:pt x="3365" y="1465"/>
                </a:cubicBezTo>
                <a:cubicBezTo>
                  <a:pt x="3440" y="1461"/>
                  <a:pt x="3516" y="1461"/>
                  <a:pt x="3591" y="1458"/>
                </a:cubicBezTo>
                <a:cubicBezTo>
                  <a:pt x="3630" y="1456"/>
                  <a:pt x="3669" y="1453"/>
                  <a:pt x="3708" y="1451"/>
                </a:cubicBezTo>
                <a:cubicBezTo>
                  <a:pt x="3850" y="1429"/>
                  <a:pt x="3998" y="1422"/>
                  <a:pt x="4138" y="1392"/>
                </a:cubicBezTo>
                <a:cubicBezTo>
                  <a:pt x="4210" y="1376"/>
                  <a:pt x="4278" y="1351"/>
                  <a:pt x="4349" y="1334"/>
                </a:cubicBezTo>
                <a:cubicBezTo>
                  <a:pt x="4389" y="1307"/>
                  <a:pt x="4443" y="1279"/>
                  <a:pt x="4473" y="1239"/>
                </a:cubicBezTo>
                <a:cubicBezTo>
                  <a:pt x="4480" y="1230"/>
                  <a:pt x="4484" y="1220"/>
                  <a:pt x="4488" y="1210"/>
                </a:cubicBezTo>
                <a:cubicBezTo>
                  <a:pt x="4494" y="1196"/>
                  <a:pt x="4502" y="1166"/>
                  <a:pt x="4502" y="1166"/>
                </a:cubicBezTo>
                <a:cubicBezTo>
                  <a:pt x="4513" y="1083"/>
                  <a:pt x="4514" y="1107"/>
                  <a:pt x="4502" y="999"/>
                </a:cubicBezTo>
                <a:cubicBezTo>
                  <a:pt x="4497" y="956"/>
                  <a:pt x="4466" y="924"/>
                  <a:pt x="4444" y="889"/>
                </a:cubicBezTo>
                <a:cubicBezTo>
                  <a:pt x="4410" y="836"/>
                  <a:pt x="4368" y="771"/>
                  <a:pt x="4305" y="751"/>
                </a:cubicBezTo>
                <a:cubicBezTo>
                  <a:pt x="4203" y="666"/>
                  <a:pt x="4045" y="646"/>
                  <a:pt x="3919" y="619"/>
                </a:cubicBezTo>
                <a:cubicBezTo>
                  <a:pt x="3842" y="602"/>
                  <a:pt x="3772" y="575"/>
                  <a:pt x="3693" y="561"/>
                </a:cubicBezTo>
                <a:cubicBezTo>
                  <a:pt x="3567" y="539"/>
                  <a:pt x="3440" y="524"/>
                  <a:pt x="3314" y="503"/>
                </a:cubicBezTo>
                <a:cubicBezTo>
                  <a:pt x="3284" y="498"/>
                  <a:pt x="3256" y="482"/>
                  <a:pt x="3226" y="474"/>
                </a:cubicBezTo>
                <a:cubicBezTo>
                  <a:pt x="3200" y="467"/>
                  <a:pt x="3172" y="466"/>
                  <a:pt x="3146" y="459"/>
                </a:cubicBezTo>
                <a:cubicBezTo>
                  <a:pt x="3116" y="451"/>
                  <a:pt x="3088" y="439"/>
                  <a:pt x="3059" y="430"/>
                </a:cubicBezTo>
                <a:cubicBezTo>
                  <a:pt x="3029" y="421"/>
                  <a:pt x="3019" y="423"/>
                  <a:pt x="2986" y="415"/>
                </a:cubicBezTo>
                <a:cubicBezTo>
                  <a:pt x="2934" y="402"/>
                  <a:pt x="2884" y="380"/>
                  <a:pt x="2833" y="364"/>
                </a:cubicBezTo>
                <a:cubicBezTo>
                  <a:pt x="2768" y="344"/>
                  <a:pt x="2701" y="334"/>
                  <a:pt x="2636" y="313"/>
                </a:cubicBezTo>
                <a:cubicBezTo>
                  <a:pt x="2598" y="301"/>
                  <a:pt x="2558" y="283"/>
                  <a:pt x="2519" y="277"/>
                </a:cubicBezTo>
                <a:cubicBezTo>
                  <a:pt x="2442" y="265"/>
                  <a:pt x="2364" y="255"/>
                  <a:pt x="2286" y="248"/>
                </a:cubicBezTo>
                <a:cubicBezTo>
                  <a:pt x="2221" y="230"/>
                  <a:pt x="2149" y="228"/>
                  <a:pt x="2082" y="218"/>
                </a:cubicBezTo>
                <a:cubicBezTo>
                  <a:pt x="1944" y="198"/>
                  <a:pt x="1805" y="179"/>
                  <a:pt x="1666" y="160"/>
                </a:cubicBezTo>
                <a:cubicBezTo>
                  <a:pt x="1618" y="153"/>
                  <a:pt x="1574" y="132"/>
                  <a:pt x="1527" y="124"/>
                </a:cubicBezTo>
                <a:cubicBezTo>
                  <a:pt x="1408" y="104"/>
                  <a:pt x="1289" y="82"/>
                  <a:pt x="1170" y="65"/>
                </a:cubicBezTo>
                <a:cubicBezTo>
                  <a:pt x="1061" y="49"/>
                  <a:pt x="951" y="36"/>
                  <a:pt x="842" y="22"/>
                </a:cubicBezTo>
                <a:cubicBezTo>
                  <a:pt x="792" y="16"/>
                  <a:pt x="744" y="15"/>
                  <a:pt x="696" y="0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1752480"/>
            <a:ext cx="1676520" cy="838440"/>
          </a:xfrm>
          <a:prstGeom prst="wedgeRoundRectCallout">
            <a:avLst>
              <a:gd name="adj1" fmla="val -29449"/>
              <a:gd name="adj2" fmla="val 15454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Possible set of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BFF-8110-4B54-BFC7-5ECBB0FDFCF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alysis of Dend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set of nodes whose childr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l the leaves is a possible cluster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 17  18        20       23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allowable set of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se clusters were not seen at an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mediate steps in the 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K- means algorith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62E-5DB2-406C-B332-6A492D67E7A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3T17:05:50Z</dcterms:created>
  <dc:creator>Computer Science Department</dc:creator>
  <dc:description/>
  <dc:language>en-US</dc:language>
  <cp:lastModifiedBy>Pearson Education</cp:lastModifiedBy>
  <dcterms:modified xsi:type="dcterms:W3CDTF">2005-04-06T15:54:50Z</dcterms:modified>
  <cp:revision>197</cp:revision>
  <dc:subject/>
  <dc:title>OLAP and Data Mining</dc:title>
</cp:coreProperties>
</file>