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342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A70-A8B7-4F2C-8593-CC725C17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2A4-EBBC-4F8B-BCFC-582283E9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7E2-2C61-412B-8928-92E998A9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8F7-ADFE-43BB-A38F-A3A4E3BE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54AF-C38C-443A-962E-9DB3ED3A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3FE5-F7B8-4323-941B-4F0706F5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B33B-41F5-4F5C-9DD1-97F5D493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8FFA-6710-4550-A7D5-B8809595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05B-69F0-4C12-BB03-8D463E2B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AFFB-156B-4B9E-8114-2D3A7D8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DEBA-94CA-4D21-B42E-F10967F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E30-25E3-40B0-B90F-5EB5993D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881B-EBC9-487D-8BC6-19AA73F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7FF0-4678-4381-A4E1-CBBA36AA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19A3-690E-4374-A526-8D0EBCDB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5F75-B5C1-4460-BACB-A51E2E70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5AF2-B43A-4D8B-9089-538D0856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25E-7978-4981-9CAC-30A976F4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FAC-8111-49A6-AE98-64D49DF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478-F0F6-4393-A965-269139FF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E2C-FBF4-4C30-882F-BAA8BD08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D8F-2C59-4EBD-9763-CAD21B3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5A9-4ECD-4E53-AF89-C7479FD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F13-008B-4B21-9491-BB4815F5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F71D-CA2B-4775-A90E-06EF7E67D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C85-B18E-46D5-8270-CF814111C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8840" y="2590920"/>
            <a:ext cx="3429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B074-7884-4163-8485-01E81B8DCC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and Restricted Global Schem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ddleware provides integration of local schemas into a glob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need not connect to each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accesses data using glob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t know where data is stored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ocation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joins are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performs necessary data re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manages replication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90-EA41-4240-8EBF-285667C0B6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distributed by storing individual tables at differen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also be distributed by decomposing a table and storing portions at different sites – 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ing can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35C-31AB-4112-B073-7110098BF2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artition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of table T contains a subset of the rows and each row is in exactly one part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-4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 partitioning is loss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971800"/>
            <a:ext cx="7621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15200" y="4876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9920" y="497664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9920" y="429084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9920" y="360504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9920" y="30718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2971800"/>
            <a:ext cx="152280" cy="2514600"/>
          </a:xfrm>
          <a:custGeom>
            <a:avLst/>
            <a:gdLst>
              <a:gd name="textAreaLeft" fmla="*/ 0 w 152280"/>
              <a:gd name="textAreaRight" fmla="*/ 5508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35960" y="4038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766-C56C-4DA4-A3CD-F27DA856FA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Internet grocer has a relation describing inventory at each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artitions the relation by location and stores each partition locally:  row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Chicago’ are stored in the Chicago warehouse in a par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_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it can use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ory_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5280-3F9E-4CE1-9130-511F27720B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partition,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T contains a subset of the columns, each column is in at least one partition, and each partition includes the ke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ttr_list</a:t>
            </a:r>
            <a:r>
              <a:rPr b="0" lang="en-US" sz="2400" spc="-1" strike="noStrike" baseline="-40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          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artitioning is loss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Internet grocer has a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partitions the relation to put some information at headquarters and some else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– at headqua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–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90560" y="2971440"/>
            <a:ext cx="457560" cy="228600"/>
            <a:chOff x="2590560" y="2971440"/>
            <a:chExt cx="457560" cy="228600"/>
          </a:xfrm>
        </p:grpSpPr>
        <p:sp>
          <p:nvSpPr>
            <p:cNvPr id="122" name=""/>
            <p:cNvSpPr/>
            <p:nvPr/>
          </p:nvSpPr>
          <p:spPr>
            <a:xfrm flipH="1" rot="5400000">
              <a:off x="2590200" y="29714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2819520" y="29714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66720" y="2971440"/>
            <a:ext cx="457560" cy="228600"/>
            <a:chOff x="4266720" y="2971440"/>
            <a:chExt cx="457560" cy="228600"/>
          </a:xfrm>
        </p:grpSpPr>
        <p:sp>
          <p:nvSpPr>
            <p:cNvPr id="125" name=""/>
            <p:cNvSpPr/>
            <p:nvPr/>
          </p:nvSpPr>
          <p:spPr>
            <a:xfrm flipH="1" rot="5400000">
              <a:off x="4266360" y="29714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495680" y="29714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F72-498C-4B2C-AFCA-42A5F5A05A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most useful mechanisms in distributed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one replica site is down, data can be accessed from another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ies can be executed more efficiently because they can access a local or nearby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might be slower because all replicas must be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D7F-2F5D-4E3A-A566-4FEF1B1158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ca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grocer might have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N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ies are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eadquarters to produce monthly mai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 warehouse to obtain information about deliv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 are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headquarters when new customer registers and when information about a customer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24-942D-49EA-856E-AB21E356B7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ly it seems appropriat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complete relation at headqua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ly partition a replica of the relation and store a partition at the corresponding warehous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is replicated: one copy at headquarters, one copy at 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 can be both distribu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F73-C644-4827-90CD-5D062493C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(con’t): Performanc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three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he entire relation at the headquarters site and nothing at the warehouses (no re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the partitions at the warehouses and nothing at the headquarters (no re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entire relation at headquarters and a partition at each warehouse (repli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D2B-236F-4421-95FE-400561BEC0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con’t)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Analysis -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valuate the alternatives, we estimate the amount of information that must be sent between si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 has 100,000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dquarters mailing application sends each customer 1 mailing a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deliveries are made each day; a single row is read for each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new customers/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to customer information occur infrequ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457-C0D2-45E3-B434-C2EB2F950E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istributed Data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whose relatio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s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differen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some of whose rela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plic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differen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whose rela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pl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tween differen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440-AF70-43D7-845C-928A962EC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 The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tire relation at headquarters, nothing at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tuples per day from headquarters to warehouses for  deliv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itions at warehouses, nothing at headqua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,000 tuples per month from warehouses to headquarters for mailings (3,300 tuples per day, amortiz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tuples per day from headquarters to warehouses for new custom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tire relation at headquarters, partitions at wareho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tuples per day from headquarters to warehouses for new customer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F7B-4F4E-4F74-91AF-194DC527A9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(case 3) seems best, if we count the number of trans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us look at other meas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data stored at warehouses, the time to handle deliveries might suffer because of the remote access (probably not impor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data is stored at headquarters, the monthly mailing requires that 100,000 rows be transmitted in a single day, which might clog the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replicate, the time to register a new customer might suffer because of the remote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update can be done by a separate transaction after the registration transaction commits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synchronous upd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792-C276-4943-AEC5-96F8FE86B6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that support a global schema contain a global query optimizer, which analyzes each global query and translates it into an appropriate sequence of steps to be executed at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multidatabase system, the query designer must manually decompose each global query into a sequence of SQL statements to be executed at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 query designer must be her own query opti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68C-6E8B-4FD0-BA7D-0E4A7FCBB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Query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amiliarity with algorithms for global query optimization helps the application programmer in desig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queries that will execute efficiently for a particular distribution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for efficiently evaluating global queries in a multidatabas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stribution of data that will be accessed by global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256-9EF4-43DF-A49F-0E474B782A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Global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an application at site A wants to join tables at sites B and C.  Two straightforward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both tables to site A and do the jo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pplication explicitly tests the  joi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pproach must be used in multidatabas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the smaller of the tables, e.g. the table at site B, to site C; execute the join there; transmit the result to si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pproach might be used in a homogenous distributed databas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F03-6907-41B8-B680-DB9736EDFE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Joi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j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at Site A wants to compute join with join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ACE-3E6E-44E1-A2CB-936ADE6507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s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9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5,000 tuples, each of length 12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 tuples, each of length 15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 students are registered for at least 1 course (10,000 students are not registered – summer ses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tudent is registered for 4 courses on the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62D-1999-48FC-9CD7-A6BB53E35C5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both tables to site A, do join the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send  15,000*12  + 20,000*15 = 480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the smaller tabl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rom site B to site C, compute the join there. Then send result to Sit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o send  15,000*12  +  20,000*18 = 540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1 is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559-71B1-43B1-8D71-DDDF7E5F88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other Alternative:  Semi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ite C:  Comp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i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contains Ids of students registered for at least 1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uples having Ids not in P do not contribute to join, so no need to send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ite B:  Comp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 si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contains tuples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rresponding to students registered for at least 1 course (i.e., 5,000 students out of 15,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the set of a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uples that will participate in the j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i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ite A:  Comp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ud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28840" y="3428640"/>
            <a:ext cx="457560" cy="228600"/>
            <a:chOff x="5028840" y="3428640"/>
            <a:chExt cx="457560" cy="228600"/>
          </a:xfrm>
        </p:grpSpPr>
        <p:sp>
          <p:nvSpPr>
            <p:cNvPr id="156" name=""/>
            <p:cNvSpPr/>
            <p:nvPr/>
          </p:nvSpPr>
          <p:spPr>
            <a:xfrm flipH="1" rot="5400000">
              <a:off x="5028480" y="34286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5257800" y="34286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876560" y="6019560"/>
            <a:ext cx="457560" cy="228600"/>
            <a:chOff x="4876560" y="6019560"/>
            <a:chExt cx="457560" cy="228600"/>
          </a:xfrm>
        </p:grpSpPr>
        <p:sp>
          <p:nvSpPr>
            <p:cNvPr id="159" name=""/>
            <p:cNvSpPr/>
            <p:nvPr/>
          </p:nvSpPr>
          <p:spPr>
            <a:xfrm flipH="1" rot="5400000">
              <a:off x="4876200" y="601956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5105520" y="601956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FE8-EAE6-402E-87FE-9ACD536FE7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sion Semijoin with Previous Alterna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tep 1:   45,000 = 5,000*9 bytes 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tep 2:   60,000 = 5,000*12 bytes 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tep 3:   300,000 = 20,000*15 bytes 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otal:  405,000 = 45,000 + 60,000 + 300,000  bytes 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join is the best of the thre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F0F-C3A6-4CD1-A887-FA9DE73790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ypes of Applications that Access Distributed Data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accesses data at the level of SQ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pany has nationwide network of warehouses, each with its own database; a transaction can access all databases using their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accesses data at a database using only stored procedures provided by that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urchase transaction involving a merchant and a credit card company, each providing stored subroutines for its sub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69D-A9E0-4CAE-A241-1A88DDE298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mij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wo relations,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-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, the semijoin consists of the tuples i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participate in the join with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66" name=""/>
          <p:cNvGrpSpPr/>
          <p:nvPr/>
        </p:nvGrpSpPr>
        <p:grpSpPr>
          <a:xfrm>
            <a:off x="6095520" y="3124080"/>
            <a:ext cx="380520" cy="228600"/>
            <a:chOff x="6095520" y="3124080"/>
            <a:chExt cx="380520" cy="228600"/>
          </a:xfrm>
        </p:grpSpPr>
        <p:sp>
          <p:nvSpPr>
            <p:cNvPr id="167" name=""/>
            <p:cNvSpPr/>
            <p:nvPr/>
          </p:nvSpPr>
          <p:spPr>
            <a:xfrm rot="5400000">
              <a:off x="6076440" y="3143160"/>
              <a:ext cx="228600" cy="190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16200000">
              <a:off x="6266160" y="3143160"/>
              <a:ext cx="228600" cy="190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133720" y="3123720"/>
            <a:ext cx="304560" cy="228960"/>
            <a:chOff x="2133720" y="3123720"/>
            <a:chExt cx="304560" cy="228960"/>
          </a:xfrm>
        </p:grpSpPr>
        <p:sp>
          <p:nvSpPr>
            <p:cNvPr id="170" name=""/>
            <p:cNvSpPr/>
            <p:nvPr/>
          </p:nvSpPr>
          <p:spPr>
            <a:xfrm>
              <a:off x="21337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3720" y="312408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133720" y="31237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571640" y="3505320"/>
            <a:ext cx="380520" cy="228600"/>
            <a:chOff x="4571640" y="3505320"/>
            <a:chExt cx="380520" cy="228600"/>
          </a:xfrm>
        </p:grpSpPr>
        <p:sp>
          <p:nvSpPr>
            <p:cNvPr id="174" name=""/>
            <p:cNvSpPr/>
            <p:nvPr/>
          </p:nvSpPr>
          <p:spPr>
            <a:xfrm rot="5400000">
              <a:off x="4552560" y="3524400"/>
              <a:ext cx="228600" cy="190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6200000">
              <a:off x="4742280" y="3524400"/>
              <a:ext cx="228600" cy="190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CF40-1807-432B-B48B-95DBA77BB3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 Semi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_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a semijoin, first compute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_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join it with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-5181480" y="5499000"/>
                <a:ext cx="30351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attribute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1</m:t>
                    </m:r>
                    <m:r>
                      <m:t xml:space="preserve">⊳</m:t>
                    </m:r>
                    <m:r>
                      <m:t xml:space="preserve">⊲</m:t>
                    </m:r>
                    <m:r>
                      <m:rPr>
                        <m:lit/>
                        <m:nor/>
                      </m:rPr>
                      <m:t xml:space="preserve">join</m:t>
                    </m:r>
                    <m:r>
                      <m:rPr>
                        <m:lit/>
                        <m:nor/>
                      </m:rPr>
                      <m:t xml:space="preserve">condition</m:t>
                    </m:r>
                    <m:r>
                      <m:t xml:space="preserve">T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⊳</m:t>
                    </m:r>
                    <m:r>
                      <m:t xml:space="preserve">⊲</m:t>
                    </m:r>
                    <m:r>
                      <m:rPr>
                        <m:lit/>
                        <m:nor/>
                      </m:rPr>
                      <m:t xml:space="preserve">join</m:t>
                    </m:r>
                    <m:r>
                      <m:rPr>
                        <m:lit/>
                        <m:nor/>
                      </m:rPr>
                      <m:t xml:space="preserve">condition</m:t>
                    </m:r>
                    <m:r>
                      <m:t xml:space="preserve">T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033280" y="4419720"/>
            <a:ext cx="54345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ttributes(T</a:t>
            </a:r>
            <a:r>
              <a:rPr b="0" lang="en-US" sz="2400" spc="-1" strike="noStrike" baseline="-4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_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oin_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57240" y="2133720"/>
            <a:ext cx="456840" cy="304560"/>
            <a:chOff x="3657240" y="2133720"/>
            <a:chExt cx="456840" cy="304560"/>
          </a:xfrm>
        </p:grpSpPr>
        <p:sp>
          <p:nvSpPr>
            <p:cNvPr id="181" name=""/>
            <p:cNvSpPr/>
            <p:nvPr/>
          </p:nvSpPr>
          <p:spPr>
            <a:xfrm rot="5400000">
              <a:off x="3619080" y="21715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3846960" y="21715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410080" y="2666520"/>
            <a:ext cx="304560" cy="228960"/>
            <a:chOff x="5410080" y="2666520"/>
            <a:chExt cx="304560" cy="228960"/>
          </a:xfrm>
        </p:grpSpPr>
        <p:sp>
          <p:nvSpPr>
            <p:cNvPr id="184" name=""/>
            <p:cNvSpPr/>
            <p:nvPr/>
          </p:nvSpPr>
          <p:spPr>
            <a:xfrm>
              <a:off x="54100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0080" y="266688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410080" y="26665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09520" y="4495680"/>
            <a:ext cx="456840" cy="304560"/>
            <a:chOff x="3809520" y="4495680"/>
            <a:chExt cx="456840" cy="304560"/>
          </a:xfrm>
        </p:grpSpPr>
        <p:sp>
          <p:nvSpPr>
            <p:cNvPr id="188" name=""/>
            <p:cNvSpPr/>
            <p:nvPr/>
          </p:nvSpPr>
          <p:spPr>
            <a:xfrm rot="5400000">
              <a:off x="3771360" y="45334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6200000">
              <a:off x="3999240" y="45334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790960" y="4495680"/>
            <a:ext cx="456840" cy="304560"/>
            <a:chOff x="5790960" y="4495680"/>
            <a:chExt cx="456840" cy="304560"/>
          </a:xfrm>
        </p:grpSpPr>
        <p:sp>
          <p:nvSpPr>
            <p:cNvPr id="191" name=""/>
            <p:cNvSpPr/>
            <p:nvPr/>
          </p:nvSpPr>
          <p:spPr>
            <a:xfrm rot="5400000">
              <a:off x="5752800" y="45334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6200000">
              <a:off x="5980680" y="45334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 flipV="1" rot="5400000">
            <a:off x="3543120" y="2475360"/>
            <a:ext cx="381240" cy="3505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3" idx="1"/>
          </p:cNvCxnSpPr>
          <p:nvPr/>
        </p:nvCxnSpPr>
        <p:spPr>
          <a:xfrm flipV="1">
            <a:off x="3731760" y="3276360"/>
            <a:ext cx="2288520" cy="76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 rot="16200000">
            <a:off x="5867640" y="2286000"/>
            <a:ext cx="304560" cy="1828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671-5BAA-4DBD-9E93-55B2294AEC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ries that Involve Joins and Sel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Internet grocer re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vertically partitio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at Si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at Sit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ery at site A wants the names of all employe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manager’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‘20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1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join then sel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jo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pful here: all tuples of each table must be brought together to form the join (the join is on SSN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14960" y="4724280"/>
            <a:ext cx="647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itle=‘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anager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Salary&gt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’20000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705360" y="4800600"/>
            <a:ext cx="456840" cy="304560"/>
            <a:chOff x="6705360" y="4800600"/>
            <a:chExt cx="456840" cy="304560"/>
          </a:xfrm>
        </p:grpSpPr>
        <p:sp>
          <p:nvSpPr>
            <p:cNvPr id="200" name=""/>
            <p:cNvSpPr/>
            <p:nvPr/>
          </p:nvSpPr>
          <p:spPr>
            <a:xfrm rot="5400000">
              <a:off x="6667200" y="4838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16200000">
              <a:off x="6895080" y="4838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B86-8DF5-402A-B057-D4B90AA818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ries that Involve Joins and Sel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o selections before the jo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ite B, select all tuples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y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‘20000’; call the resu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ite C, select all tuples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ying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manager’; call the resu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some site to be determined by minimizing communication costs, comput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Send result to sit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multidatabase, join must be performed at Site A, but communication costs are reduced because only “selected” data needs to be 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22000" y="1676520"/>
            <a:ext cx="671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&gt;’20000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itl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‘manager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876560" y="1752480"/>
            <a:ext cx="456840" cy="304560"/>
            <a:chOff x="4876560" y="1752480"/>
            <a:chExt cx="456840" cy="304560"/>
          </a:xfrm>
        </p:grpSpPr>
        <p:sp>
          <p:nvSpPr>
            <p:cNvPr id="206" name=""/>
            <p:cNvSpPr/>
            <p:nvPr/>
          </p:nvSpPr>
          <p:spPr>
            <a:xfrm rot="5400000">
              <a:off x="4838400" y="17902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rot="16200000">
              <a:off x="5066280" y="17902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009920" y="4343400"/>
            <a:ext cx="456840" cy="304560"/>
            <a:chOff x="7009920" y="4343400"/>
            <a:chExt cx="456840" cy="304560"/>
          </a:xfrm>
        </p:grpSpPr>
        <p:sp>
          <p:nvSpPr>
            <p:cNvPr id="209" name=""/>
            <p:cNvSpPr/>
            <p:nvPr/>
          </p:nvSpPr>
          <p:spPr>
            <a:xfrm rot="5400000">
              <a:off x="6971760" y="4381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6200000">
              <a:off x="7199640" y="4381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9AC-5B54-419B-AE6A-3B9871B474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: Choices to be Made by a Distributed Database Application Desig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tables at differen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tables in different ways and place partitions at differen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e tables or data within tables and place replicas at differen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ultidatabase systems, do manual “query optimization”:  choose an optimal sequence of SQL statements to be executed at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6BC-F8C7-46E2-9787-7537956E3E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ing Distribu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pplications of the first type can access data directly and hence employ query optimiz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the applications we consider in this ch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553-9BF0-4004-94CD-DA93F465A1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hould a distributed database be desig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what site should each item be sto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tems should be replicated and at which si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hould queries that access multiple databases be process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issues of query optimization affect query desig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B66-91B4-47D7-B25D-FC5BE29F8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ight Data Be Distribu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ight be distributed to minimize communication costs or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ight be kept at the site where it was created so that its creators can maintain control an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ight be replicated to increase its availability in the event of failure or to decrease respons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66C-DC7E-4963-9C1C-DC752CD97A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Designer’s View of a Distributed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r might see the individual schemas of each local database --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ultidatab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-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case distribution is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l databases from one vendor)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atabases from different vend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r might see a singl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ntegrates all local schemas (is a view) in which case distribution is hid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r might se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tric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the union of all the loc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some vendors of homogeneou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4F1-777D-4BFC-AC3B-37EAAE2F0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of Distribut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333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Multidatabase with local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Integrated distributed database with glob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416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320-24DC-41FD-B010-7C33DCA2EA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explicitly connect to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accesses data at a site using SQL statements based on that site’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ay have to do reformatting in order to integrate data from different si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must manage 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where replicas are stored and decide which replica to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CC0-4E7D-46B2-BF10-8D30D9F1E2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13:01:14Z</dcterms:created>
  <dc:creator>Computer Science Department</dc:creator>
  <dc:description/>
  <dc:language>en-US</dc:language>
  <cp:lastModifiedBy>Pearson Education</cp:lastModifiedBy>
  <dcterms:modified xsi:type="dcterms:W3CDTF">2005-04-06T15:54:37Z</dcterms:modified>
  <cp:revision>88</cp:revision>
  <dc:subject/>
  <dc:title>Distributed Databases</dc:title>
</cp:coreProperties>
</file>