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</p:sldIdLst>
  <p:sldSz cx="9144000" cy="6858000"/>
  <p:notesSz cx="69342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E13-93AD-4A93-8C08-BCA58C44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8EF-23A1-4439-B1C3-E3B2E774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B0BC-BAB6-40B1-90A0-BF228CB0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88C-B1A0-48AE-8691-842F2194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A4A6-94B8-4972-AD2C-14645FB8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0490-5475-4378-BA3B-7D66E2B6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18E6-72C7-48FE-B6D2-64524D3E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54DB-C77C-46FD-A5F3-470AD3C8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F1CC-49F5-4D77-B173-A29EB1C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9CD5-C2EE-4E6D-B2E0-4BA5CF1C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1C3F-7B8F-448F-9E85-8CE5B154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D77-B4DF-406D-8D6C-5CD5DC3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892E-CC1E-4875-9EA3-15D985CE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73B6-5CD7-43E7-8633-59DEDCFD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EC54-CA9B-4C31-8376-1C66CE7C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EAAB-9828-48C6-8EB7-940AD6A0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E75B-0EBF-4674-80B6-EE403067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F91-0589-4794-A83C-DE53A274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042-19E9-4284-BDA1-4858949E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185F-3BB6-4C58-9AC7-EB5610E4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B81-E638-4782-BB1B-D4BCA8EB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3665-15B5-4736-B179-A102D73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E37-935E-46B6-9380-9078D3E5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A19-0DB5-43C9-B852-5DFFA75F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BBF9-DDA2-4E5C-AC0D-32803F88E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429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AF7D-0F20-46E5-8813-40DA8C460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" Target="slide116.xml"/><Relationship Id="rId2" Type="http://schemas.openxmlformats.org/officeDocument/2006/relationships/slide" Target="slide116.xml"/><Relationship Id="rId3" Type="http://schemas.openxmlformats.org/officeDocument/2006/relationships/slide" Target="slide116.xml"/><Relationship Id="rId4" Type="http://schemas.openxmlformats.org/officeDocument/2006/relationships/slide" Target="slide116.xml"/><Relationship Id="rId5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hyperlink" Target="http://types.r.us/" TargetMode="External"/><Relationship Id="rId2" Type="http://schemas.openxmlformats.org/officeDocument/2006/relationships/hyperlink" Target="http://types.r.us/" TargetMode="External"/><Relationship Id="rId3" Type="http://schemas.openxmlformats.org/officeDocument/2006/relationships/hyperlink" Target="http://types.r.us/types.xsd" TargetMode="External"/><Relationship Id="rId4" Type="http://schemas.openxmlformats.org/officeDocument/2006/relationships/hyperlink" Target="http://types.r.us/types.xsd" TargetMode="External"/><Relationship Id="rId5" Type="http://schemas.openxmlformats.org/officeDocument/2006/relationships/hyperlink" Target="http://foo.org/foo" TargetMode="External"/><Relationship Id="rId6" Type="http://schemas.openxmlformats.org/officeDocument/2006/relationships/hyperlink" Target="http://foo.org/foo" TargetMode="External"/><Relationship Id="rId7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3.xml"/><Relationship Id="rId3" Type="http://schemas.openxmlformats.org/officeDocument/2006/relationships/slide" Target="slide63.xml"/><Relationship Id="rId4" Type="http://schemas.openxmlformats.org/officeDocument/2006/relationships/slide" Target="slide85.xml"/><Relationship Id="rId5" Type="http://schemas.openxmlformats.org/officeDocument/2006/relationships/slide" Target="slide85.xml"/><Relationship Id="rId6" Type="http://schemas.openxmlformats.org/officeDocument/2006/relationships/slide" Target="slide85.xml"/><Relationship Id="rId7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429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8840" y="2590920"/>
            <a:ext cx="3429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and Web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1A6D-9E2A-4801-B85A-8A82BCECC5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?xml  version=“1.0”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erson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Student”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2002-02-02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Student List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erson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ments are n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element contains all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4876920"/>
            <a:ext cx="2210040" cy="609480"/>
          </a:xfrm>
          <a:prstGeom prst="wedgeRoundRectCallout">
            <a:avLst>
              <a:gd name="adj1" fmla="val -132759"/>
              <a:gd name="adj2" fmla="val -166666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876920"/>
            <a:ext cx="2210040" cy="609480"/>
          </a:xfrm>
          <a:prstGeom prst="wedgeRoundRectCallout">
            <a:avLst>
              <a:gd name="adj1" fmla="val -139870"/>
              <a:gd name="adj2" fmla="val -90884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lement (or tag)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5053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2133720"/>
            <a:ext cx="457200" cy="2209680"/>
          </a:xfrm>
          <a:custGeom>
            <a:avLst/>
            <a:gdLst>
              <a:gd name="textAreaLeft" fmla="*/ 0 w 457200"/>
              <a:gd name="textAreaRight" fmla="*/ 164880 w 4572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 rot="16200000">
            <a:off x="2327400" y="3307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16200000">
            <a:off x="6905880" y="307224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Roo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3505320"/>
            <a:ext cx="1447920" cy="609480"/>
          </a:xfrm>
          <a:prstGeom prst="wedgeRoundRectCallout">
            <a:avLst>
              <a:gd name="adj1" fmla="val -157893"/>
              <a:gd name="adj2" fmla="val -163541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ty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705040" y="1256760"/>
            <a:ext cx="152280" cy="2819520"/>
          </a:xfrm>
          <a:custGeom>
            <a:avLst/>
            <a:gdLst>
              <a:gd name="textAreaLeft" fmla="*/ 97200 w 152280"/>
              <a:gd name="textAreaRight" fmla="*/ 152640 w 15228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8680" y="990720"/>
            <a:ext cx="1295640" cy="380880"/>
          </a:xfrm>
          <a:prstGeom prst="wedgeRoundRectCallout">
            <a:avLst>
              <a:gd name="adj1" fmla="val -151472"/>
              <a:gd name="adj2" fmla="val 2008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990720"/>
            <a:ext cx="1295640" cy="380880"/>
          </a:xfrm>
          <a:prstGeom prst="wedgeRoundRectCallout">
            <a:avLst>
              <a:gd name="adj1" fmla="val -293013"/>
              <a:gd name="adj2" fmla="val 19958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74320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466-6B10-4C81-A245-78CA80D8A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mitations of XSLT as a Query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style unfamiliar to people trained o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importantly:  Hard to do joins, i.e.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variables (we didn’t discu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harder than a simple nested loop (which one would use in this case in a language like C or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466-4D71-4B4F-93E2-CDC9AD7205A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Query – XML Quer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XPath with earlier proposed query languages: XQL, XML-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-style, not functional-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easier to use as a query language than XS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o pretty much the same things as XSLT amd more, but typically eas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4:  XQuery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F84-A649-4A3A-9943-894764A6B5D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Query Ba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riable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s who took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123  :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$t  IN  doc(“http://xyz.edu/transcript.xml”)//Tran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  $t/CrsTaken/@CrsCode = “MAT123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 $t/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 StudId=“111111111”  Name=“John Doe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 StudId=“123454321”  Name=“Joe Blow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86400" y="160020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238880" y="1905120"/>
            <a:ext cx="1600200" cy="685800"/>
          </a:xfrm>
          <a:prstGeom prst="wedgeRoundRectCallout">
            <a:avLst>
              <a:gd name="adj1" fmla="val -122620"/>
              <a:gd name="adj2" fmla="val -27777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Times New Roman"/>
              </a:rPr>
              <a:t>XQuery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10280" y="5562720"/>
            <a:ext cx="1905120" cy="609480"/>
          </a:xfrm>
          <a:prstGeom prst="wedgeRoundRectCallout">
            <a:avLst>
              <a:gd name="adj1" fmla="val -64666"/>
              <a:gd name="adj2" fmla="val -2958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is document o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58000" y="2895480"/>
            <a:ext cx="1447920" cy="457200"/>
          </a:xfrm>
          <a:prstGeom prst="wedgeRoundRectCallout">
            <a:avLst>
              <a:gd name="adj1" fmla="val -189694"/>
              <a:gd name="adj2" fmla="val 74305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912-1082-4E25-BBC5-B4C0D9AF070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cript.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cript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StudId=“111111111”  Name=“John Doe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08”  Semester=“F1997”  Grade=“B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MAT123”  Semester=“F1997”  Grade=“B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EE101”  Semester=“F1997”  Grade=“A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05”  Semester=“F1995”  Grade=“A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an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StudId=“987654321”  Name=“Bart Simpson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05”  Semester=“F1995”  Grade=“C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08”  Semester=“F1994”  Grade=“B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an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’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DEF-1CE6-4FE9-93AB-8DB79EAAA07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cript.xml 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StudId=“123454321”  Name=“Joe Blow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15”  Semester=“S1997”  Grade=“A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05”  Semester=“S1996”  Grade=“A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MAT123”  Semester=“S1996”  Grade=“C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an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ran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StudId=“023456789”  Name=“Homer Simpson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EE101”  Semester=“F1995”  Grade=“B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05”  Semester=“S1996”  Grade=“A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an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Transcript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DF6-8200-4252-AD5D-571A9F447F8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Basic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query doesn’t produce a well-formed XML document; the following do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Student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$t IN  doc(“transcript.xml”)//Tran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$t/CrsTaken/@CrsCode = “MAT123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 $t/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/StudentLis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binds $t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s one by one, filters us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pla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hildren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hildre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0" y="33526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0120" y="2362320"/>
            <a:ext cx="1295280" cy="609480"/>
          </a:xfrm>
          <a:prstGeom prst="wedgeRoundRectCallout">
            <a:avLst>
              <a:gd name="adj1" fmla="val -66912"/>
              <a:gd name="adj2" fmla="val 17552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uery inside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C8E-B1F5-4EC3-A2C9-15E978E8982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cument Restructuring with XQu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onstruct lists of students taking each class using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ec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 distinct-values(doc(“transcript.xml”)//CrsT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lassRo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CrsCode = {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CrsCode}   Semester = {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Semester}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 doc(“transcript.xml”)//Tran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rsTaken/[@CrsCode =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CrsCode 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Semester =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Seme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BY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tudent/@Stu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lassRo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BY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Crs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5105520"/>
            <a:ext cx="2057400" cy="1143000"/>
          </a:xfrm>
          <a:prstGeom prst="wedgeRoundRectCallout">
            <a:avLst>
              <a:gd name="adj1" fmla="val -80555"/>
              <a:gd name="adj2" fmla="val -43472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uery inside RETURN – similar to query inside SELECT in O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0800" y="3114720"/>
            <a:ext cx="6781680" cy="2108160"/>
          </a:xfrm>
          <a:custGeom>
            <a:avLst/>
            <a:gdLst/>
            <a:ahLst/>
            <a:rect l="l" t="t" r="r" b="b"/>
            <a:pathLst>
              <a:path w="4272" h="1328">
                <a:moveTo>
                  <a:pt x="554" y="72"/>
                </a:moveTo>
                <a:cubicBezTo>
                  <a:pt x="488" y="75"/>
                  <a:pt x="422" y="74"/>
                  <a:pt x="356" y="81"/>
                </a:cubicBezTo>
                <a:cubicBezTo>
                  <a:pt x="299" y="87"/>
                  <a:pt x="290" y="116"/>
                  <a:pt x="248" y="144"/>
                </a:cubicBezTo>
                <a:cubicBezTo>
                  <a:pt x="240" y="149"/>
                  <a:pt x="229" y="148"/>
                  <a:pt x="221" y="153"/>
                </a:cubicBezTo>
                <a:cubicBezTo>
                  <a:pt x="179" y="176"/>
                  <a:pt x="86" y="244"/>
                  <a:pt x="68" y="288"/>
                </a:cubicBezTo>
                <a:cubicBezTo>
                  <a:pt x="49" y="333"/>
                  <a:pt x="35" y="384"/>
                  <a:pt x="23" y="432"/>
                </a:cubicBezTo>
                <a:cubicBezTo>
                  <a:pt x="27" y="556"/>
                  <a:pt x="0" y="741"/>
                  <a:pt x="86" y="855"/>
                </a:cubicBezTo>
                <a:cubicBezTo>
                  <a:pt x="109" y="923"/>
                  <a:pt x="75" y="842"/>
                  <a:pt x="122" y="900"/>
                </a:cubicBezTo>
                <a:cubicBezTo>
                  <a:pt x="135" y="916"/>
                  <a:pt x="137" y="938"/>
                  <a:pt x="149" y="954"/>
                </a:cubicBezTo>
                <a:cubicBezTo>
                  <a:pt x="193" y="1016"/>
                  <a:pt x="252" y="1088"/>
                  <a:pt x="329" y="1107"/>
                </a:cubicBezTo>
                <a:cubicBezTo>
                  <a:pt x="430" y="1175"/>
                  <a:pt x="582" y="1185"/>
                  <a:pt x="698" y="1197"/>
                </a:cubicBezTo>
                <a:cubicBezTo>
                  <a:pt x="891" y="1218"/>
                  <a:pt x="1081" y="1255"/>
                  <a:pt x="1274" y="1269"/>
                </a:cubicBezTo>
                <a:cubicBezTo>
                  <a:pt x="1422" y="1280"/>
                  <a:pt x="1561" y="1284"/>
                  <a:pt x="1706" y="1305"/>
                </a:cubicBezTo>
                <a:cubicBezTo>
                  <a:pt x="2179" y="1301"/>
                  <a:pt x="2508" y="1328"/>
                  <a:pt x="2921" y="1269"/>
                </a:cubicBezTo>
                <a:cubicBezTo>
                  <a:pt x="3058" y="1223"/>
                  <a:pt x="3273" y="1236"/>
                  <a:pt x="3389" y="1233"/>
                </a:cubicBezTo>
                <a:cubicBezTo>
                  <a:pt x="3446" y="1214"/>
                  <a:pt x="3502" y="1194"/>
                  <a:pt x="3560" y="1179"/>
                </a:cubicBezTo>
                <a:cubicBezTo>
                  <a:pt x="3639" y="1126"/>
                  <a:pt x="3745" y="1131"/>
                  <a:pt x="3830" y="1089"/>
                </a:cubicBezTo>
                <a:cubicBezTo>
                  <a:pt x="3882" y="1063"/>
                  <a:pt x="3941" y="1045"/>
                  <a:pt x="3992" y="1017"/>
                </a:cubicBezTo>
                <a:cubicBezTo>
                  <a:pt x="4071" y="973"/>
                  <a:pt x="4146" y="908"/>
                  <a:pt x="4199" y="837"/>
                </a:cubicBezTo>
                <a:cubicBezTo>
                  <a:pt x="4232" y="739"/>
                  <a:pt x="4179" y="888"/>
                  <a:pt x="4226" y="783"/>
                </a:cubicBezTo>
                <a:cubicBezTo>
                  <a:pt x="4247" y="736"/>
                  <a:pt x="4259" y="680"/>
                  <a:pt x="4271" y="630"/>
                </a:cubicBezTo>
                <a:cubicBezTo>
                  <a:pt x="4267" y="584"/>
                  <a:pt x="4272" y="482"/>
                  <a:pt x="4244" y="432"/>
                </a:cubicBezTo>
                <a:cubicBezTo>
                  <a:pt x="4228" y="403"/>
                  <a:pt x="4207" y="372"/>
                  <a:pt x="4181" y="351"/>
                </a:cubicBezTo>
                <a:cubicBezTo>
                  <a:pt x="4017" y="218"/>
                  <a:pt x="3944" y="144"/>
                  <a:pt x="3731" y="135"/>
                </a:cubicBezTo>
                <a:cubicBezTo>
                  <a:pt x="3617" y="130"/>
                  <a:pt x="3503" y="129"/>
                  <a:pt x="3389" y="126"/>
                </a:cubicBezTo>
                <a:cubicBezTo>
                  <a:pt x="3191" y="101"/>
                  <a:pt x="2995" y="75"/>
                  <a:pt x="2795" y="63"/>
                </a:cubicBezTo>
                <a:cubicBezTo>
                  <a:pt x="2693" y="46"/>
                  <a:pt x="2592" y="35"/>
                  <a:pt x="2489" y="27"/>
                </a:cubicBezTo>
                <a:cubicBezTo>
                  <a:pt x="2421" y="10"/>
                  <a:pt x="2352" y="6"/>
                  <a:pt x="2282" y="0"/>
                </a:cubicBezTo>
                <a:cubicBezTo>
                  <a:pt x="2111" y="3"/>
                  <a:pt x="1940" y="4"/>
                  <a:pt x="1769" y="9"/>
                </a:cubicBezTo>
                <a:cubicBezTo>
                  <a:pt x="1706" y="11"/>
                  <a:pt x="1639" y="34"/>
                  <a:pt x="1580" y="54"/>
                </a:cubicBezTo>
                <a:cubicBezTo>
                  <a:pt x="1522" y="73"/>
                  <a:pt x="1417" y="74"/>
                  <a:pt x="1355" y="81"/>
                </a:cubicBezTo>
                <a:cubicBezTo>
                  <a:pt x="1106" y="76"/>
                  <a:pt x="886" y="60"/>
                  <a:pt x="644" y="72"/>
                </a:cubicBezTo>
                <a:cubicBezTo>
                  <a:pt x="597" y="84"/>
                  <a:pt x="595" y="99"/>
                  <a:pt x="554" y="72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3A6-6DC4-4726-A349-A86987C8F98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cument Restructuring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elements have the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lassRoster  CrsCode=“CS305”  Semester=“F1995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 StudId=“111111111”  Name=“John Doe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 StudId=“987654321”  Name=“Bart Simpson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lassRos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he above elem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ill be outpu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w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  once when $c  is boun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05”  Semester=“F1995”  Grade=“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nce when it is boun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05”  Semester=“F1995”  Grade=“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grades are different – distinct-values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on’t eliminate transcript records that refer to same cla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38880" y="4114800"/>
            <a:ext cx="1524240" cy="380880"/>
          </a:xfrm>
          <a:prstGeom prst="wedgeRoundRectCallout">
            <a:avLst>
              <a:gd name="adj1" fmla="val -100000"/>
              <a:gd name="adj2" fmla="val -119166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Doe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4114800"/>
            <a:ext cx="1676160" cy="380880"/>
          </a:xfrm>
          <a:prstGeom prst="wedgeRoundRectCallout">
            <a:avLst>
              <a:gd name="adj1" fmla="val -110509"/>
              <a:gd name="adj2" fmla="val 10208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t Simpson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D5C-1E80-479C-977C-FF43BCE2EA3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cument Restructuring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stea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 distinct-values(doc(“transcript.xml”)//CrsTa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doc(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lasses.x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)//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lasses.x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ists course offerings  (course code/semes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licit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need to extract them from transcript recor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ound to each class exactly once, so each class r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be output exactly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2133720"/>
            <a:ext cx="1371600" cy="609480"/>
          </a:xfrm>
          <a:prstGeom prst="wedgeRoundRectCallout">
            <a:avLst>
              <a:gd name="adj1" fmla="val -232986"/>
              <a:gd name="adj2" fmla="val 7708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ocument o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95A-0ADC-4A6B-BD3F-1614739F274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://xyz.edu/classes.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lass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lass  CrsCode=“CS308”  Semester=“F1997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Name&gt;SE&lt;/CrsName&gt; &lt;Instructor&gt;Adrian Jones&lt;/Instructo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la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lass  CrsCode=“EE101”  Semester=“F1995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Name&gt;Circuits&lt;/CrsName&gt; &lt;Instructor&gt;David Jones&lt;/Instructo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la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lass  CrsCode=“CS305”  Semester=“F1995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Name&gt;Databases&lt;/CrsName&gt; &lt;Instructor&gt;Mary Doe&lt;/Instructo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la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lass  CrsCode=“CS315”  Semester=“S1997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Name&gt;TP&lt;/CrsName&gt; &lt;Instructor&gt;John Smyth&lt;/Instructo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la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lass  CrsCode=“MAR123”  Semester=“F1997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Name&gt;Algebra&lt;/CrsName&gt; &lt;Instructor&gt;Ann White&lt;/Instructo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la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lass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D44-BEC3-4A87-8153-9F2B24A8CA1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re Termi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 = “John”  Id = “s11111111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is a nice fel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21&lt;/Numb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Main St.&lt;/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2933280" y="-114120"/>
            <a:ext cx="304920" cy="4190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257120" y="54478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143000"/>
            <a:ext cx="1828800" cy="380880"/>
          </a:xfrm>
          <a:prstGeom prst="wedgeRoundRectCallout">
            <a:avLst>
              <a:gd name="adj1" fmla="val -213541"/>
              <a:gd name="adj2" fmla="val 10958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ning 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5943600"/>
            <a:ext cx="4496040" cy="609480"/>
          </a:xfrm>
          <a:prstGeom prst="wedgeRoundRectCallout">
            <a:avLst>
              <a:gd name="adj1" fmla="val -81884"/>
              <a:gd name="adj2" fmla="val -36199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osing  ta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open must be 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733920"/>
            <a:ext cx="457200" cy="1218960"/>
          </a:xfrm>
          <a:custGeom>
            <a:avLst/>
            <a:gdLst>
              <a:gd name="textAreaLeft" fmla="*/ 0 w 457200"/>
              <a:gd name="textAreaRight" fmla="*/ 164880 w 4572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360" y="4038480"/>
            <a:ext cx="1632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sted ele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hild of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362320"/>
            <a:ext cx="380880" cy="3200400"/>
          </a:xfrm>
          <a:custGeom>
            <a:avLst/>
            <a:gdLst>
              <a:gd name="textAreaLeft" fmla="*/ 0 w 380880"/>
              <a:gd name="textAreaRight" fmla="*/ 13752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0960" y="3733920"/>
            <a:ext cx="20462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ent of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cestor of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2590920"/>
            <a:ext cx="2438280" cy="914400"/>
          </a:xfrm>
          <a:prstGeom prst="wedgeRoundRectCallout">
            <a:avLst>
              <a:gd name="adj1" fmla="val -76759"/>
              <a:gd name="adj2" fmla="val 347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andalone” text, not very useful as data, non-uni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628720" y="384768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5105520"/>
            <a:ext cx="2514600" cy="609480"/>
          </a:xfrm>
          <a:prstGeom prst="wedgeRoundRectCallout">
            <a:avLst>
              <a:gd name="adj1" fmla="val -69319"/>
              <a:gd name="adj2" fmla="val -89324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hild of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scendant of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743200"/>
            <a:ext cx="380880" cy="2590920"/>
          </a:xfrm>
          <a:custGeom>
            <a:avLst/>
            <a:gdLst>
              <a:gd name="textAreaLeft" fmla="*/ 243360 w 380880"/>
              <a:gd name="textAreaRight" fmla="*/ 381240 w 3808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554400" y="385092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tent of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5A4-1F78-4E6B-BC16-2620FB08AF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cument Restructuring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probl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the above query will list classes with no students. Reformulation that avoids th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c(“classes.xml”)//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WHERE 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doc(“transcripts.xml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//CrsTaken[@CrsCode =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/@Cr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8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@Semester =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/@Semeste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lassRo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CrsCode = {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CrsCode}   Semester = {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Semester}&gt;  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 doc(“transcript.xml”)//Tran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rsTaken[@CrsCode =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CrsCode 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Semester =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Seme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tudent   ORDER BY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tudent/@Stu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&lt;/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lassRo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BY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Crs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1828800"/>
            <a:ext cx="1828800" cy="609480"/>
          </a:xfrm>
          <a:prstGeom prst="wedgeRoundRectCallout">
            <a:avLst>
              <a:gd name="adj1" fmla="val -52606"/>
              <a:gd name="adj2" fmla="val 145050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est that classes aren’t 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2741760"/>
            <a:ext cx="7686720" cy="1257120"/>
          </a:xfrm>
          <a:custGeom>
            <a:avLst/>
            <a:gdLst/>
            <a:ahLst/>
            <a:rect l="l" t="t" r="r" b="b"/>
            <a:pathLst>
              <a:path w="4842" h="792">
                <a:moveTo>
                  <a:pt x="4071" y="91"/>
                </a:moveTo>
                <a:cubicBezTo>
                  <a:pt x="3742" y="157"/>
                  <a:pt x="3364" y="79"/>
                  <a:pt x="3027" y="37"/>
                </a:cubicBezTo>
                <a:cubicBezTo>
                  <a:pt x="2522" y="51"/>
                  <a:pt x="2016" y="73"/>
                  <a:pt x="1515" y="10"/>
                </a:cubicBezTo>
                <a:cubicBezTo>
                  <a:pt x="1025" y="14"/>
                  <a:pt x="730" y="0"/>
                  <a:pt x="318" y="37"/>
                </a:cubicBezTo>
                <a:cubicBezTo>
                  <a:pt x="276" y="51"/>
                  <a:pt x="234" y="59"/>
                  <a:pt x="192" y="73"/>
                </a:cubicBezTo>
                <a:cubicBezTo>
                  <a:pt x="159" y="84"/>
                  <a:pt x="102" y="127"/>
                  <a:pt x="102" y="127"/>
                </a:cubicBezTo>
                <a:cubicBezTo>
                  <a:pt x="0" y="280"/>
                  <a:pt x="106" y="457"/>
                  <a:pt x="264" y="496"/>
                </a:cubicBezTo>
                <a:cubicBezTo>
                  <a:pt x="375" y="524"/>
                  <a:pt x="501" y="526"/>
                  <a:pt x="615" y="541"/>
                </a:cubicBezTo>
                <a:cubicBezTo>
                  <a:pt x="843" y="571"/>
                  <a:pt x="1071" y="606"/>
                  <a:pt x="1299" y="631"/>
                </a:cubicBezTo>
                <a:cubicBezTo>
                  <a:pt x="1356" y="645"/>
                  <a:pt x="1412" y="669"/>
                  <a:pt x="1470" y="676"/>
                </a:cubicBezTo>
                <a:cubicBezTo>
                  <a:pt x="1632" y="696"/>
                  <a:pt x="1793" y="712"/>
                  <a:pt x="1956" y="721"/>
                </a:cubicBezTo>
                <a:cubicBezTo>
                  <a:pt x="2185" y="750"/>
                  <a:pt x="2649" y="748"/>
                  <a:pt x="2649" y="748"/>
                </a:cubicBezTo>
                <a:cubicBezTo>
                  <a:pt x="3120" y="779"/>
                  <a:pt x="3591" y="749"/>
                  <a:pt x="4062" y="730"/>
                </a:cubicBezTo>
                <a:cubicBezTo>
                  <a:pt x="4301" y="700"/>
                  <a:pt x="4158" y="710"/>
                  <a:pt x="4494" y="721"/>
                </a:cubicBezTo>
                <a:cubicBezTo>
                  <a:pt x="4618" y="717"/>
                  <a:pt x="4791" y="792"/>
                  <a:pt x="4836" y="658"/>
                </a:cubicBezTo>
                <a:cubicBezTo>
                  <a:pt x="4829" y="591"/>
                  <a:pt x="4842" y="557"/>
                  <a:pt x="4791" y="523"/>
                </a:cubicBezTo>
                <a:cubicBezTo>
                  <a:pt x="4743" y="451"/>
                  <a:pt x="4806" y="538"/>
                  <a:pt x="4746" y="478"/>
                </a:cubicBezTo>
                <a:cubicBezTo>
                  <a:pt x="4738" y="470"/>
                  <a:pt x="4736" y="458"/>
                  <a:pt x="4728" y="451"/>
                </a:cubicBezTo>
                <a:cubicBezTo>
                  <a:pt x="4721" y="445"/>
                  <a:pt x="4709" y="447"/>
                  <a:pt x="4701" y="442"/>
                </a:cubicBezTo>
                <a:cubicBezTo>
                  <a:pt x="4675" y="427"/>
                  <a:pt x="4605" y="365"/>
                  <a:pt x="4566" y="352"/>
                </a:cubicBezTo>
                <a:cubicBezTo>
                  <a:pt x="4506" y="332"/>
                  <a:pt x="4446" y="318"/>
                  <a:pt x="4386" y="298"/>
                </a:cubicBezTo>
                <a:cubicBezTo>
                  <a:pt x="4332" y="280"/>
                  <a:pt x="4286" y="254"/>
                  <a:pt x="4233" y="235"/>
                </a:cubicBezTo>
                <a:cubicBezTo>
                  <a:pt x="4215" y="229"/>
                  <a:pt x="4179" y="217"/>
                  <a:pt x="4179" y="217"/>
                </a:cubicBezTo>
                <a:cubicBezTo>
                  <a:pt x="4152" y="190"/>
                  <a:pt x="4143" y="166"/>
                  <a:pt x="4107" y="154"/>
                </a:cubicBezTo>
                <a:cubicBezTo>
                  <a:pt x="4098" y="145"/>
                  <a:pt x="4090" y="135"/>
                  <a:pt x="4080" y="127"/>
                </a:cubicBezTo>
                <a:cubicBezTo>
                  <a:pt x="4072" y="120"/>
                  <a:pt x="4056" y="119"/>
                  <a:pt x="4053" y="109"/>
                </a:cubicBezTo>
                <a:cubicBezTo>
                  <a:pt x="4051" y="101"/>
                  <a:pt x="4065" y="97"/>
                  <a:pt x="4071" y="91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B75-9E17-440E-9183-93E65E557D7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Query Seman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far the discussion was in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s what the expected result of a query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analogously to the semantics of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372-683D-4A17-8CED-FD7E95D258E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Query Semantic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duce a list of bindings fo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 clause binds each variable t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nodes specified by an XQuery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ression can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XPath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XQuery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that returns a list of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result of a FOR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 list of tuples of document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uple is a binding for the variables in the FOR cl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339-FFAC-436B-81A1-0DB36635477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Query Semantic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(binding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FOR declare $A and $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 $A to document nodes {v,w};  $B to {x,y,z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FOR clause produces the following list of bindings for $A and $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A/v,  $B/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A/v, $B/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A/v, $B/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A/w, $B/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A/w, $B/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A/w, $B/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6F3-ECA9-4340-A124-ACE71583152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Query Semantic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ilter the bindings via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ach tuple binding to substitute its components for variables; retain those bindings that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A/CrsTaken/@CrsCode = $B/Class/@Crs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ding:  $A/w, where w = &lt;CrsTaken CrsCode=“CS308” …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B/x, where x = &lt;Class  CrsCode=“CS308”  …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w/CrsTaken/@CrsCode = x/Class/@CrsCode,  so the WHERE condition is satisfied &amp; binding re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E9E-BB18-42B1-9911-1158CA9CB91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Query Semantic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struct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retained tuple of bindings, instantiate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reates a fragment of the output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this for each retained tuple of bindings in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EB0-3AA4-424C-AC2B-8B316C3503A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er-defined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efine functions, even recursive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can be called from within an XQuery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of function is an XQuery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of expression is retu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can be a primitive data type (integer, string), an element, a list of elements, a list of arbitrary document nod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FD8-E55E-4CDC-AFDF-BB42A646B993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Query Functions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 the numb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hildren recursiv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unt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$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ment()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tege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mpty($e/*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n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e/*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unt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$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count($e/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467480" y="2590920"/>
            <a:ext cx="304920" cy="144756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313"/>
                </a:lnTo>
                <a:cubicBezTo>
                  <a:pt x="10800" y="8213"/>
                  <a:pt x="16200" y="9113"/>
                  <a:pt x="21600" y="9113"/>
                </a:cubicBezTo>
                <a:cubicBezTo>
                  <a:pt x="16200" y="9113"/>
                  <a:pt x="10800" y="10013"/>
                  <a:pt x="10800" y="109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48720" y="289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00800" y="4800600"/>
            <a:ext cx="1676520" cy="838080"/>
          </a:xfrm>
          <a:prstGeom prst="wedgeRoundRectCallout">
            <a:avLst>
              <a:gd name="adj1" fmla="val -289203"/>
              <a:gd name="adj2" fmla="val -251324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ilt-in function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m, count, 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00800" y="4800600"/>
            <a:ext cx="1676520" cy="838080"/>
          </a:xfrm>
          <a:prstGeom prst="wedgeRoundRectCallout">
            <a:avLst>
              <a:gd name="adj1" fmla="val -293467"/>
              <a:gd name="adj2" fmla="val -125759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924680" y="1143000"/>
            <a:ext cx="1067040" cy="609480"/>
          </a:xfrm>
          <a:prstGeom prst="wedgeRoundRectCallout">
            <a:avLst>
              <a:gd name="adj1" fmla="val -171875"/>
              <a:gd name="adj2" fmla="val 65365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unction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928-202A-447F-85D4-036EDB0BD33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d4d4d"/>
                </a:solidFill>
                <a:uFillTx/>
                <a:latin typeface="Times New Roman"/>
                <a:hlinkClick r:id="rId1" action="ppaction://hlinksldjump"/>
              </a:rPr>
              <a:t>Class</a:t>
            </a:r>
            <a:r>
              <a:rPr b="0" lang="en-US" sz="3600" spc="-1" strike="noStrike" u="sng">
                <a:solidFill>
                  <a:srgbClr val="4d4d4d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en-US" sz="3600" spc="-1" strike="noStrike" u="sng">
                <a:solidFill>
                  <a:srgbClr val="4d4d4d"/>
                </a:solidFill>
                <a:uFillTx/>
                <a:latin typeface="Times New Roman"/>
                <a:hlinkClick r:id="rId3" action="ppaction://hlinksldjump"/>
              </a:rPr>
              <a:t>Rosters</a:t>
            </a:r>
            <a:r>
              <a:rPr b="0" lang="en-US" sz="3600" spc="-1" strike="noStrike" u="sng">
                <a:solidFill>
                  <a:srgbClr val="4d4d4d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(again) Using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extractC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$e AS element())   AS  element()*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$c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$e//Crs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&lt;Class  CrsCode={$c/@CrsCode}  Semester={$c/@Semester}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Roster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$c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inct-values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$d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doc(“transcript.xml”)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extractC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$d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lassRoster   CrsCode = {$c/@CrsCode}   Semester = {$c/@Semester}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lang="en-US" sz="1600" spc="-1" strike="noStrike">
                <a:solidFill>
                  <a:srgbClr val="990099"/>
                </a:solidFill>
                <a:latin typeface="Times New Roman"/>
              </a:rPr>
              <a:t>$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t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: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(“transcript.xml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$t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Transcript[CrsTaken/@CrsCode=$c/@CrsCode 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sTaken/@Semester=$c/@Semeste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Student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t/Student/@Stud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ClassRos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Roster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6B6-23BD-4A5F-83EA-A92E75921EC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ing Attributes to Elements with X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XQuery reformulation of a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1" action="ppaction://hlinksldjump"/>
              </a:rPr>
              <a:t>previous XSLT qu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 much more straightforward (but ignores text no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LARE  FUNCTION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onvertAttribu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$a  AS  attribute())  AS  element() 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element {name($a)} {data($a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LARE  FUNCTION  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convertEl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$e AS node())  AS  element() 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element {name($e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FOR   $a  IN  $e/@*   RETURN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onvertAttribu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$a) }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 empty($e/*)  THEN  $e/text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 { FOR  $n  IN  $e/*  RETURN  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convertEl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$n)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 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convertEl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doc(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-docu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)/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5791320"/>
            <a:ext cx="3200400" cy="685800"/>
          </a:xfrm>
          <a:prstGeom prst="wedgeRoundRectCallout">
            <a:avLst>
              <a:gd name="adj1" fmla="val -123958"/>
              <a:gd name="adj2" fmla="val -88657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ctual que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st 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atement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71600" y="2971800"/>
            <a:ext cx="6934320" cy="2057400"/>
          </a:xfrm>
          <a:custGeom>
            <a:avLst/>
            <a:gdLst/>
            <a:ahLst/>
            <a:rect l="l" t="t" r="r" b="b"/>
            <a:pathLst>
              <a:path w="4121" h="1098">
                <a:moveTo>
                  <a:pt x="1206" y="36"/>
                </a:moveTo>
                <a:cubicBezTo>
                  <a:pt x="1082" y="77"/>
                  <a:pt x="946" y="48"/>
                  <a:pt x="819" y="27"/>
                </a:cubicBezTo>
                <a:cubicBezTo>
                  <a:pt x="688" y="34"/>
                  <a:pt x="624" y="1"/>
                  <a:pt x="585" y="117"/>
                </a:cubicBezTo>
                <a:cubicBezTo>
                  <a:pt x="576" y="188"/>
                  <a:pt x="581" y="208"/>
                  <a:pt x="513" y="225"/>
                </a:cubicBezTo>
                <a:cubicBezTo>
                  <a:pt x="405" y="219"/>
                  <a:pt x="309" y="214"/>
                  <a:pt x="207" y="180"/>
                </a:cubicBezTo>
                <a:cubicBezTo>
                  <a:pt x="190" y="183"/>
                  <a:pt x="153" y="189"/>
                  <a:pt x="135" y="198"/>
                </a:cubicBezTo>
                <a:cubicBezTo>
                  <a:pt x="64" y="233"/>
                  <a:pt x="19" y="367"/>
                  <a:pt x="0" y="441"/>
                </a:cubicBezTo>
                <a:cubicBezTo>
                  <a:pt x="3" y="537"/>
                  <a:pt x="4" y="633"/>
                  <a:pt x="9" y="729"/>
                </a:cubicBezTo>
                <a:cubicBezTo>
                  <a:pt x="11" y="766"/>
                  <a:pt x="36" y="812"/>
                  <a:pt x="45" y="846"/>
                </a:cubicBezTo>
                <a:cubicBezTo>
                  <a:pt x="66" y="929"/>
                  <a:pt x="92" y="1015"/>
                  <a:pt x="180" y="1044"/>
                </a:cubicBezTo>
                <a:cubicBezTo>
                  <a:pt x="210" y="1074"/>
                  <a:pt x="233" y="1079"/>
                  <a:pt x="270" y="1098"/>
                </a:cubicBezTo>
                <a:cubicBezTo>
                  <a:pt x="395" y="1090"/>
                  <a:pt x="511" y="1066"/>
                  <a:pt x="630" y="1026"/>
                </a:cubicBezTo>
                <a:cubicBezTo>
                  <a:pt x="712" y="999"/>
                  <a:pt x="827" y="1000"/>
                  <a:pt x="909" y="990"/>
                </a:cubicBezTo>
                <a:cubicBezTo>
                  <a:pt x="1245" y="948"/>
                  <a:pt x="1587" y="984"/>
                  <a:pt x="1926" y="981"/>
                </a:cubicBezTo>
                <a:cubicBezTo>
                  <a:pt x="2019" y="984"/>
                  <a:pt x="2112" y="988"/>
                  <a:pt x="2205" y="990"/>
                </a:cubicBezTo>
                <a:cubicBezTo>
                  <a:pt x="2475" y="997"/>
                  <a:pt x="3015" y="1008"/>
                  <a:pt x="3015" y="1008"/>
                </a:cubicBezTo>
                <a:cubicBezTo>
                  <a:pt x="3370" y="1003"/>
                  <a:pt x="3571" y="1009"/>
                  <a:pt x="3870" y="972"/>
                </a:cubicBezTo>
                <a:cubicBezTo>
                  <a:pt x="3888" y="966"/>
                  <a:pt x="3906" y="960"/>
                  <a:pt x="3924" y="954"/>
                </a:cubicBezTo>
                <a:cubicBezTo>
                  <a:pt x="3955" y="944"/>
                  <a:pt x="4005" y="900"/>
                  <a:pt x="4005" y="900"/>
                </a:cubicBezTo>
                <a:cubicBezTo>
                  <a:pt x="4059" y="818"/>
                  <a:pt x="4080" y="752"/>
                  <a:pt x="4104" y="657"/>
                </a:cubicBezTo>
                <a:cubicBezTo>
                  <a:pt x="4115" y="541"/>
                  <a:pt x="4121" y="523"/>
                  <a:pt x="4104" y="387"/>
                </a:cubicBezTo>
                <a:cubicBezTo>
                  <a:pt x="4102" y="371"/>
                  <a:pt x="4092" y="357"/>
                  <a:pt x="4086" y="342"/>
                </a:cubicBezTo>
                <a:cubicBezTo>
                  <a:pt x="4044" y="226"/>
                  <a:pt x="3970" y="156"/>
                  <a:pt x="3852" y="117"/>
                </a:cubicBezTo>
                <a:cubicBezTo>
                  <a:pt x="3800" y="100"/>
                  <a:pt x="3744" y="107"/>
                  <a:pt x="3690" y="99"/>
                </a:cubicBezTo>
                <a:cubicBezTo>
                  <a:pt x="3546" y="110"/>
                  <a:pt x="3402" y="115"/>
                  <a:pt x="3258" y="126"/>
                </a:cubicBezTo>
                <a:cubicBezTo>
                  <a:pt x="3100" y="121"/>
                  <a:pt x="2968" y="113"/>
                  <a:pt x="2817" y="99"/>
                </a:cubicBezTo>
                <a:cubicBezTo>
                  <a:pt x="2749" y="82"/>
                  <a:pt x="2680" y="78"/>
                  <a:pt x="2610" y="72"/>
                </a:cubicBezTo>
                <a:cubicBezTo>
                  <a:pt x="2389" y="82"/>
                  <a:pt x="2412" y="86"/>
                  <a:pt x="2187" y="72"/>
                </a:cubicBezTo>
                <a:cubicBezTo>
                  <a:pt x="2046" y="63"/>
                  <a:pt x="1911" y="23"/>
                  <a:pt x="1773" y="0"/>
                </a:cubicBezTo>
                <a:cubicBezTo>
                  <a:pt x="1604" y="13"/>
                  <a:pt x="1440" y="22"/>
                  <a:pt x="1269" y="27"/>
                </a:cubicBezTo>
                <a:cubicBezTo>
                  <a:pt x="1212" y="36"/>
                  <a:pt x="1233" y="36"/>
                  <a:pt x="1206" y="36"/>
                </a:cubicBezTo>
                <a:close/>
              </a:path>
            </a:pathLst>
          </a:custGeom>
          <a:noFill/>
          <a:ln cap="rnd" w="9360">
            <a:solidFill>
              <a:srgbClr val="8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09680" y="2133720"/>
            <a:ext cx="3594240" cy="380880"/>
          </a:xfrm>
          <a:custGeom>
            <a:avLst/>
            <a:gdLst/>
            <a:ahLst/>
            <a:rect l="l" t="t" r="r" b="b"/>
            <a:pathLst>
              <a:path w="2216" h="281">
                <a:moveTo>
                  <a:pt x="104" y="40"/>
                </a:moveTo>
                <a:cubicBezTo>
                  <a:pt x="78" y="66"/>
                  <a:pt x="49" y="86"/>
                  <a:pt x="23" y="112"/>
                </a:cubicBezTo>
                <a:cubicBezTo>
                  <a:pt x="0" y="182"/>
                  <a:pt x="79" y="208"/>
                  <a:pt x="140" y="211"/>
                </a:cubicBezTo>
                <a:cubicBezTo>
                  <a:pt x="251" y="216"/>
                  <a:pt x="962" y="228"/>
                  <a:pt x="1022" y="229"/>
                </a:cubicBezTo>
                <a:cubicBezTo>
                  <a:pt x="1254" y="226"/>
                  <a:pt x="1793" y="281"/>
                  <a:pt x="2111" y="175"/>
                </a:cubicBezTo>
                <a:cubicBezTo>
                  <a:pt x="2138" y="148"/>
                  <a:pt x="2153" y="130"/>
                  <a:pt x="2165" y="94"/>
                </a:cubicBezTo>
                <a:cubicBezTo>
                  <a:pt x="2067" y="61"/>
                  <a:pt x="2216" y="114"/>
                  <a:pt x="2111" y="67"/>
                </a:cubicBezTo>
                <a:cubicBezTo>
                  <a:pt x="1960" y="0"/>
                  <a:pt x="1831" y="27"/>
                  <a:pt x="1652" y="22"/>
                </a:cubicBezTo>
                <a:cubicBezTo>
                  <a:pt x="1492" y="12"/>
                  <a:pt x="1343" y="29"/>
                  <a:pt x="1184" y="40"/>
                </a:cubicBezTo>
                <a:cubicBezTo>
                  <a:pt x="1003" y="66"/>
                  <a:pt x="1154" y="48"/>
                  <a:pt x="770" y="40"/>
                </a:cubicBezTo>
                <a:cubicBezTo>
                  <a:pt x="223" y="29"/>
                  <a:pt x="415" y="21"/>
                  <a:pt x="104" y="40"/>
                </a:cubicBezTo>
                <a:close/>
              </a:path>
            </a:pathLst>
          </a:custGeom>
          <a:noFill/>
          <a:ln cap="rnd" w="9360">
            <a:solidFill>
              <a:srgbClr val="8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280" y="3809880"/>
            <a:ext cx="1143000" cy="609840"/>
          </a:xfrm>
          <a:prstGeom prst="wedgeRoundRectCallout">
            <a:avLst>
              <a:gd name="adj1" fmla="val 69305"/>
              <a:gd name="adj2" fmla="val -57032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d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0120" y="2895480"/>
            <a:ext cx="1218960" cy="533520"/>
          </a:xfrm>
          <a:prstGeom prst="wedgeRoundRectCallout">
            <a:avLst>
              <a:gd name="adj1" fmla="val -71222"/>
              <a:gd name="adj2" fmla="val 10476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catenat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8E1-B899-43D1-A1F6-C3796BB38592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from XML to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forwa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erson Name=“Jo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ge&gt;44&lt;/Ag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ddress&gt;&lt;Number&gt;22&lt;/Number&gt;&lt;Street&gt;Main&lt;/Street&gt;&lt;/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#345,  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Joe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44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2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“Main”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BEA-B4BB-4D69-B302-0842C41312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with XML Schema and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yp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defined in  http://types.r.us/types.xs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MPORT SCH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space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t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2"/>
              </a:rPr>
              <a:t>types.r.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4"/>
              </a:rPr>
              <a:t>types.r.us/types.xs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DECLARE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NAMESP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6"/>
              </a:rPr>
              <a:t>foo.org/fo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 FUNCTION   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local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Somet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$x  AS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t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somety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string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$i  IN 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f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someth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someth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20120" y="1828800"/>
            <a:ext cx="1295280" cy="380880"/>
          </a:xfrm>
          <a:prstGeom prst="wedgeRoundRectCallout">
            <a:avLst>
              <a:gd name="adj1" fmla="val -130513"/>
              <a:gd name="adj2" fmla="val -61250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24680" y="2590920"/>
            <a:ext cx="990720" cy="380880"/>
          </a:xfrm>
          <a:prstGeom prst="wedgeRoundRectCallout">
            <a:avLst>
              <a:gd name="adj1" fmla="val -179805"/>
              <a:gd name="adj2" fmla="val -1083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77120" y="4648320"/>
            <a:ext cx="2209680" cy="380880"/>
          </a:xfrm>
          <a:prstGeom prst="wedgeRoundRectCallout">
            <a:avLst>
              <a:gd name="adj1" fmla="val -159555"/>
              <a:gd name="adj2" fmla="val -5633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nother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5257800"/>
            <a:ext cx="2210040" cy="685800"/>
          </a:xfrm>
          <a:prstGeom prst="wedgeRoundRectCallout">
            <a:avLst>
              <a:gd name="adj1" fmla="val -123921"/>
              <a:gd name="adj2" fmla="val -365046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ocal functions have predefined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00400" y="5181480"/>
            <a:ext cx="1981080" cy="838440"/>
          </a:xfrm>
          <a:prstGeom prst="wedgeRoundRectCallout">
            <a:avLst>
              <a:gd name="adj1" fmla="val -96236"/>
              <a:gd name="adj2" fmla="val -221402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ilt-in functions have predefined namesp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81680" y="3809880"/>
            <a:ext cx="2210040" cy="381240"/>
          </a:xfrm>
          <a:prstGeom prst="wedgeRoundRectCallout">
            <a:avLst>
              <a:gd name="adj1" fmla="val -61495"/>
              <a:gd name="adj2" fmla="val -162500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defined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37E-E8B8-401B-9933-C7DD1D1DE918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uping and Aggre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use separate grouping op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at OQL does not need one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queries inside the RETURN clause obviate this need (like subqueries inside SELECT did so in O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built-in aggregate functions count, avg, sum, etc. (some borrowed from XPa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0BE-36F0-4146-85BD-A3F06A585BBE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ggreg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 a list of students along with the number of courses each student t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 fn:doc(“transcripts.xml”)//Transcrip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= 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rs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Summary  StudId = {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StudId}  Name = {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Name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Courses = {fn: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n:distinct-values(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}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BY  StudentSummary/@Total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rouping ef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chieved because $c is bound to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of node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nding of $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211-5946-4625-9C3F-DB49EF8046D1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tification in XQu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Query supports explicit quantificatio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$t  IN  fn:doc(“transcript.xml”)//Tran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$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t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 $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/Crs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ATISF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ct/@CrsCode = “MAT123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 $t/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most” equivalent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$t  IN  fn:doc(“transcript.xml”)//Transcrip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$ct  IN  $t/CrsTa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$ct/@CrsCode = “MAT123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 $t/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equivalent, if students can take same course tw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608-2FA1-46F7-BF21-A988D3B0A0DF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Quan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n SQL, variables that occur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mplicitly quantifi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Query,  variables that occur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imilar to those in SQL. Howe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XQuery variables are bound to document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nodes may look textually the same (e.g., two different instances of the same course element), but they are still different nodes and thus different variable b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ntiations of the RETURN expression produced by binding variables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no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outpu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en if these instantiations are textually iden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QL a variable can be bound to the same value only once; identical tuples are not output twice (in the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is is why the two queries in the previous slide are not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B5A-1853-4082-A5E0-3145EE44E224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fication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all classes (from classes.xml) where each student took MAT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 to do in SQL (before SQL-99) because of the lack of explicit qua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 fn:doc(classes.xml)//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 $g :=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(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cti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cords that correspond to class $c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 fn:doc(“transcript.xml”)//Tran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$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rsTa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Semester =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Sem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rsTaken/@CrsCode =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$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@Crs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$t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$tr  IN  $g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ATISF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n:empty($tr[CrsTaken/@CrsCode=“MAT123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 $c  ORDER BY $c/@Crs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E68B-79BB-4155-AFC2-6B07FC82A235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QL/XML – Extending Reach of SQL to XML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ast, SQL was extended for O-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values for reference, tuple(row type), and collection(arrays),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k over ODL and OQL standards of OD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, SQL is being extended for X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data types and functions to handle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it bring the demise of XQue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F9E-1146-449F-9E46-DBE41ED5DE68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SQL/X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contents of SQL tables or entire DB as XML documen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convention for translating primitive SQL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XML documents out of SQL query resul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extension of SQL queries to create XM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XML documents in relational DBs and query th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extension of SQL to use XPath to access the elements of tree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3D09-E224-40B4-842F-1855DCA97C5E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shing Relations as XML Doc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proposal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built-in functions to convert tables to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an create arbitrary XML documents using exten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relational data in XM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re relation: an element named after th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: an element named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ttribute: an element named after th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65FB-8105-4E83-B611-A4440014D106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shing Relations as XML Doc: T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304812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rofesso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d&gt;1024&lt;/Id&gt;&lt;Name&gt;Bob Smith&lt;/Name&gt;&lt;DeptId&gt;CS&lt;Dept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d&gt;3093&lt;/Id&gt;&lt;Name&gt;Amy Doe&lt;/Name&gt;&lt;DeptId&gt;EE&lt;Dept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rofesso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11430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14600" y="1143000"/>
          <a:ext cx="5410080" cy="164160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y Do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054-33D0-42F6-BA57-3DF4AB380C0F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181480" y="5562720"/>
            <a:ext cx="1143000" cy="685800"/>
          </a:xfrm>
          <a:prstGeom prst="wedgeRoundRectCallout">
            <a:avLst>
              <a:gd name="adj1" fmla="val 14583"/>
              <a:gd name="adj2" fmla="val -262731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sion from Objects to X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traight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uni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a question if a particular piece (such as Name) should be an element in its own right or an attribute of a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reverse translation could g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erson&gt;                                               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&lt;Person  Name=“Joe”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&lt;Name&gt;Joe&lt;/Name&gt;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ge&gt;44&lt;/Ag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22&lt;/Numb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reet&gt;Main&lt;/Str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Addres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Pers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5562720"/>
            <a:ext cx="1143000" cy="685800"/>
          </a:xfrm>
          <a:prstGeom prst="wedgeRoundRectCallout">
            <a:avLst>
              <a:gd name="adj1" fmla="val -108749"/>
              <a:gd name="adj2" fmla="val -246064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or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AB9-2B01-42BF-9EF8-270C6E1B4F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shing Relations as XML Doc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INTEG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CHAR(50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CHAR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&lt;schema xmlns="http://www.w3.org/2001/XMLSchema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Namespace="http://xyz.edu/Admin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lement name="Professo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lement name="row" minOccurs="0" maxOccurs="unbounded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lement name="Id" type="integer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lement name="Name" type="CHAR_50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lement name="DeptId" type="CHAR_3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ele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elem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chem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FC42-7F46-4696-BED0-CECAA1B22BF5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shing Relations as XML Doc: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_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tandard conventions in SQL/XML for CHAR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 SQ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nstance, CHAR_50 is  defin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triction base="string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ength value="5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stric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t of the SQL/XML standard deals with such data conversion, and with user-defined types  of XML, which are defined in SQL us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1DC-352B-48FE-AFC7-5FC5ADFEC6E2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ing XML from Queries: Func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ATTRIBUT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SQL query does not return XML directly. Produc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can have columns of typ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XML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"Prof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- element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XMLATTRIBUT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"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),     --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-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rofesso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tup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24, &lt;Prof Dept="CS"&gt;Bob Smith&lt;/Prof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93, &lt;Prof Dept="EE"&gt;Amy Doe&lt;/Prof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824-D374-4433-B68B-C9F71345CD26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XML Using Querie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ELEMENT, XMLATTRIBUT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ELEMENT can be nes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XMLELEMEN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AME "Prof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XMLEL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AME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.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XMLEL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AME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.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XMLEL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AME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.Dept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S Prof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s tuples of the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ro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d&gt;1024&lt;/Id&gt;&lt;Name&gt;Bob Smith&lt;/Name&gt;&lt;DeptId&gt;CS&lt;/DeptI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ro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Prof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d&gt;3093&lt;/Id&gt;&lt;Name&gt;Amy Doe&lt;/Name&gt;&lt;DeptId&gt;EE&lt;/DeptI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Pro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D92-E8A6-44E8-8F31-6A17E192D4E1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XML Using Queri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XMLQUE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'&lt;Pro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d&gt;{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$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&lt;/Id&gt;&lt;Name&gt;{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$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&lt;/Name&gt;&lt;DeptId&gt;{</a:t>
            </a:r>
            <a:r>
              <a:rPr b="0" lang="en-US" sz="1600" spc="-1" strike="noStrike">
                <a:solidFill>
                  <a:srgbClr val="990099"/>
                </a:solidFill>
                <a:latin typeface="Times New Roman"/>
              </a:rPr>
              <a:t>$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&lt;/DeptI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Prof&gt;'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 template with placeholder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ASS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Y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         -- values of  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ubstitute for placeho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lang="en-US" sz="1600" spc="-1" strike="noStrike">
                <a:solidFill>
                  <a:srgbClr val="990099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ETURN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S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Professor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holder can occur in positions of XML elements and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press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XML-generating expressions or SELECT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example above,  could ha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QUERY(‘&lt;Pro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$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&lt;Name&gt;{$N}&lt;/Name&gt; 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Prof&gt;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ING BY VALUE XMLELEMENT(NAME "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, P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  AS   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eneral, the argument to XMLQUERY can include any XQuery expression (XPath or a full que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90920" y="2209680"/>
            <a:ext cx="1046160" cy="989280"/>
          </a:xfrm>
          <a:custGeom>
            <a:avLst/>
            <a:gdLst/>
            <a:ahLst/>
            <a:rect l="l" t="t" r="r" b="b"/>
            <a:pathLst>
              <a:path w="659" h="623">
                <a:moveTo>
                  <a:pt x="351" y="111"/>
                </a:moveTo>
                <a:cubicBezTo>
                  <a:pt x="349" y="92"/>
                  <a:pt x="352" y="71"/>
                  <a:pt x="345" y="53"/>
                </a:cubicBezTo>
                <a:cubicBezTo>
                  <a:pt x="343" y="47"/>
                  <a:pt x="333" y="50"/>
                  <a:pt x="328" y="47"/>
                </a:cubicBezTo>
                <a:cubicBezTo>
                  <a:pt x="316" y="40"/>
                  <a:pt x="305" y="32"/>
                  <a:pt x="293" y="24"/>
                </a:cubicBezTo>
                <a:cubicBezTo>
                  <a:pt x="287" y="20"/>
                  <a:pt x="275" y="12"/>
                  <a:pt x="275" y="12"/>
                </a:cubicBezTo>
                <a:cubicBezTo>
                  <a:pt x="206" y="15"/>
                  <a:pt x="146" y="0"/>
                  <a:pt x="89" y="35"/>
                </a:cubicBezTo>
                <a:cubicBezTo>
                  <a:pt x="76" y="56"/>
                  <a:pt x="66" y="66"/>
                  <a:pt x="54" y="88"/>
                </a:cubicBezTo>
                <a:cubicBezTo>
                  <a:pt x="47" y="100"/>
                  <a:pt x="31" y="123"/>
                  <a:pt x="31" y="123"/>
                </a:cubicBezTo>
                <a:cubicBezTo>
                  <a:pt x="23" y="155"/>
                  <a:pt x="14" y="221"/>
                  <a:pt x="14" y="221"/>
                </a:cubicBezTo>
                <a:cubicBezTo>
                  <a:pt x="15" y="260"/>
                  <a:pt x="0" y="393"/>
                  <a:pt x="37" y="454"/>
                </a:cubicBezTo>
                <a:cubicBezTo>
                  <a:pt x="52" y="479"/>
                  <a:pt x="61" y="499"/>
                  <a:pt x="78" y="524"/>
                </a:cubicBezTo>
                <a:cubicBezTo>
                  <a:pt x="86" y="535"/>
                  <a:pt x="112" y="547"/>
                  <a:pt x="112" y="547"/>
                </a:cubicBezTo>
                <a:cubicBezTo>
                  <a:pt x="140" y="589"/>
                  <a:pt x="210" y="598"/>
                  <a:pt x="258" y="605"/>
                </a:cubicBezTo>
                <a:cubicBezTo>
                  <a:pt x="302" y="621"/>
                  <a:pt x="352" y="620"/>
                  <a:pt x="398" y="623"/>
                </a:cubicBezTo>
                <a:cubicBezTo>
                  <a:pt x="496" y="616"/>
                  <a:pt x="485" y="611"/>
                  <a:pt x="555" y="588"/>
                </a:cubicBezTo>
                <a:cubicBezTo>
                  <a:pt x="586" y="540"/>
                  <a:pt x="543" y="601"/>
                  <a:pt x="584" y="559"/>
                </a:cubicBezTo>
                <a:cubicBezTo>
                  <a:pt x="602" y="540"/>
                  <a:pt x="616" y="512"/>
                  <a:pt x="630" y="489"/>
                </a:cubicBezTo>
                <a:cubicBezTo>
                  <a:pt x="659" y="378"/>
                  <a:pt x="628" y="268"/>
                  <a:pt x="543" y="198"/>
                </a:cubicBezTo>
                <a:cubicBezTo>
                  <a:pt x="519" y="178"/>
                  <a:pt x="406" y="181"/>
                  <a:pt x="403" y="181"/>
                </a:cubicBezTo>
                <a:cubicBezTo>
                  <a:pt x="354" y="164"/>
                  <a:pt x="380" y="128"/>
                  <a:pt x="357" y="105"/>
                </a:cubicBezTo>
                <a:cubicBezTo>
                  <a:pt x="355" y="103"/>
                  <a:pt x="353" y="109"/>
                  <a:pt x="351" y="111"/>
                </a:cubicBezTo>
                <a:close/>
              </a:path>
            </a:pathLst>
          </a:custGeom>
          <a:noFill/>
          <a:ln w="9360">
            <a:solidFill>
              <a:srgbClr val="8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" y="2438280"/>
            <a:ext cx="1295280" cy="609840"/>
          </a:xfrm>
          <a:prstGeom prst="wedgeRoundRectCallout">
            <a:avLst>
              <a:gd name="adj1" fmla="val 129777"/>
              <a:gd name="adj2" fmla="val -2865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F21-AE0C-47B7-BD06-4255AA049548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XML from Querie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 without GROUP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Query: group elements as children of another element by putting a subquery in RETURN clause of parent qu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QL/XML: group by put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i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of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group the CrsTaken by student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 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XMLELE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"Student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ATTRIBUTES(S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S "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XMLELEMENT(NAME "CrsTake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ATTRIBUTES(T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S "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S "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 Transcript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S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T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 Student 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4343400" cy="685800"/>
          </a:xfrm>
          <a:prstGeom prst="wedgeRoundRectCallout">
            <a:avLst>
              <a:gd name="adj1" fmla="val -70504"/>
              <a:gd name="adj2" fmla="val -185879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turns a set of 1-tuples, not list of el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aiting for the standard to resolve how to conver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3B8-C2D3-4911-ABD5-2353E8892907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ing XML from Queries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uping and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A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e example: group CrsTaken by student 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 XMLELEMENT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 "Student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ATTRIBUTES(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XMLAG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MLELEMENT(Name "CrsTaken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ATTRIBUTES(T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"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RDER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 Student S, Transcript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T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 BY S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7DA-AE5F-4B1B-87DB-0DE43E03B402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oring XML in Relational DB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Type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stored as a string, but natively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ee 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upports navigation via efficient storage and index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 TABLE  StudentXML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X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etails attribute contains thing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ud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ame&gt;&lt;First&gt;Amy&lt;/First&gt;&lt;Last&gt;Doe&lt;/Last&gt;&lt;/Na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tatus&gt;U4&lt;/Statu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rsTaken CrsCode="305" Semester="F2003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rsTaken CrsCode="336" Semester="F2003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tude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BA3-B5FD-4BBA-B95B-FC53AE6EDA83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oring XML in Relational DB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Type X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validate,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 TABLE  StudentXML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(</a:t>
            </a:r>
            <a:r>
              <a:rPr b="0" i="1" lang="en-US" sz="1800" spc="-1" strike="noStrike">
                <a:solidFill>
                  <a:srgbClr val="cc0000"/>
                </a:solidFill>
                <a:latin typeface="Times New Roman"/>
              </a:rPr>
              <a:t>Details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IS VALID ACCORDING TO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                                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'http://xyz.edu/student.xsd'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the schema is stored at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xyz.edu/student.x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CAF-2421-4EB7-A297-176A6C45C82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ing XML Stored in Relation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s whether the set of nodes returned by XPath expression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return Ids and names of students who have tak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 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 XMLEXTRACT(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'//Name'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     StudentXML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XMLEXISTS(XMLQU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D//CrsTaken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NG BY REF  S.Details AS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ING SEQUENC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9BF-0BE7-4682-804B-8578A310B0CA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between XML Documents and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’s origin is document processing, not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hings like standalone text (useless for datab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&gt;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Hell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moo&gt;123&lt;/moo&gt;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By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foo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ata is ordered, while database data is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omething&gt;&lt;foo&gt;1&lt;/foo&gt;&lt;bar&gt;2&lt;/bar&gt;&lt;/somethin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different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omething&gt;&lt;bar&gt;2&lt;/bar&gt;&lt;foo&gt;1&lt;/foo&gt;&lt;/somethin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se two complex values are s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2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2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1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70200" y="2513160"/>
            <a:ext cx="1303200" cy="128520"/>
          </a:xfrm>
          <a:custGeom>
            <a:avLst/>
            <a:gdLst/>
            <a:ahLst/>
            <a:rect l="l" t="t" r="r" b="b"/>
            <a:pathLst>
              <a:path w="821" h="81">
                <a:moveTo>
                  <a:pt x="821" y="0"/>
                </a:moveTo>
                <a:cubicBezTo>
                  <a:pt x="576" y="26"/>
                  <a:pt x="361" y="20"/>
                  <a:pt x="99" y="23"/>
                </a:cubicBezTo>
                <a:cubicBezTo>
                  <a:pt x="64" y="35"/>
                  <a:pt x="26" y="55"/>
                  <a:pt x="0" y="8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2540160"/>
            <a:ext cx="814320" cy="156960"/>
          </a:xfrm>
          <a:custGeom>
            <a:avLst/>
            <a:gdLst/>
            <a:ahLst/>
            <a:rect l="l" t="t" r="r" b="b"/>
            <a:pathLst>
              <a:path w="513" h="99">
                <a:moveTo>
                  <a:pt x="0" y="0"/>
                </a:moveTo>
                <a:cubicBezTo>
                  <a:pt x="166" y="10"/>
                  <a:pt x="298" y="14"/>
                  <a:pt x="477" y="17"/>
                </a:cubicBezTo>
                <a:cubicBezTo>
                  <a:pt x="513" y="30"/>
                  <a:pt x="500" y="62"/>
                  <a:pt x="500" y="9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813-D576-4CE6-AB4A-9E0200C826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ing XML Stored in Relations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XQuery expression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EX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both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return Ids and names of students who have status U3 and took MAT12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 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XMLQU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‘$D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/Name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NG BY REF  S.Details AS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ING SEQU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  StudentXML 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XMLEXISTS(XMLQU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$D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/Status/text(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“U3”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D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//CrsTaken/@CrsCo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“MAT124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$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NG BY REF  S.Details AS 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ING SEQUENCE 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1E1-232D-4B04-94C4-A5BC17D5FB43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ing Data in SQL/XM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PA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tored as appropriately indexed tree structure, but in SQL is specified as a sequence of characters – so need to par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  INTO  StudentXM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(1234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XMLPAR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&lt;Stud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ame&gt;&lt;First&gt;Bob&lt;/First&gt;&lt;Last&gt;Smith&lt;/Last&gt;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tus&gt;U4&lt;/Statu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Take CrsCode="CS305" Semester="F200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Take CrsCode="CS339" Semester="S2004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tudent&gt;'  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3FF-26E4-4C40-994D-585106504353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ing Data in SQL/XML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VALID ACCORDING TO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validate inserted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ERT  INTO  StudentXM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tai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(1234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PARSE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&lt;Stud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ame&gt;&lt;First&gt;Bob&lt;/First&gt;&lt;Last&gt;Smith&lt;/Last&gt;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atus&gt;U4&lt;/Statu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Take CrsCode="CS305" Semester="F200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Take CrsCode="CS339" Semester="S2004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tudent&gt;‘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S VALID ACCORDING TO SCHEM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‘http://xyz.edu/Students.xs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044-1F2D-43D7-A51A-B3A78F0B7019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SERIALIZ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erse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P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nvert XML back to a st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used to talk to a host language that does not understand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SERIALIZE is often used in embedded SQL in conjunc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return Ids and names of professors. Professors’ names are returned as ‘&lt;Prof&gt;Joe&lt;/Prof&gt;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C SQL DECLARE  GetProfessor  CURSOR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 P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XMLSERIALIZ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MLELEMENT(Name “Prof”, P.Name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 Professor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 then be process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 SQL  GetProfessor  INTO  :profId, :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FF6-89FB-4DE0-9BD7-2C2A8CC8BC31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s between XML Documents and Object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n’t needed – just bloat the number of ways to represent the same th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 bar=“12”&gt;ABC&lt;/fo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bar&gt;&lt;foo&gt;ABC&lt;/foo&gt;&lt;bar&gt;12&lt;/bar&gt;&lt;/fooba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5486400"/>
            <a:ext cx="1524240" cy="609480"/>
          </a:xfrm>
          <a:prstGeom prst="wedgeRoundRectCallout">
            <a:avLst>
              <a:gd name="adj1" fmla="val -135833"/>
              <a:gd name="adj2" fmla="val -197134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ore uniform, database-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2438280"/>
            <a:ext cx="914400" cy="609840"/>
          </a:xfrm>
          <a:prstGeom prst="wedgeRoundRectCallout">
            <a:avLst>
              <a:gd name="adj1" fmla="val -253648"/>
              <a:gd name="adj2" fmla="val 99217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ore conc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605-2237-41A1-9D96-DDD69E8438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-formed XML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hav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ot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ning ta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have match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osing 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 must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perly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&gt;&lt;bar&gt;&lt;/foo&gt;&lt;/bar&gt;  is a no-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 can occu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most 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 opening tag. If it occu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have an explicitly specified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oolean attrs, like in HTML, are not allow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quo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with “ or ‘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ML processors are not supposed to try and fix ill-formed documents (unlike HTML brows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3FC-8F26-420C-B4A9-963EB29F40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ing and Referencing with Attribut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ttribute can be declared (in a DTD – see later) to have 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unique identifier of an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 attr1 &amp; attr2 are both of type ID, then it is illegal to have &lt;something  attr1=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 … &lt;somethingelse attr2=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  within the same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eferences a unique element with matching ID attribute (in particular, an  XML document with IDREFs is not a tr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ttr1 has type ID and attr2 has type IDREF then w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ve: &lt;something  attr1=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  … &lt;somethingelse attr2=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RE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 list of references, if attr1 is ID and attr2 is IDREFS, then we can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mething attr1=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…&lt;somethingelse attr1=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omeotherthing  attr2=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EED-98C2-4C62-A0B9-0798FE215C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Report Document with Cross-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?xml version=“1.0” 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Date=“2002-12-12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Stud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Stud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s111111111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ame&gt;&lt;First&gt;John&lt;/First&gt;&lt;Last&gt;Doe&lt;/Last&gt;&lt;/Name&gt;   &lt;Status&gt;U2&lt;/Statu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Taken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rsC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CS308”  Semester=“F1997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Taken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rsC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MAT123”  Semester=“F1997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Stud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s666666666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ame&gt;&lt;First&gt;Joe&lt;/First&gt;&lt;Last&gt;Public&lt;/Last&gt;&lt;/Name&gt;   &lt;Status&gt;U3&lt;/Statu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Taken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rsC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CS308”  Semester=“F1994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Taken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rsC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MAT123”  Semester=“F1997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Stud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s987654321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ame&gt;&lt;First&gt;Bart&lt;/First&gt;&lt;Last&gt;Simpson&lt;/Last&gt;&lt;/Name&gt;  &lt;Status&gt;U4&lt;/Statu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Taken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rsC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CS308”  Semester=“F1994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Stud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Stud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5715000"/>
            <a:ext cx="1295640" cy="380880"/>
          </a:xfrm>
          <a:prstGeom prst="wedgeRoundRectCallout">
            <a:avLst>
              <a:gd name="adj1" fmla="val -191546"/>
              <a:gd name="adj2" fmla="val -124166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143000"/>
            <a:ext cx="914400" cy="380880"/>
          </a:xfrm>
          <a:prstGeom prst="wedgeRoundRectCallout">
            <a:avLst>
              <a:gd name="adj1" fmla="val -338541"/>
              <a:gd name="adj2" fmla="val 11708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D35-A400-46D1-A1C3-7D17003BDA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Document (cont’d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C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Code&gt;CS308&lt;/CrsCode&gt; &lt;Semester&gt;F1994&lt;/Semes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lassRoster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Me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s666666666  987654321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Code&gt;CS308&lt;/CrsCode&gt; &lt;Semester&gt;F1997&lt;/Semes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lassRoster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Me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s111111111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Code&gt;MAT123&lt;/CrsCode&gt; &lt;Semester&gt;F1997&lt;/Semes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lassRoster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Me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s111111111  s666666666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C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819520"/>
            <a:ext cx="1600200" cy="380880"/>
          </a:xfrm>
          <a:prstGeom prst="wedgeRoundRectCallout">
            <a:avLst>
              <a:gd name="adj1" fmla="val -237796"/>
              <a:gd name="adj2" fmla="val -80416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R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17B-9EB0-44A9-AECC-3EE60F6DD2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in This Modu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&amp; DTD –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chema – user-defined data types, integrit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 &amp; XPointer –  core query language for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SLT – document transformation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Query – full-featured query language for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/XML – XML extensions of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450-7220-4D1F-9D6C-63B16200DB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ort Document (cont’d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Cour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Code = “CS308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Name&gt;Market Analysis&lt;/Crs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sCode = “MAT123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Name&gt;Market Analysis&lt;/Crs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Cour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1523880"/>
            <a:ext cx="914400" cy="381240"/>
          </a:xfrm>
          <a:prstGeom prst="wedgeRoundRectCallout">
            <a:avLst>
              <a:gd name="adj1" fmla="val -240625"/>
              <a:gd name="adj2" fmla="val 1308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5E9-7383-47AF-85D4-49A20C0635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ML Namesp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chanism to prevent name clashes between components of same or different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 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a symbol, typically a URL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oesn’t need to point to a real p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fix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abbreviation of the namespace, a convenience; works as an al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ual name (element or attribute)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larations/prefixes hav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ilarly to begin/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mlns = “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http://www.acmeinc.com/jp#suppl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n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o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“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http://www.acmeinc.com/jp#toy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backpack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e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o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o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cyberpet&lt;/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o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lt;/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o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e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3276720"/>
            <a:ext cx="1295640" cy="533160"/>
          </a:xfrm>
          <a:prstGeom prst="wedgeRoundRectCallout">
            <a:avLst>
              <a:gd name="adj1" fmla="val -116546"/>
              <a:gd name="adj2" fmla="val 77379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Defaul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ame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114800"/>
            <a:ext cx="1295280" cy="609480"/>
          </a:xfrm>
          <a:prstGeom prst="wedgeRoundRectCallout">
            <a:avLst>
              <a:gd name="adj1" fmla="val -135296"/>
              <a:gd name="adj2" fmla="val -4949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to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54200" y="3911760"/>
            <a:ext cx="874800" cy="687240"/>
          </a:xfrm>
          <a:custGeom>
            <a:avLst/>
            <a:gdLst/>
            <a:ahLst/>
            <a:rect l="l" t="t" r="r" b="b"/>
            <a:pathLst>
              <a:path w="551" h="433">
                <a:moveTo>
                  <a:pt x="398" y="2"/>
                </a:moveTo>
                <a:cubicBezTo>
                  <a:pt x="256" y="8"/>
                  <a:pt x="139" y="0"/>
                  <a:pt x="38" y="101"/>
                </a:cubicBezTo>
                <a:cubicBezTo>
                  <a:pt x="5" y="200"/>
                  <a:pt x="0" y="107"/>
                  <a:pt x="20" y="281"/>
                </a:cubicBezTo>
                <a:cubicBezTo>
                  <a:pt x="21" y="290"/>
                  <a:pt x="22" y="301"/>
                  <a:pt x="29" y="308"/>
                </a:cubicBezTo>
                <a:cubicBezTo>
                  <a:pt x="51" y="330"/>
                  <a:pt x="140" y="391"/>
                  <a:pt x="164" y="407"/>
                </a:cubicBezTo>
                <a:cubicBezTo>
                  <a:pt x="180" y="418"/>
                  <a:pt x="218" y="425"/>
                  <a:pt x="218" y="425"/>
                </a:cubicBezTo>
                <a:cubicBezTo>
                  <a:pt x="296" y="422"/>
                  <a:pt x="419" y="433"/>
                  <a:pt x="497" y="425"/>
                </a:cubicBezTo>
                <a:cubicBezTo>
                  <a:pt x="545" y="420"/>
                  <a:pt x="545" y="283"/>
                  <a:pt x="551" y="245"/>
                </a:cubicBezTo>
                <a:cubicBezTo>
                  <a:pt x="548" y="197"/>
                  <a:pt x="517" y="166"/>
                  <a:pt x="506" y="119"/>
                </a:cubicBezTo>
                <a:cubicBezTo>
                  <a:pt x="495" y="71"/>
                  <a:pt x="430" y="34"/>
                  <a:pt x="398" y="2"/>
                </a:cubicBezTo>
                <a:close/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648320"/>
            <a:ext cx="1066680" cy="609480"/>
          </a:xfrm>
          <a:prstGeom prst="wedgeRoundRectCallout">
            <a:avLst>
              <a:gd name="adj1" fmla="val 71430"/>
              <a:gd name="adj2" fmla="val -10104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served key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4876920"/>
            <a:ext cx="106668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7AD-058A-4A8D-BD00-2E61A595E1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spaces (cont’d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pes of declarations are color-cod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xmlns=“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http://www.foo.org/a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c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http://www.bar.com/c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e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cde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: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cde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: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cde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: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lt;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cde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: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ea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mlns=“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http://www.foobar.org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c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http://www.foobar.org/c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cde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: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…&lt;/</a:t>
            </a: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cde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: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it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3809880"/>
            <a:ext cx="2361960" cy="609840"/>
          </a:xfrm>
          <a:prstGeom prst="wedgeRoundRectCallout">
            <a:avLst>
              <a:gd name="adj1" fmla="val -112296"/>
              <a:gd name="adj2" fmla="val -1197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ew default; overshadows old de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952880"/>
            <a:ext cx="2362320" cy="914400"/>
          </a:xfrm>
          <a:prstGeom prst="wedgeRoundRectCallout">
            <a:avLst>
              <a:gd name="adj1" fmla="val -113509"/>
              <a:gd name="adj2" fmla="val -88717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declaration of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; overshadows old decl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2D2-420E-4ADC-8B4B-47FC6D1FB7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paces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ns=“http://foo.com/bar”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esn’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 there is a document at this URL: using URLs is just a convenient convention; and a namespace is just an ide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s aren’t part of XML 1.0, but all XML processors understand this feature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umber of prefixes have become “standard” and some XML processors might understand them without any declaration. 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http://www.w3.org/2001/XML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s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or http://www.w3.org/1999/XSL/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CA3-FF4D-4EF6-A6C5-F7F9761D71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cument Type Definition (DT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T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grammar specification for an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s are optional – don’t need to be spec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pecified, DTD can be part of the document (at the top); or it  can be given as a UR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ocument that conforms (i.e., parses) w.r.t. its DTD is said to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processor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required to check valid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ven if DTD is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y are required to test well-forme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073-1030-4B8A-8F7C-48464DCA6C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 specified as part of a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?xml  version=“1.0”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DOCTYPE  Report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 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eport&gt; … … … &lt;/Re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 specified as a standalone 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?xml  version=“1.0”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DOCTYPE  Report  “http://foo.org/Report.dtd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eport&gt; … … … &lt;/Re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8FA-8F0A-4564-8F1A-7198F80B0E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lt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)/EMPTY/AN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LIST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lt-name  attr-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ATA/ID/IDREF/IDR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IMPLIED/#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efine other things, like macros (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tit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XML jarg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3657600"/>
            <a:ext cx="2133720" cy="457200"/>
          </a:xfrm>
          <a:prstGeom prst="wedgeRoundRectCallout">
            <a:avLst>
              <a:gd name="adj1" fmla="val -56694"/>
              <a:gd name="adj2" fmla="val -14826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 of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4495680"/>
            <a:ext cx="2286000" cy="381240"/>
          </a:xfrm>
          <a:prstGeom prst="wedgeRoundRectCallout">
            <a:avLst>
              <a:gd name="adj1" fmla="val -112708"/>
              <a:gd name="adj2" fmla="val -160416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tional/mand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1680" y="838080"/>
            <a:ext cx="2133720" cy="762120"/>
          </a:xfrm>
          <a:prstGeom prst="wedgeRoundRectCallout">
            <a:avLst>
              <a:gd name="adj1" fmla="val -93305"/>
              <a:gd name="adj2" fmla="val 70625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ement’s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2514600"/>
            <a:ext cx="1600200" cy="457200"/>
          </a:xfrm>
          <a:prstGeom prst="wedgeRoundRectCallout">
            <a:avLst>
              <a:gd name="adj1" fmla="val -92856"/>
              <a:gd name="adj2" fmla="val -19097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n attr for 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4A3-EF83-48E3-BEB7-CEF12CBBA5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DOCTYPE   Report  [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ELEMENT  Report  (Students, Classes, Courses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ELEMENT  Students  (Student*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ELEMENT  Classes  (Class*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ELEMENT  Courses  (Course*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ELEMENT  Student  (Name, Status, CrsTaken*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ELEMENT  Name  (First,Last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ELEMENT  First  (#PCDATA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ELEMENT  CrsTaken  EMPT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ELEMENT  Class (CrsCode,Semester,ClassRoster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ELEMENT  Course  (CrsName)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ATTLIST  Report  Date  CDATA #IMPLI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ATTLIST  Student  StudId  ID  #REQUIR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ATTLIST  </a:t>
            </a: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Cour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990099"/>
                </a:solidFill>
                <a:latin typeface="Times New Roman"/>
              </a:rPr>
              <a:t>CrsCo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ID  #REQUIR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ATTLIST 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rsTak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990099"/>
                </a:solidFill>
                <a:latin typeface="Times New Roman"/>
              </a:rPr>
              <a:t>CrsCo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IDREF  #REQUIR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!ATTLIST  ClassRoster  Members  IDREFS  #IMPLIE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]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84320" y="3322800"/>
            <a:ext cx="927360" cy="349200"/>
          </a:xfrm>
          <a:custGeom>
            <a:avLst/>
            <a:gdLst/>
            <a:ahLst/>
            <a:rect l="l" t="t" r="r" b="b"/>
            <a:pathLst>
              <a:path w="584" h="220">
                <a:moveTo>
                  <a:pt x="541" y="22"/>
                </a:moveTo>
                <a:cubicBezTo>
                  <a:pt x="389" y="0"/>
                  <a:pt x="215" y="26"/>
                  <a:pt x="64" y="31"/>
                </a:cubicBezTo>
                <a:cubicBezTo>
                  <a:pt x="35" y="41"/>
                  <a:pt x="33" y="35"/>
                  <a:pt x="19" y="67"/>
                </a:cubicBezTo>
                <a:cubicBezTo>
                  <a:pt x="11" y="84"/>
                  <a:pt x="1" y="121"/>
                  <a:pt x="1" y="121"/>
                </a:cubicBezTo>
                <a:cubicBezTo>
                  <a:pt x="7" y="160"/>
                  <a:pt x="0" y="182"/>
                  <a:pt x="37" y="202"/>
                </a:cubicBezTo>
                <a:cubicBezTo>
                  <a:pt x="54" y="211"/>
                  <a:pt x="91" y="220"/>
                  <a:pt x="91" y="220"/>
                </a:cubicBezTo>
                <a:cubicBezTo>
                  <a:pt x="230" y="214"/>
                  <a:pt x="377" y="218"/>
                  <a:pt x="514" y="184"/>
                </a:cubicBezTo>
                <a:cubicBezTo>
                  <a:pt x="584" y="137"/>
                  <a:pt x="555" y="93"/>
                  <a:pt x="541" y="22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68520" y="2898720"/>
            <a:ext cx="1265400" cy="344520"/>
          </a:xfrm>
          <a:custGeom>
            <a:avLst/>
            <a:gdLst/>
            <a:ahLst/>
            <a:rect l="l" t="t" r="r" b="b"/>
            <a:pathLst>
              <a:path w="797" h="217">
                <a:moveTo>
                  <a:pt x="767" y="46"/>
                </a:moveTo>
                <a:cubicBezTo>
                  <a:pt x="732" y="34"/>
                  <a:pt x="711" y="44"/>
                  <a:pt x="677" y="55"/>
                </a:cubicBezTo>
                <a:cubicBezTo>
                  <a:pt x="622" y="51"/>
                  <a:pt x="553" y="31"/>
                  <a:pt x="497" y="28"/>
                </a:cubicBezTo>
                <a:cubicBezTo>
                  <a:pt x="389" y="23"/>
                  <a:pt x="281" y="22"/>
                  <a:pt x="173" y="19"/>
                </a:cubicBezTo>
                <a:cubicBezTo>
                  <a:pt x="81" y="26"/>
                  <a:pt x="0" y="0"/>
                  <a:pt x="47" y="118"/>
                </a:cubicBezTo>
                <a:cubicBezTo>
                  <a:pt x="52" y="130"/>
                  <a:pt x="66" y="135"/>
                  <a:pt x="74" y="145"/>
                </a:cubicBezTo>
                <a:cubicBezTo>
                  <a:pt x="109" y="188"/>
                  <a:pt x="122" y="182"/>
                  <a:pt x="173" y="199"/>
                </a:cubicBezTo>
                <a:cubicBezTo>
                  <a:pt x="191" y="205"/>
                  <a:pt x="227" y="217"/>
                  <a:pt x="227" y="217"/>
                </a:cubicBezTo>
                <a:cubicBezTo>
                  <a:pt x="280" y="214"/>
                  <a:pt x="432" y="207"/>
                  <a:pt x="497" y="199"/>
                </a:cubicBezTo>
                <a:cubicBezTo>
                  <a:pt x="591" y="187"/>
                  <a:pt x="633" y="154"/>
                  <a:pt x="731" y="145"/>
                </a:cubicBezTo>
                <a:cubicBezTo>
                  <a:pt x="779" y="135"/>
                  <a:pt x="751" y="107"/>
                  <a:pt x="785" y="73"/>
                </a:cubicBezTo>
                <a:cubicBezTo>
                  <a:pt x="782" y="55"/>
                  <a:pt x="767" y="73"/>
                  <a:pt x="749" y="46"/>
                </a:cubicBezTo>
                <a:cubicBezTo>
                  <a:pt x="722" y="55"/>
                  <a:pt x="797" y="31"/>
                  <a:pt x="767" y="46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4760" y="2371680"/>
            <a:ext cx="1073160" cy="455760"/>
          </a:xfrm>
          <a:custGeom>
            <a:avLst/>
            <a:gdLst/>
            <a:ahLst/>
            <a:rect l="l" t="t" r="r" b="b"/>
            <a:pathLst>
              <a:path w="676" h="287">
                <a:moveTo>
                  <a:pt x="514" y="54"/>
                </a:moveTo>
                <a:cubicBezTo>
                  <a:pt x="426" y="25"/>
                  <a:pt x="356" y="18"/>
                  <a:pt x="262" y="9"/>
                </a:cubicBezTo>
                <a:cubicBezTo>
                  <a:pt x="187" y="12"/>
                  <a:pt x="110" y="0"/>
                  <a:pt x="37" y="18"/>
                </a:cubicBezTo>
                <a:cubicBezTo>
                  <a:pt x="16" y="23"/>
                  <a:pt x="1" y="72"/>
                  <a:pt x="1" y="72"/>
                </a:cubicBezTo>
                <a:cubicBezTo>
                  <a:pt x="4" y="123"/>
                  <a:pt x="0" y="175"/>
                  <a:pt x="10" y="225"/>
                </a:cubicBezTo>
                <a:cubicBezTo>
                  <a:pt x="16" y="253"/>
                  <a:pt x="78" y="269"/>
                  <a:pt x="100" y="270"/>
                </a:cubicBezTo>
                <a:cubicBezTo>
                  <a:pt x="238" y="276"/>
                  <a:pt x="376" y="276"/>
                  <a:pt x="514" y="279"/>
                </a:cubicBezTo>
                <a:cubicBezTo>
                  <a:pt x="562" y="275"/>
                  <a:pt x="605" y="287"/>
                  <a:pt x="640" y="252"/>
                </a:cubicBezTo>
                <a:cubicBezTo>
                  <a:pt x="661" y="231"/>
                  <a:pt x="676" y="171"/>
                  <a:pt x="676" y="171"/>
                </a:cubicBezTo>
                <a:cubicBezTo>
                  <a:pt x="673" y="153"/>
                  <a:pt x="673" y="134"/>
                  <a:pt x="667" y="117"/>
                </a:cubicBezTo>
                <a:cubicBezTo>
                  <a:pt x="644" y="48"/>
                  <a:pt x="569" y="45"/>
                  <a:pt x="514" y="54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2286000"/>
            <a:ext cx="1676160" cy="380880"/>
          </a:xfrm>
          <a:prstGeom prst="wedgeRoundRectCallout">
            <a:avLst>
              <a:gd name="adj1" fmla="val -157384"/>
              <a:gd name="adj2" fmla="val 183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Zero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2895480"/>
            <a:ext cx="1905120" cy="381240"/>
          </a:xfrm>
          <a:prstGeom prst="wedgeRoundRectCallout">
            <a:avLst>
              <a:gd name="adj1" fmla="val -131500"/>
              <a:gd name="adj2" fmla="val -26666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s text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3505320"/>
            <a:ext cx="1981440" cy="609480"/>
          </a:xfrm>
          <a:prstGeom prst="wedgeRoundRectCallout">
            <a:avLst>
              <a:gd name="adj1" fmla="val -181250"/>
              <a:gd name="adj2" fmla="val -51041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mpty element, no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4952880"/>
            <a:ext cx="2286000" cy="609840"/>
          </a:xfrm>
          <a:prstGeom prst="wedgeRoundRectCallout">
            <a:avLst>
              <a:gd name="adj1" fmla="val -102499"/>
              <a:gd name="adj2" fmla="val -37759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e attribute in differen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802-CA89-4132-898C-DE2BE29886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 of DT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n’t understand name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limited assortment of data types (just str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weak w.r.t. consistency constraints (ID/IDREF/IDREFS on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express unordered contents conveni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lement names are global: can’t have one Name type for people and another for compan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ELEMENT   Name   (Last, First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ELEMENT   Name   (#PCDATA)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’t be in the same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CE5-15A8-4144-9106-083F518293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 to rectify some of the problems with DT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 with name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built-i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local element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key and referentia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wieldy – much more complex than DT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B3A4-C021-48B6-9AC7-C09EDD7F0C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X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a standard for data exchange that is taking over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ajor database products have been retrofitted with facilities to store and construct XML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lready database products that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lly desig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work with XML documents rather than relational or object-orien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is closely related to object-oriented and so-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F1A-7BEC-48C3-AEF1-7C46A09658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 Document and Namesp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chema  xmlns=“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http://www.w3.org/2001/XML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targetName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“http://xyz.edu/Admin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schema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tandard XML synta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w3.org/2001/XMLSchema –  namespace for keywords used in a schema docume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instance document), e.g.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getName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Namespace – names the namespace defined by the above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F0C-340F-4A59-9465-01573DA299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tance Docu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document whose structure is being defined by the earlier schema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?xml  version = “1.0”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port  xmlns=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http://xyz.edu/Ad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xs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http://www.w3.org/2001/XMLSchema-in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xs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chema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http://xyz.edu/Ad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http://xyz.edu/Admin.xs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me contents as in the earl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por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cument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por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x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chemaLo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ys:  the schema for the namespace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http://xyz.edu/Ad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found 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http://xyz.edu/Admin.x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schema &amp; its location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bi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XML processor;  it can decide to use another schema, or none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1523880"/>
            <a:ext cx="2971800" cy="1067040"/>
          </a:xfrm>
          <a:prstGeom prst="wedgeRoundRectCallout">
            <a:avLst>
              <a:gd name="adj1" fmla="val -57800"/>
              <a:gd name="adj2" fmla="val 77527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amespace for XML Schema names that occur in instance documents rather than their sch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1676520"/>
            <a:ext cx="2209680" cy="609480"/>
          </a:xfrm>
          <a:prstGeom prst="wedgeRoundRectCallout">
            <a:avLst>
              <a:gd name="adj1" fmla="val -48708"/>
              <a:gd name="adj2" fmla="val 104949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fault namespace for instance docu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924680" y="3276720"/>
            <a:ext cx="914400" cy="457200"/>
          </a:xfrm>
          <a:prstGeom prst="wedgeRoundRectCallout">
            <a:avLst>
              <a:gd name="adj1" fmla="val -200000"/>
              <a:gd name="adj2" fmla="val -1180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chema names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4114800"/>
            <a:ext cx="1143000" cy="304920"/>
          </a:xfrm>
          <a:prstGeom prst="wedgeRoundRectCallout">
            <a:avLst>
              <a:gd name="adj1" fmla="val -104166"/>
              <a:gd name="adj2" fmla="val -101041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chema lo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51A-B5C9-4D43-B4E9-9014E3DC73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ilding Schemas from Com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hema  xmlns=“http://www.w3.org/2001/XMLSch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Namespace=“http://xyz.edu/Admin”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nclu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schema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http://xyz.edu/StudentTypes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clude  schemaLocation=“http://xyz.edu/ClassTypes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nclude  schemaLocation=“http://xyz.edu/CourseTypes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&gt;  works like  #include  in  the C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d schemas must have the sa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Namesp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the including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chemaLocation</a:t>
            </a:r>
            <a:r>
              <a:rPr b="0" lang="en-US" sz="28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tells where to find the piece to be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th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eyword is from the XMLSchema namespace – different fr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i:schemaLoc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revious slide, which was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Schema-instance 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B31-9233-4502-9C09-791606938D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mitive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D, IDREF, etc. (defined in XMLSchema namesp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 constru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mple way to derive types from primitive types (disregard the namespaces for now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impl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=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yInt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temType=“intege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mpleType  name=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hone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un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emberTypes=“phone7digits  phone10digits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2D3-E078-426F-B138-71E7F7ECC2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riving Simple Types by Rest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mpleType  name=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hone7dig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stri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ase=“integer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minInclus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value=“1000000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maxInclus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value=“9999999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stri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mpleType  name=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mergencyNumb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triction  base=“integer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enume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value=“911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enume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value=“333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stric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more type-building primitives (see textbook and spe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F75-C647-4606-8626-05EA37975D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imple Types Used in the Report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mpleType  name=“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studen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triction  base=“ID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pat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value=“s[0-9]{9}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stric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mpleType  name=“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studentI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list  itemType=“adm:studentRef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mpleType  name=“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student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triction  base=“IDREF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patte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value=“s[0-9]{9}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stric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343400"/>
            <a:ext cx="2210040" cy="685800"/>
          </a:xfrm>
          <a:prstGeom prst="wedgeRoundRectCallout">
            <a:avLst>
              <a:gd name="adj1" fmla="val -153879"/>
              <a:gd name="adj2" fmla="val -167824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fix for the target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23040" y="990720"/>
            <a:ext cx="3536640" cy="5806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Namespace = http://xyz.edu/Ad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ns:adm= http://xyz.edu/Ad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1219320"/>
            <a:ext cx="609840" cy="542880"/>
          </a:xfrm>
          <a:custGeom>
            <a:avLst/>
            <a:gdLst/>
            <a:ahLst/>
            <a:rect l="l" t="t" r="r" b="b"/>
            <a:pathLst>
              <a:path w="384" h="342">
                <a:moveTo>
                  <a:pt x="369" y="170"/>
                </a:moveTo>
                <a:cubicBezTo>
                  <a:pt x="377" y="129"/>
                  <a:pt x="384" y="113"/>
                  <a:pt x="369" y="65"/>
                </a:cubicBezTo>
                <a:cubicBezTo>
                  <a:pt x="362" y="41"/>
                  <a:pt x="343" y="45"/>
                  <a:pt x="327" y="37"/>
                </a:cubicBezTo>
                <a:cubicBezTo>
                  <a:pt x="290" y="18"/>
                  <a:pt x="263" y="9"/>
                  <a:pt x="222" y="2"/>
                </a:cubicBezTo>
                <a:cubicBezTo>
                  <a:pt x="173" y="4"/>
                  <a:pt x="123" y="0"/>
                  <a:pt x="74" y="9"/>
                </a:cubicBezTo>
                <a:cubicBezTo>
                  <a:pt x="57" y="12"/>
                  <a:pt x="32" y="37"/>
                  <a:pt x="32" y="37"/>
                </a:cubicBezTo>
                <a:cubicBezTo>
                  <a:pt x="27" y="44"/>
                  <a:pt x="21" y="50"/>
                  <a:pt x="18" y="58"/>
                </a:cubicBezTo>
                <a:cubicBezTo>
                  <a:pt x="12" y="71"/>
                  <a:pt x="4" y="100"/>
                  <a:pt x="4" y="100"/>
                </a:cubicBezTo>
                <a:cubicBezTo>
                  <a:pt x="7" y="140"/>
                  <a:pt x="0" y="184"/>
                  <a:pt x="18" y="220"/>
                </a:cubicBezTo>
                <a:cubicBezTo>
                  <a:pt x="47" y="277"/>
                  <a:pt x="98" y="312"/>
                  <a:pt x="158" y="332"/>
                </a:cubicBezTo>
                <a:cubicBezTo>
                  <a:pt x="244" y="328"/>
                  <a:pt x="276" y="342"/>
                  <a:pt x="334" y="304"/>
                </a:cubicBezTo>
                <a:cubicBezTo>
                  <a:pt x="340" y="286"/>
                  <a:pt x="375" y="230"/>
                  <a:pt x="376" y="220"/>
                </a:cubicBezTo>
                <a:cubicBezTo>
                  <a:pt x="378" y="203"/>
                  <a:pt x="371" y="187"/>
                  <a:pt x="369" y="170"/>
                </a:cubicBezTo>
                <a:close/>
              </a:path>
            </a:pathLst>
          </a:custGeom>
          <a:noFill/>
          <a:ln w="9360">
            <a:solidFill>
              <a:srgbClr val="66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68600" y="3105000"/>
            <a:ext cx="652680" cy="439920"/>
          </a:xfrm>
          <a:custGeom>
            <a:avLst/>
            <a:gdLst/>
            <a:ahLst/>
            <a:rect l="l" t="t" r="r" b="b"/>
            <a:pathLst>
              <a:path w="411" h="277">
                <a:moveTo>
                  <a:pt x="351" y="46"/>
                </a:moveTo>
                <a:cubicBezTo>
                  <a:pt x="305" y="0"/>
                  <a:pt x="238" y="8"/>
                  <a:pt x="175" y="4"/>
                </a:cubicBezTo>
                <a:cubicBezTo>
                  <a:pt x="140" y="6"/>
                  <a:pt x="105" y="7"/>
                  <a:pt x="70" y="11"/>
                </a:cubicBezTo>
                <a:cubicBezTo>
                  <a:pt x="60" y="12"/>
                  <a:pt x="49" y="12"/>
                  <a:pt x="42" y="18"/>
                </a:cubicBezTo>
                <a:cubicBezTo>
                  <a:pt x="15" y="42"/>
                  <a:pt x="8" y="77"/>
                  <a:pt x="0" y="109"/>
                </a:cubicBezTo>
                <a:cubicBezTo>
                  <a:pt x="9" y="194"/>
                  <a:pt x="5" y="209"/>
                  <a:pt x="84" y="229"/>
                </a:cubicBezTo>
                <a:cubicBezTo>
                  <a:pt x="227" y="225"/>
                  <a:pt x="308" y="277"/>
                  <a:pt x="386" y="193"/>
                </a:cubicBezTo>
                <a:cubicBezTo>
                  <a:pt x="402" y="146"/>
                  <a:pt x="411" y="138"/>
                  <a:pt x="393" y="81"/>
                </a:cubicBezTo>
                <a:cubicBezTo>
                  <a:pt x="390" y="72"/>
                  <a:pt x="380" y="66"/>
                  <a:pt x="372" y="60"/>
                </a:cubicBezTo>
                <a:cubicBezTo>
                  <a:pt x="359" y="50"/>
                  <a:pt x="316" y="23"/>
                  <a:pt x="330" y="32"/>
                </a:cubicBezTo>
                <a:cubicBezTo>
                  <a:pt x="337" y="37"/>
                  <a:pt x="344" y="41"/>
                  <a:pt x="351" y="46"/>
                </a:cubicBezTo>
                <a:close/>
              </a:path>
            </a:pathLst>
          </a:custGeom>
          <a:noFill/>
          <a:ln w="9360">
            <a:solidFill>
              <a:srgbClr val="66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343400"/>
            <a:ext cx="2210040" cy="685800"/>
          </a:xfrm>
          <a:prstGeom prst="wedgeRoundRectCallout">
            <a:avLst>
              <a:gd name="adj1" fmla="val -53018"/>
              <a:gd name="adj2" fmla="val -42361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fix for the target 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743200"/>
            <a:ext cx="1981440" cy="533520"/>
          </a:xfrm>
          <a:prstGeom prst="wedgeRoundRectCallout">
            <a:avLst>
              <a:gd name="adj1" fmla="val -197837"/>
              <a:gd name="adj2" fmla="val -164287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ML ID types always start with a le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913-F9BC-4DCA-A869-97A7A70B449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Types for Report Document (con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mpleType  name=“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course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triction  base=“ID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ttern  value=“[A-Z]{3}[0-9]{3}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stric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mpleType  name=“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courseRe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triction  base=“IDREF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pattern  value=“[A-Z]{3}[0-9]{3}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stric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impleType  name=“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studentStat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restriction  base=“string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numeration value=“U1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numeration value=“G5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restric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78F-1E6D-4A2A-B726-B9897E33F2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Document That Defines Simpl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chema  xmlns=“http://www.w3.org/2001/XMLSchem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d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http://xyz.edu/Admi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Namespace=“http://xyz.edu/Admin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lement  name=“CrsName”  type=“string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lement  name=“Status”  type=“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d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tudent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mpleType  name=“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student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imple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5334120"/>
            <a:ext cx="2133360" cy="1143000"/>
          </a:xfrm>
          <a:prstGeom prst="wedgeRoundRectCallout">
            <a:avLst>
              <a:gd name="adj1" fmla="val -54240"/>
              <a:gd name="adj2" fmla="val -195138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hy is a namespace prefix needed here? (thin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848040" y="1028520"/>
            <a:ext cx="304560" cy="5715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149040 h 5715000"/>
              <a:gd name="textAreaBottom" fmla="*/ 556596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4191120"/>
            <a:ext cx="2209680" cy="609480"/>
          </a:xfrm>
          <a:prstGeom prst="wedgeRoundRectCallout">
            <a:avLst>
              <a:gd name="adj1" fmla="val -165949"/>
              <a:gd name="adj2" fmla="val -6119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lement declaration using derived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915-2F50-4A83-AC5B-68C89D8AE4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ex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the definition of element types that have complex inter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class definitions in object-oriented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verbose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efine both child elements an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ordered and unordered collections of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EC6-D8EB-4A62-84E5-4868B54995E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 student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Student”  type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ad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333300"/>
                </a:solidFill>
                <a:latin typeface="Times New Roman"/>
              </a:rPr>
              <a:t>student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mplex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=“</a:t>
            </a:r>
            <a:r>
              <a:rPr b="0" i="1" lang="en-US" sz="2000" spc="-1" strike="noStrike">
                <a:solidFill>
                  <a:srgbClr val="333300"/>
                </a:solidFill>
                <a:latin typeface="Times New Roman"/>
              </a:rPr>
              <a:t>student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Name”  type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ad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333300"/>
                </a:solidFill>
                <a:latin typeface="Times New Roman"/>
              </a:rPr>
              <a:t>personNam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Status”  type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ad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Stat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rsTaken”  type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ad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seTaken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Occurs=“0”  maxOccurs=“unbounded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=“StudId”  type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ad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mplex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mplex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=“</a:t>
            </a:r>
            <a:r>
              <a:rPr b="0" i="1" lang="en-US" sz="2000" spc="-1" strike="noStrike">
                <a:solidFill>
                  <a:srgbClr val="333300"/>
                </a:solidFill>
                <a:latin typeface="Times New Roman"/>
              </a:rPr>
              <a:t>personNam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First”  type=“string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Last”  type=“string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mplex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914400"/>
            <a:ext cx="121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12952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28" idx="2"/>
          </p:cNvCxnSpPr>
          <p:nvPr/>
        </p:nvCxnSpPr>
        <p:spPr>
          <a:xfrm flipH="1" flipV="1" rot="5400000">
            <a:off x="4113720" y="685080"/>
            <a:ext cx="305640" cy="1524600"/>
          </a:xfrm>
          <a:prstGeom prst="curvedConnector5">
            <a:avLst>
              <a:gd name="adj1" fmla="val -75000"/>
              <a:gd name="adj2" fmla="val 50000"/>
              <a:gd name="adj3" fmla="val -75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5410080" y="198108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8120" y="4572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2" idx="0"/>
            <a:endCxn id="231" idx="0"/>
          </p:cNvCxnSpPr>
          <p:nvPr/>
        </p:nvCxnSpPr>
        <p:spPr>
          <a:xfrm flipH="1" flipV="1" rot="5400000">
            <a:off x="3733560" y="2094840"/>
            <a:ext cx="2591640" cy="2363040"/>
          </a:xfrm>
          <a:prstGeom prst="curvedConnector5">
            <a:avLst>
              <a:gd name="adj1" fmla="val 108821"/>
              <a:gd name="adj2" fmla="val 49992"/>
              <a:gd name="adj3" fmla="val 108821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4EDC-5F69-4DA0-AC26-9CF39C62E6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structur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HTML document to be displayed on the We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t&gt;Name: John D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d&gt;Id: s11111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d&gt;Address:   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i&gt;Number:  123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li&gt;Street:      Main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t&gt;Name: Joe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d&gt;Id:  s2222222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… … 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78520" y="2997360"/>
            <a:ext cx="2347920" cy="1279440"/>
          </a:xfrm>
          <a:custGeom>
            <a:avLst/>
            <a:gdLst/>
            <a:ahLst/>
            <a:rect l="l" t="t" r="r" b="b"/>
            <a:pathLst>
              <a:path w="1479" h="806">
                <a:moveTo>
                  <a:pt x="1283" y="30"/>
                </a:moveTo>
                <a:cubicBezTo>
                  <a:pt x="1058" y="21"/>
                  <a:pt x="833" y="30"/>
                  <a:pt x="608" y="23"/>
                </a:cubicBezTo>
                <a:cubicBezTo>
                  <a:pt x="523" y="26"/>
                  <a:pt x="196" y="0"/>
                  <a:pt x="67" y="86"/>
                </a:cubicBezTo>
                <a:cubicBezTo>
                  <a:pt x="48" y="115"/>
                  <a:pt x="37" y="142"/>
                  <a:pt x="18" y="170"/>
                </a:cubicBezTo>
                <a:cubicBezTo>
                  <a:pt x="21" y="243"/>
                  <a:pt x="0" y="420"/>
                  <a:pt x="88" y="479"/>
                </a:cubicBezTo>
                <a:cubicBezTo>
                  <a:pt x="97" y="492"/>
                  <a:pt x="98" y="510"/>
                  <a:pt x="109" y="521"/>
                </a:cubicBezTo>
                <a:cubicBezTo>
                  <a:pt x="161" y="572"/>
                  <a:pt x="294" y="596"/>
                  <a:pt x="362" y="606"/>
                </a:cubicBezTo>
                <a:cubicBezTo>
                  <a:pt x="807" y="603"/>
                  <a:pt x="1183" y="806"/>
                  <a:pt x="1423" y="486"/>
                </a:cubicBezTo>
                <a:cubicBezTo>
                  <a:pt x="1441" y="433"/>
                  <a:pt x="1417" y="498"/>
                  <a:pt x="1444" y="444"/>
                </a:cubicBezTo>
                <a:cubicBezTo>
                  <a:pt x="1463" y="407"/>
                  <a:pt x="1471" y="359"/>
                  <a:pt x="1479" y="318"/>
                </a:cubicBezTo>
                <a:cubicBezTo>
                  <a:pt x="1477" y="276"/>
                  <a:pt x="1476" y="233"/>
                  <a:pt x="1472" y="191"/>
                </a:cubicBezTo>
                <a:cubicBezTo>
                  <a:pt x="1462" y="81"/>
                  <a:pt x="1373" y="53"/>
                  <a:pt x="1283" y="30"/>
                </a:cubicBezTo>
                <a:close/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5105520"/>
            <a:ext cx="2667240" cy="685800"/>
          </a:xfrm>
          <a:prstGeom prst="wedgeRoundRectCallout">
            <a:avLst>
              <a:gd name="adj1" fmla="val -34879"/>
              <a:gd name="adj2" fmla="val -19629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HTML does not distinguish between attributes and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355-D0D4-480F-81DB-B063DF59C5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sitors: Sequences, Sets,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osi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quired when element has at least 1 child element (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-- have already s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an specify sets of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ho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can specify alternative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3D0-C0C3-469E-BF27-B7BF6E75C34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order of components in addresses is unimport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mplexType  name=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lement  name=“StreetName”  type=“string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lement  name=“StreetNumber”  type=“string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lement  name=“City”  type=“string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comes with a host of awkward restrictions. For instance, cannot occur inside a sequence; only sets of elements, not ba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347-A021-4F36-92EC-97E53DD83E2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ternative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ddresses can have P.O.Box or street name/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mplexType  name=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dress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ho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&lt;element  name=“POBox”  type=“string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element  name=“Name”  type=“string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element  name=“Number”  type=“string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ho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ity”  type=“string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2895480"/>
            <a:ext cx="1904760" cy="1371600"/>
          </a:xfrm>
          <a:custGeom>
            <a:avLst/>
            <a:gdLst/>
            <a:ahLst/>
            <a:rect l="l" t="t" r="r" b="b"/>
            <a:pathLst>
              <a:path w="784" h="736">
                <a:moveTo>
                  <a:pt x="0" y="112"/>
                </a:moveTo>
                <a:cubicBezTo>
                  <a:pt x="108" y="56"/>
                  <a:pt x="216" y="0"/>
                  <a:pt x="336" y="16"/>
                </a:cubicBezTo>
                <a:cubicBezTo>
                  <a:pt x="456" y="32"/>
                  <a:pt x="656" y="112"/>
                  <a:pt x="720" y="208"/>
                </a:cubicBezTo>
                <a:cubicBezTo>
                  <a:pt x="784" y="304"/>
                  <a:pt x="736" y="504"/>
                  <a:pt x="720" y="592"/>
                </a:cubicBezTo>
                <a:cubicBezTo>
                  <a:pt x="704" y="680"/>
                  <a:pt x="664" y="708"/>
                  <a:pt x="624" y="736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5880" y="2209680"/>
            <a:ext cx="798120" cy="587160"/>
          </a:xfrm>
          <a:prstGeom prst="rect">
            <a:avLst/>
          </a:prstGeom>
          <a:noFill/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r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36576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A98-F532-482A-B0A1-A7D2FC0A39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Element N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TD can define only global elemen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have at most one &lt;!ELEMENT  foo …&gt;  statement per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ML Schema, names have scope like in programming languages – the nearest contain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can have the same element name (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in different types and with different intern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5F0-776B-4A76-BA96-B581833FA1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cal Element Names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complex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=“</a:t>
            </a:r>
            <a:r>
              <a:rPr b="0" i="1" lang="en-US" sz="2000" spc="-1" strike="noStrike">
                <a:solidFill>
                  <a:srgbClr val="990099"/>
                </a:solidFill>
                <a:latin typeface="Times New Roman"/>
              </a:rPr>
              <a:t>student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type=“adm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sonNam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Status”  type=“adm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Stat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rsTaken”  type=“adm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seTaken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Occurs=“0”  maxOccurs=“unbounded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ttribute  name=“StudId”  type=“adm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complex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complex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=“</a:t>
            </a:r>
            <a:r>
              <a:rPr b="0" i="1" lang="en-US" sz="2000" spc="-1" strike="noStrike">
                <a:solidFill>
                  <a:srgbClr val="990099"/>
                </a:solidFill>
                <a:latin typeface="Times New Roman"/>
              </a:rPr>
              <a:t>cours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type=“string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ttribute  name=“CrsCode”  type=“adm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se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complex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133720"/>
            <a:ext cx="876240" cy="2971800"/>
          </a:xfrm>
          <a:custGeom>
            <a:avLst/>
            <a:gdLst/>
            <a:ahLst/>
            <a:rect l="l" t="t" r="r" b="b"/>
            <a:pathLst>
              <a:path w="552" h="1872">
                <a:moveTo>
                  <a:pt x="0" y="0"/>
                </a:moveTo>
                <a:cubicBezTo>
                  <a:pt x="108" y="168"/>
                  <a:pt x="216" y="336"/>
                  <a:pt x="288" y="480"/>
                </a:cubicBezTo>
                <a:cubicBezTo>
                  <a:pt x="360" y="624"/>
                  <a:pt x="400" y="696"/>
                  <a:pt x="432" y="864"/>
                </a:cubicBezTo>
                <a:cubicBezTo>
                  <a:pt x="464" y="1032"/>
                  <a:pt x="552" y="1320"/>
                  <a:pt x="480" y="1488"/>
                </a:cubicBezTo>
                <a:cubicBezTo>
                  <a:pt x="408" y="1656"/>
                  <a:pt x="204" y="1764"/>
                  <a:pt x="0" y="1872"/>
                </a:cubicBezTo>
              </a:path>
            </a:pathLst>
          </a:custGeom>
          <a:noFill/>
          <a:ln cap="rnd" w="9360">
            <a:solidFill>
              <a:srgbClr val="cc0000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4267080"/>
            <a:ext cx="2971800" cy="838440"/>
          </a:xfrm>
          <a:prstGeom prst="wedgeRoundRectCallout">
            <a:avLst>
              <a:gd name="adj1" fmla="val -89263"/>
              <a:gd name="adj2" fmla="val -3428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me element nam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ifferent typ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side different complex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31D-26B1-4DDC-9893-D47CF276FA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orting XML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is used to share schemas developed by 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at different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vs. im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d schemas are usually under the control of the same development group as the including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d and including schemas must have the same target namespace (because the text is physically inclu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s are under the control of different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namespaces ar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ort statement must tell the importing schema what that target namespace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B4B-32DD-4347-A2D5-C96490E6D8F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ort of Schema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chema  xmlns=“http://www.w3.org/2001/XMLSchem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Namespace=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xyz.edu/Ad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http://xyz.edu/Regist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c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http://xyz.edu/Cour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mport  namespace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http://xyz.edu/Regist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Location=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xyz.edu/Registrar/StudentType.xs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import  namespace=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http://xyz.edu/Cour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hema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7920" y="2300400"/>
            <a:ext cx="673200" cy="900000"/>
          </a:xfrm>
          <a:custGeom>
            <a:avLst/>
            <a:gdLst/>
            <a:ahLst/>
            <a:rect l="l" t="t" r="r" b="b"/>
            <a:pathLst>
              <a:path w="424" h="567">
                <a:moveTo>
                  <a:pt x="246" y="567"/>
                </a:moveTo>
                <a:cubicBezTo>
                  <a:pt x="269" y="527"/>
                  <a:pt x="368" y="402"/>
                  <a:pt x="387" y="324"/>
                </a:cubicBezTo>
                <a:cubicBezTo>
                  <a:pt x="406" y="246"/>
                  <a:pt x="424" y="153"/>
                  <a:pt x="360" y="99"/>
                </a:cubicBezTo>
                <a:cubicBezTo>
                  <a:pt x="296" y="45"/>
                  <a:pt x="75" y="21"/>
                  <a:pt x="0" y="0"/>
                </a:cubicBezTo>
              </a:path>
            </a:pathLst>
          </a:custGeom>
          <a:noFill/>
          <a:ln cap="rnd" w="9360">
            <a:solidFill>
              <a:srgbClr val="990099"/>
            </a:solidFill>
            <a:custDash>
              <a:ds d="100000" sp="1000"/>
            </a:custDash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29280" y="2757600"/>
            <a:ext cx="849240" cy="1342800"/>
          </a:xfrm>
          <a:custGeom>
            <a:avLst/>
            <a:gdLst/>
            <a:ahLst/>
            <a:rect l="l" t="t" r="r" b="b"/>
            <a:pathLst>
              <a:path w="535" h="846">
                <a:moveTo>
                  <a:pt x="360" y="846"/>
                </a:moveTo>
                <a:cubicBezTo>
                  <a:pt x="385" y="821"/>
                  <a:pt x="491" y="771"/>
                  <a:pt x="513" y="693"/>
                </a:cubicBezTo>
                <a:cubicBezTo>
                  <a:pt x="535" y="615"/>
                  <a:pt x="511" y="457"/>
                  <a:pt x="495" y="378"/>
                </a:cubicBezTo>
                <a:cubicBezTo>
                  <a:pt x="479" y="299"/>
                  <a:pt x="497" y="279"/>
                  <a:pt x="414" y="216"/>
                </a:cubicBezTo>
                <a:cubicBezTo>
                  <a:pt x="331" y="153"/>
                  <a:pt x="86" y="45"/>
                  <a:pt x="0" y="0"/>
                </a:cubicBezTo>
              </a:path>
            </a:pathLst>
          </a:custGeom>
          <a:noFill/>
          <a:ln cap="rnd" w="9360">
            <a:solidFill>
              <a:srgbClr val="808080"/>
            </a:solidFill>
            <a:custDash>
              <a:ds d="100000" sp="1000"/>
            </a:custDash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86600" y="1981080"/>
            <a:ext cx="1905120" cy="914400"/>
          </a:xfrm>
          <a:prstGeom prst="wedgeRoundRectCallout">
            <a:avLst>
              <a:gd name="adj1" fmla="val -78750"/>
              <a:gd name="adj2" fmla="val 46180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fix declarations for imported namesp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5334120"/>
            <a:ext cx="1447560" cy="457200"/>
          </a:xfrm>
          <a:prstGeom prst="wedgeRoundRectCallout">
            <a:avLst>
              <a:gd name="adj1" fmla="val -79277"/>
              <a:gd name="adj2" fmla="val -274305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334120"/>
            <a:ext cx="1143000" cy="457200"/>
          </a:xfrm>
          <a:prstGeom prst="wedgeRoundRectCallout">
            <a:avLst>
              <a:gd name="adj1" fmla="val -355000"/>
              <a:gd name="adj2" fmla="val -377430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C29-ABC1-4502-95C5-FF282E5D23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nsion and Restriction of Base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 for modifying the types in imported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subclassing in object-oriented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e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 XML Schema type means adding elements or adding attributes to exist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tric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s means tightening the types of the existing elements and attributes (i.e., replacing existing types with subtyp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3F9-0C4B-4181-88D9-573B8ADE13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Extension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hema  xmlns=“http://www.w3.org/2001/XMLSch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xyz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http://xyz.edu/Cour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ooAd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http://foo.edu/Ad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Namespace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http://foo.edu/Ad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import  namespace=“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http://xyz.edu/Cour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mplexType  name=“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cours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complexCont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ase=“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xyz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urs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syllabus”  type=“string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complexCont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ourse”   type=“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fooAd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course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43400" y="3009960"/>
            <a:ext cx="1498680" cy="799920"/>
          </a:xfrm>
          <a:custGeom>
            <a:avLst/>
            <a:gdLst/>
            <a:ahLst/>
            <a:rect l="l" t="t" r="r" b="b"/>
            <a:pathLst>
              <a:path w="944" h="504">
                <a:moveTo>
                  <a:pt x="0" y="72"/>
                </a:moveTo>
                <a:cubicBezTo>
                  <a:pt x="144" y="36"/>
                  <a:pt x="288" y="0"/>
                  <a:pt x="432" y="24"/>
                </a:cubicBezTo>
                <a:cubicBezTo>
                  <a:pt x="576" y="48"/>
                  <a:pt x="784" y="136"/>
                  <a:pt x="864" y="216"/>
                </a:cubicBezTo>
                <a:cubicBezTo>
                  <a:pt x="944" y="296"/>
                  <a:pt x="904" y="456"/>
                  <a:pt x="912" y="504"/>
                </a:cubicBezTo>
              </a:path>
            </a:pathLst>
          </a:custGeom>
          <a:noFill/>
          <a:ln w="9360">
            <a:solidFill>
              <a:srgbClr val="00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352680"/>
            <a:ext cx="1219320" cy="685800"/>
          </a:xfrm>
          <a:prstGeom prst="wedgeRoundRectCallout">
            <a:avLst>
              <a:gd name="adj1" fmla="val -171875"/>
              <a:gd name="adj2" fmla="val -5370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xtends by 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4120" y="4057560"/>
            <a:ext cx="3152520" cy="652680"/>
          </a:xfrm>
          <a:custGeom>
            <a:avLst/>
            <a:gdLst/>
            <a:ahLst/>
            <a:rect l="l" t="t" r="r" b="b"/>
            <a:pathLst>
              <a:path w="1986" h="411">
                <a:moveTo>
                  <a:pt x="1986" y="0"/>
                </a:moveTo>
                <a:cubicBezTo>
                  <a:pt x="1953" y="49"/>
                  <a:pt x="1887" y="228"/>
                  <a:pt x="1789" y="296"/>
                </a:cubicBezTo>
                <a:cubicBezTo>
                  <a:pt x="1691" y="364"/>
                  <a:pt x="1694" y="411"/>
                  <a:pt x="1396" y="408"/>
                </a:cubicBezTo>
                <a:cubicBezTo>
                  <a:pt x="1098" y="405"/>
                  <a:pt x="291" y="304"/>
                  <a:pt x="0" y="276"/>
                </a:cubicBezTo>
              </a:path>
            </a:pathLst>
          </a:custGeom>
          <a:noFill/>
          <a:ln cap="rnd" w="9360">
            <a:solidFill>
              <a:srgbClr val="006600"/>
            </a:solidFill>
            <a:custDash>
              <a:ds d="100000" sp="1000"/>
            </a:custDash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4876920"/>
            <a:ext cx="914400" cy="304560"/>
          </a:xfrm>
          <a:prstGeom prst="wedgeRoundRectCallout">
            <a:avLst>
              <a:gd name="adj1" fmla="val -29513"/>
              <a:gd name="adj2" fmla="val 155208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4800600"/>
            <a:ext cx="914400" cy="304920"/>
          </a:xfrm>
          <a:prstGeom prst="wedgeRoundRectCallout">
            <a:avLst>
              <a:gd name="adj1" fmla="val -79342"/>
              <a:gd name="adj2" fmla="val -47760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9B5-8D0B-49CB-8E0C-EBB9A2D5683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 Restriction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chema  xmlns=“http://www.w3.org/2001/XMLSchem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xyzC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http://xyz.edu/Cours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1" lang="en-US" sz="1600" spc="-1" strike="noStrike">
                <a:solidFill>
                  <a:srgbClr val="990099"/>
                </a:solidFill>
                <a:latin typeface="Times New Roman"/>
              </a:rPr>
              <a:t>fooAd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1600" spc="-1" strike="noStrike">
                <a:solidFill>
                  <a:srgbClr val="990099"/>
                </a:solidFill>
                <a:latin typeface="Times New Roman"/>
              </a:rPr>
              <a:t>http://foo.edu/Adm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Namespace=“</a:t>
            </a:r>
            <a:r>
              <a:rPr b="0" lang="en-US" sz="1600" spc="-1" strike="noStrike">
                <a:solidFill>
                  <a:srgbClr val="990099"/>
                </a:solidFill>
                <a:latin typeface="Times New Roman"/>
              </a:rPr>
              <a:t>http://foo.edu/Adm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import  namespace=“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http://xyz.edu/Cours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omplexType  name=“</a:t>
            </a:r>
            <a:r>
              <a:rPr b="0" i="1" lang="en-US" sz="1600" spc="-1" strike="noStrike">
                <a:solidFill>
                  <a:srgbClr val="006600"/>
                </a:solidFill>
                <a:latin typeface="Times New Roman"/>
              </a:rPr>
              <a:t>student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complex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restri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base=“</a:t>
            </a: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xyzC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udent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lement  name=“Name”  type=“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xyz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sonName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lement  name=“Status”  type=“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xyz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Stat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element  name=“CrsTaken”  type=“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xyz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urseTaken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Occurs=“0”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maxOccurs=“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attribute  name=“StudId”  type=“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xyz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restri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complex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element  name=“Student”  type=“</a:t>
            </a:r>
            <a:r>
              <a:rPr b="1" lang="en-US" sz="1600" spc="-1" strike="noStrike">
                <a:solidFill>
                  <a:srgbClr val="990099"/>
                </a:solidFill>
                <a:latin typeface="Times New Roman"/>
              </a:rPr>
              <a:t>fooAd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udent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3429000"/>
            <a:ext cx="380880" cy="1905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8920" y="4100400"/>
            <a:ext cx="1186560" cy="824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st repe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orig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5410080"/>
            <a:ext cx="1752840" cy="838440"/>
          </a:xfrm>
          <a:prstGeom prst="wedgeRoundRectCallout">
            <a:avLst>
              <a:gd name="adj1" fmla="val -146287"/>
              <a:gd name="adj2" fmla="val -1208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ightened type: the original was “unbound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A24-93FC-47E7-8741-7148B3D4B06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structured Data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the previous student list suitable for machine consumption on the Web, it should have these characteris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-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hemal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guaranteed to conform exactly to any schema, but different objects have some commonality among themselv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f-describ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ome schema-like information, like attribute names, is part of data it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with these characteristics are referred to a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structure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313-EED7-4D65-9F01-2021125174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an XML Schem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chema  xmlns=“http://www.w3.org/2001/XMLSche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ns: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d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http://xyz.edu/Ad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Namespace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http://xyz.edu/Ad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 type=“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ad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report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mplexType  name=“</a:t>
            </a:r>
            <a:r>
              <a:rPr b="0" i="1" lang="en-US" sz="2000" spc="-1" strike="noStrike">
                <a:solidFill>
                  <a:srgbClr val="808080"/>
                </a:solidFill>
                <a:latin typeface="Times New Roman"/>
              </a:rPr>
              <a:t>report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mplexType  name=…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…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2590920"/>
            <a:ext cx="914400" cy="609480"/>
          </a:xfrm>
          <a:prstGeom prst="wedgeRoundRectCallout">
            <a:avLst>
              <a:gd name="adj1" fmla="val -383333"/>
              <a:gd name="adj2" fmla="val -101824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3886200"/>
            <a:ext cx="1828800" cy="685800"/>
          </a:xfrm>
          <a:prstGeom prst="wedgeRoundRectCallout">
            <a:avLst>
              <a:gd name="adj1" fmla="val -125259"/>
              <a:gd name="adj2" fmla="val -150231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finition of root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266688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988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4876920"/>
            <a:ext cx="2895480" cy="1143000"/>
          </a:xfrm>
          <a:prstGeom prst="wedgeRoundRectCallout">
            <a:avLst>
              <a:gd name="adj1" fmla="val -96217"/>
              <a:gd name="adj2" fmla="val -81388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finition  of  types mentioned in the root typ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ypes can also be included or imp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72400" y="2286000"/>
            <a:ext cx="1219320" cy="380880"/>
          </a:xfrm>
          <a:prstGeom prst="wedgeRoundRectCallout">
            <a:avLst>
              <a:gd name="adj1" fmla="val -184763"/>
              <a:gd name="adj2" fmla="val -64166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oot 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238-BDEC-4DCE-AF7D-EC287451B1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onymous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far all types w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when the same type is used in more than one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type definition is used exactly on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onym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pes can sav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Report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Students”  type=“adm:studentList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lasses”  type=“adm:classOfferings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ourses”  type=“adm:courseCatalog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3657600"/>
            <a:ext cx="1949400" cy="369720"/>
          </a:xfrm>
          <a:custGeom>
            <a:avLst/>
            <a:gdLst/>
            <a:ahLst/>
            <a:rect l="l" t="t" r="r" b="b"/>
            <a:pathLst>
              <a:path w="1228" h="233">
                <a:moveTo>
                  <a:pt x="531" y="17"/>
                </a:moveTo>
                <a:cubicBezTo>
                  <a:pt x="407" y="42"/>
                  <a:pt x="540" y="0"/>
                  <a:pt x="270" y="17"/>
                </a:cubicBezTo>
                <a:cubicBezTo>
                  <a:pt x="204" y="21"/>
                  <a:pt x="138" y="38"/>
                  <a:pt x="72" y="44"/>
                </a:cubicBezTo>
                <a:cubicBezTo>
                  <a:pt x="57" y="49"/>
                  <a:pt x="27" y="56"/>
                  <a:pt x="18" y="71"/>
                </a:cubicBezTo>
                <a:cubicBezTo>
                  <a:pt x="8" y="87"/>
                  <a:pt x="0" y="125"/>
                  <a:pt x="0" y="125"/>
                </a:cubicBezTo>
                <a:cubicBezTo>
                  <a:pt x="3" y="137"/>
                  <a:pt x="2" y="151"/>
                  <a:pt x="9" y="161"/>
                </a:cubicBezTo>
                <a:cubicBezTo>
                  <a:pt x="26" y="186"/>
                  <a:pt x="80" y="187"/>
                  <a:pt x="99" y="188"/>
                </a:cubicBezTo>
                <a:cubicBezTo>
                  <a:pt x="189" y="193"/>
                  <a:pt x="279" y="194"/>
                  <a:pt x="369" y="197"/>
                </a:cubicBezTo>
                <a:cubicBezTo>
                  <a:pt x="438" y="208"/>
                  <a:pt x="499" y="222"/>
                  <a:pt x="567" y="233"/>
                </a:cubicBezTo>
                <a:cubicBezTo>
                  <a:pt x="730" y="228"/>
                  <a:pt x="821" y="224"/>
                  <a:pt x="963" y="206"/>
                </a:cubicBezTo>
                <a:cubicBezTo>
                  <a:pt x="1044" y="179"/>
                  <a:pt x="1117" y="154"/>
                  <a:pt x="1188" y="107"/>
                </a:cubicBezTo>
                <a:cubicBezTo>
                  <a:pt x="1228" y="46"/>
                  <a:pt x="1179" y="53"/>
                  <a:pt x="1143" y="26"/>
                </a:cubicBezTo>
                <a:cubicBezTo>
                  <a:pt x="959" y="32"/>
                  <a:pt x="931" y="17"/>
                  <a:pt x="783" y="35"/>
                </a:cubicBezTo>
                <a:cubicBezTo>
                  <a:pt x="656" y="23"/>
                  <a:pt x="625" y="41"/>
                  <a:pt x="531" y="17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3200400"/>
            <a:ext cx="3182760" cy="442800"/>
          </a:xfrm>
          <a:custGeom>
            <a:avLst/>
            <a:gdLst/>
            <a:ahLst/>
            <a:rect l="l" t="t" r="r" b="b"/>
            <a:pathLst>
              <a:path w="2005" h="279">
                <a:moveTo>
                  <a:pt x="1986" y="81"/>
                </a:moveTo>
                <a:cubicBezTo>
                  <a:pt x="1962" y="65"/>
                  <a:pt x="1932" y="48"/>
                  <a:pt x="1905" y="36"/>
                </a:cubicBezTo>
                <a:cubicBezTo>
                  <a:pt x="1888" y="28"/>
                  <a:pt x="1851" y="18"/>
                  <a:pt x="1851" y="18"/>
                </a:cubicBezTo>
                <a:cubicBezTo>
                  <a:pt x="1742" y="23"/>
                  <a:pt x="1650" y="28"/>
                  <a:pt x="1545" y="45"/>
                </a:cubicBezTo>
                <a:cubicBezTo>
                  <a:pt x="1325" y="39"/>
                  <a:pt x="1129" y="27"/>
                  <a:pt x="915" y="0"/>
                </a:cubicBezTo>
                <a:cubicBezTo>
                  <a:pt x="651" y="3"/>
                  <a:pt x="387" y="3"/>
                  <a:pt x="123" y="9"/>
                </a:cubicBezTo>
                <a:cubicBezTo>
                  <a:pt x="92" y="10"/>
                  <a:pt x="42" y="54"/>
                  <a:pt x="42" y="54"/>
                </a:cubicBezTo>
                <a:cubicBezTo>
                  <a:pt x="29" y="93"/>
                  <a:pt x="0" y="129"/>
                  <a:pt x="24" y="171"/>
                </a:cubicBezTo>
                <a:cubicBezTo>
                  <a:pt x="38" y="196"/>
                  <a:pt x="120" y="209"/>
                  <a:pt x="141" y="216"/>
                </a:cubicBezTo>
                <a:cubicBezTo>
                  <a:pt x="252" y="253"/>
                  <a:pt x="357" y="279"/>
                  <a:pt x="492" y="252"/>
                </a:cubicBezTo>
                <a:cubicBezTo>
                  <a:pt x="726" y="264"/>
                  <a:pt x="1298" y="258"/>
                  <a:pt x="1545" y="252"/>
                </a:cubicBezTo>
                <a:cubicBezTo>
                  <a:pt x="1792" y="246"/>
                  <a:pt x="1902" y="245"/>
                  <a:pt x="1977" y="216"/>
                </a:cubicBezTo>
                <a:cubicBezTo>
                  <a:pt x="2005" y="174"/>
                  <a:pt x="1995" y="146"/>
                  <a:pt x="1995" y="81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3657600"/>
            <a:ext cx="1447920" cy="380880"/>
          </a:xfrm>
          <a:prstGeom prst="wedgeRoundRectCallout">
            <a:avLst>
              <a:gd name="adj1" fmla="val -303620"/>
              <a:gd name="adj2" fmla="val -6666"/>
              <a:gd name="adj3" fmla="val 16667"/>
            </a:avLst>
          </a:prstGeom>
          <a:noFill/>
          <a:ln cap="rnd" w="93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 typ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2743200"/>
            <a:ext cx="2514600" cy="609480"/>
          </a:xfrm>
          <a:prstGeom prst="wedgeRoundRectCallout">
            <a:avLst>
              <a:gd name="adj1" fmla="val -113449"/>
              <a:gd name="adj2" fmla="val 45050"/>
              <a:gd name="adj3" fmla="val 16667"/>
            </a:avLst>
          </a:prstGeom>
          <a:noFill/>
          <a:ln cap="rnd" w="9360">
            <a:solidFill>
              <a:srgbClr val="99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ment”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used to be empty element – now isn’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F6B-9347-45C1-9BB9-79B47C1BA44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ity Constraints in XM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TD can specify only very simple kinds of key and referential constraint; only using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Schema also has ID, IDREF as primitive data types, but these can also be used to type elements, not just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, XML Schema can express complex key and foreign key constraints (shown nex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BD3-EAD0-46DE-888D-3AAEB8A4995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ema Ke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 XML document is a sequence of components, which might include elements and attributes, which uniquely identifies document components in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coll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bjects in the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identify that source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ell which sequences form th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, XML Schema u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Path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XML query language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uch) more on XPath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21A-4FCF-441D-8037-780F38A2A9E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Very) Basic XPath – for Key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selected by the various XPath expressions are color co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fferings&gt;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– –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current referenc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ffer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&lt;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ection=“1”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&gt;CS532&lt;/CrsCo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mester&g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Term&gt;Spring&lt;/Term&gt;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&lt;Year&gt;2002&lt;/Yea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mes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ffer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Offer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&lt;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Section=“2”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&gt;CS305&lt;/CrsCod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mester&g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&lt;Term&gt;Fall&lt;/Term&gt;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&lt;Year&gt;2002&lt;/Yea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mes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fferin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Offering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Offering/CrsCode/@S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s occurrences of attribute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rsCo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ing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ffering/CrsCod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s all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rsCo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ment occurrences with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Offering/Semester/Term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er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ments with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est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with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Offering/Semester/Year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Yea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ments with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est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with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1752480"/>
            <a:ext cx="1270080" cy="441360"/>
          </a:xfrm>
          <a:custGeom>
            <a:avLst/>
            <a:gdLst/>
            <a:ahLst/>
            <a:rect l="l" t="t" r="r" b="b"/>
            <a:pathLst>
              <a:path w="830" h="313">
                <a:moveTo>
                  <a:pt x="641" y="26"/>
                </a:moveTo>
                <a:cubicBezTo>
                  <a:pt x="455" y="17"/>
                  <a:pt x="269" y="0"/>
                  <a:pt x="83" y="17"/>
                </a:cubicBezTo>
                <a:cubicBezTo>
                  <a:pt x="21" y="38"/>
                  <a:pt x="23" y="26"/>
                  <a:pt x="2" y="89"/>
                </a:cubicBezTo>
                <a:cubicBezTo>
                  <a:pt x="5" y="140"/>
                  <a:pt x="0" y="192"/>
                  <a:pt x="11" y="242"/>
                </a:cubicBezTo>
                <a:cubicBezTo>
                  <a:pt x="13" y="251"/>
                  <a:pt x="57" y="269"/>
                  <a:pt x="65" y="269"/>
                </a:cubicBezTo>
                <a:cubicBezTo>
                  <a:pt x="263" y="275"/>
                  <a:pt x="461" y="275"/>
                  <a:pt x="659" y="278"/>
                </a:cubicBezTo>
                <a:cubicBezTo>
                  <a:pt x="741" y="294"/>
                  <a:pt x="800" y="313"/>
                  <a:pt x="830" y="224"/>
                </a:cubicBezTo>
                <a:cubicBezTo>
                  <a:pt x="827" y="176"/>
                  <a:pt x="829" y="128"/>
                  <a:pt x="821" y="80"/>
                </a:cubicBezTo>
                <a:cubicBezTo>
                  <a:pt x="812" y="26"/>
                  <a:pt x="675" y="30"/>
                  <a:pt x="641" y="26"/>
                </a:cubicBezTo>
                <a:close/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819520"/>
            <a:ext cx="1376640" cy="450720"/>
          </a:xfrm>
          <a:custGeom>
            <a:avLst/>
            <a:gdLst/>
            <a:ahLst/>
            <a:rect l="l" t="t" r="r" b="b"/>
            <a:pathLst>
              <a:path w="867" h="284">
                <a:moveTo>
                  <a:pt x="489" y="83"/>
                </a:moveTo>
                <a:cubicBezTo>
                  <a:pt x="336" y="87"/>
                  <a:pt x="175" y="34"/>
                  <a:pt x="48" y="119"/>
                </a:cubicBezTo>
                <a:cubicBezTo>
                  <a:pt x="7" y="181"/>
                  <a:pt x="19" y="152"/>
                  <a:pt x="3" y="200"/>
                </a:cubicBezTo>
                <a:cubicBezTo>
                  <a:pt x="6" y="218"/>
                  <a:pt x="0" y="240"/>
                  <a:pt x="12" y="254"/>
                </a:cubicBezTo>
                <a:cubicBezTo>
                  <a:pt x="24" y="268"/>
                  <a:pt x="48" y="266"/>
                  <a:pt x="66" y="272"/>
                </a:cubicBezTo>
                <a:cubicBezTo>
                  <a:pt x="75" y="275"/>
                  <a:pt x="93" y="281"/>
                  <a:pt x="93" y="281"/>
                </a:cubicBezTo>
                <a:cubicBezTo>
                  <a:pt x="339" y="278"/>
                  <a:pt x="585" y="284"/>
                  <a:pt x="831" y="272"/>
                </a:cubicBezTo>
                <a:cubicBezTo>
                  <a:pt x="861" y="271"/>
                  <a:pt x="867" y="191"/>
                  <a:pt x="867" y="191"/>
                </a:cubicBezTo>
                <a:cubicBezTo>
                  <a:pt x="851" y="0"/>
                  <a:pt x="846" y="64"/>
                  <a:pt x="606" y="74"/>
                </a:cubicBezTo>
                <a:cubicBezTo>
                  <a:pt x="556" y="84"/>
                  <a:pt x="540" y="93"/>
                  <a:pt x="489" y="83"/>
                </a:cubicBezTo>
                <a:close/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F5A-0EDC-4652-A441-41ABAA8B748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s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mplexType  name=“reportType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Students”  …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lasses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lass”  minOccurs=“0”  maxOccurs=“unbounded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rsCode”  …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Semester” …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lassRoster”  …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equen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… …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key specification goes here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– next slide …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element  name=“Courses”  …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833-F8BC-4ACC-BE6F-5D30922451B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ey specification for the previous docu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=“PrimaryKeyForClass”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sel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path=“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path=“CrsCode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path=“Semester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2666880"/>
            <a:ext cx="2743200" cy="1447920"/>
          </a:xfrm>
          <a:prstGeom prst="wedgeRoundRectCallout">
            <a:avLst>
              <a:gd name="adj1" fmla="val -135416"/>
              <a:gd name="adj2" fmla="val -58662"/>
              <a:gd name="adj3" fmla="val 16667"/>
            </a:avLst>
          </a:prstGeom>
          <a:noFill/>
          <a:ln cap="rnd" w="9360">
            <a:solidFill>
              <a:srgbClr val="99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fin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ource collectio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of objects to which the key applies. The XPath expression is relative to element to which the key is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297180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5105520"/>
            <a:ext cx="4343400" cy="1143000"/>
          </a:xfrm>
          <a:prstGeom prst="wedgeRoundRectCallout">
            <a:avLst>
              <a:gd name="adj1" fmla="val -39037"/>
              <a:gd name="adj2" fmla="val -184722"/>
              <a:gd name="adj3" fmla="val 16667"/>
            </a:avLst>
          </a:prstGeom>
          <a:noFill/>
          <a:ln cap="rnd" w="936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elds that form the k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XPath expression is relative to the source collection of objects specified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s actual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es/Class/Crs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1360" y="5143680"/>
            <a:ext cx="2682720" cy="9169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field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ust return exactly one value per object specified by 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6000" y="3429000"/>
            <a:ext cx="1003320" cy="1752480"/>
          </a:xfrm>
          <a:custGeom>
            <a:avLst/>
            <a:gdLst/>
            <a:ahLst/>
            <a:rect l="l" t="t" r="r" b="b"/>
            <a:pathLst>
              <a:path w="632" h="1104">
                <a:moveTo>
                  <a:pt x="152" y="1104"/>
                </a:moveTo>
                <a:cubicBezTo>
                  <a:pt x="84" y="956"/>
                  <a:pt x="16" y="808"/>
                  <a:pt x="8" y="672"/>
                </a:cubicBezTo>
                <a:cubicBezTo>
                  <a:pt x="0" y="536"/>
                  <a:pt x="0" y="400"/>
                  <a:pt x="104" y="288"/>
                </a:cubicBezTo>
                <a:cubicBezTo>
                  <a:pt x="208" y="176"/>
                  <a:pt x="544" y="48"/>
                  <a:pt x="632" y="0"/>
                </a:cubicBezTo>
              </a:path>
            </a:pathLst>
          </a:custGeom>
          <a:noFill/>
          <a:ln w="9360">
            <a:solidFill>
              <a:srgbClr val="6633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B14-9349-458C-9172-0684F0FFFB7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eign Ke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ke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 in SQL, but more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specif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urce col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 that form the foreig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rget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eviously defin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pecification, which is comprised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arget coll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of fields that comprise th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FCA-8F41-4178-90CD-675C50BB4DB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eign Key: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class must have at least one stu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key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=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Empty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re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adm: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PrimaryKeyFor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el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path=“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/CrsTak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path=“@CrsCode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xpath=“@Semester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key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24680" y="3809880"/>
            <a:ext cx="1067040" cy="609840"/>
          </a:xfrm>
          <a:prstGeom prst="wedgeRoundRectCallout">
            <a:avLst>
              <a:gd name="adj1" fmla="val -54462"/>
              <a:gd name="adj2" fmla="val -292449"/>
              <a:gd name="adj3" fmla="val 16667"/>
            </a:avLst>
          </a:prstGeom>
          <a:noFill/>
          <a:ln cap="rnd" w="9360">
            <a:solidFill>
              <a:srgbClr val="99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arget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3276720"/>
            <a:ext cx="1218960" cy="685800"/>
          </a:xfrm>
          <a:prstGeom prst="wedgeRoundRectCallout">
            <a:avLst>
              <a:gd name="adj1" fmla="val -125388"/>
              <a:gd name="adj2" fmla="val -136805"/>
              <a:gd name="adj3" fmla="val 16667"/>
            </a:avLst>
          </a:prstGeom>
          <a:noFill/>
          <a:ln cap="rnd" w="936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urc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312408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4648320"/>
            <a:ext cx="3276720" cy="990360"/>
          </a:xfrm>
          <a:prstGeom prst="wedgeRoundRectCallout">
            <a:avLst>
              <a:gd name="adj1" fmla="val -53731"/>
              <a:gd name="adj2" fmla="val -142148"/>
              <a:gd name="adj3" fmla="val 16667"/>
            </a:avLst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ields of the foreign k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Path expressions are relative to the sourc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760" y="5029200"/>
            <a:ext cx="458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ove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key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laration is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element declaration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14E-2105-4190-BFCC-76D1776FC90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Query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 – core query language. Very limited, a glorified selection operator. Very useful, though: used in XML Schema, XSLT, XQuery, many other XML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SLT – a functional style document transformation language. Very powerfu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l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Query – W3C standard. Very powerful, fairly intuitive, SQL-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/XML – attempt to marry SQL and XML, part of SQL: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E2A-8B1A-472B-A358-A44D461C668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elf-describing Da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self-describing (relational, object-orient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#123,  [“Students”,   {[“John”, s111111111, [123,”Main St”]]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“Joe”, s222222222, [321, “Pine St”]]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a 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s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tr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[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tr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tr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teger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tring] 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B44-61C4-46AF-BED8-8A271245EC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Query X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tract parts of XML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transform documents into different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relate – join – parts of the same or differen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08A-E969-48BA-8ECD-DFF0DC9E80B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path expressions in object-oriented languages (e.g., O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s path expressions with query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 views an XML document as a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of the tree is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, which doesn’t correspond to anything in the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nodes ar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 are ei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things that we didn’t discuss (processing instructions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41D-915E-434D-A7F3-BCB39D00CE4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Path Document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05920" cy="522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666880" y="1219320"/>
            <a:ext cx="1143000" cy="15228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52720" y="10666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ot of XML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57440" y="1447920"/>
            <a:ext cx="1600200" cy="838080"/>
          </a:xfrm>
          <a:prstGeom prst="line">
            <a:avLst/>
          </a:prstGeom>
          <a:ln w="936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9907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ot of XML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40F-2817-4FBB-A198-C76C71DFE98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cument Corresponding to the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ragment of the report document that we used frequ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?xml  version=“1.0”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-- Some  comment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Student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StudId=“111111111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ame&gt;&lt;First&gt;John&lt;/First&gt;&lt;Last&gt;Doe&lt;/Last&gt;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atus&gt;U2&lt;/Statu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08”  Semester=“F1997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MAT123”  Semester=“F1997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tud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StudId=“987654321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ame&gt;&lt;First&gt;Bart&lt;/First&gt;&lt;Last&gt;Simpson&lt;/Last&gt;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atus&gt;U4&lt;/Statu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CrsCode=“CS308”  Semester=“F1994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tud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/Student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!-- Some other comment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51E-F919-4511-BD47-F63882EB626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odes, as u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nodes (that are of interest to us) are of typ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ll them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childr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childr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childr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hild-nodes that are either elements or text,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e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childr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hild nodes that are either elements or attribut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or/descendant nodes – as usual in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93C-068E-4EBA-A0A4-E09AF0F83B6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Path expression takes a document tree as input and returns a multi-set of nodes of the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s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solute path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– returns root node of XPat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returns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lements that are children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, which in turn must be children of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returns empty set (no such children at ro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FD5-0615-4091-B09E-C351D079C58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 Basic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) – exists during the evaluation of XPath expressions (and in other XML query langua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enotes the current node;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enotes the pa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/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returns a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elements that are children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des, which in turn are children of the current n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foo/b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abc/c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-children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-children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curre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s that don’t start with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o the current n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9BB-52BF-4B67-837E-35DC5B35EB2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, Text,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Students/Student/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@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returns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-children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are e-children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are children of the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Students/Student/Name/Last/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text(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returns all t-children of Last e-children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omment(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 nodes under 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 provides means to select other document components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72200" y="1447920"/>
            <a:ext cx="1295280" cy="609480"/>
          </a:xfrm>
          <a:prstGeom prst="wedgeRoundRectCallout">
            <a:avLst>
              <a:gd name="adj1" fmla="val -250736"/>
              <a:gd name="adj2" fmla="val 10520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notes  an attrib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E9F-264C-4A37-9543-D08246EB55B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all Idea and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XPath expression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tep1/locationStep2/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::nodeSelector[predicat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x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ild, pa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have s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cestor, descendant, ancestor-or-self, descendant-or-sel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will see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de se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de name or wildcard; 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/child::Student  (we used  ./Student, which is an abbrev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/child::*   – any e-child  (abbreviation:  ./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selection condition; e.g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s/Student[CourseTaken/@CrsCode = “CS532”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81480" y="838080"/>
            <a:ext cx="3810240" cy="1524240"/>
          </a:xfrm>
          <a:prstGeom prst="wedgeRoundRectCallout">
            <a:avLst>
              <a:gd name="adj1" fmla="val -100499"/>
              <a:gd name="adj2" fmla="val 5208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fu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ynta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used 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abbrevi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yntax bef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yntax is better for describing meaning. Abbreviated syntax is better for programm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C91-DD15-4BF5-A8F9-87794A40CD7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Path Seman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aning of the expres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Step1/locationStep2/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all document nodes obtain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nodes reachable b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Step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e curre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result, find all nodes reachable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tep2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the union of all these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node in the result, find all nodes reachable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tep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the path expression on a document is the set of all document nodes found after processing the last location step in the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32E-5158-4914-BA27-0CBA6686D09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elf-Describing Data? (contd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f-describ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 names embedded in the data itself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t are distinguish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need schema to figure out what is what (but schema might be useful nonethe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#12345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st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“Students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{ [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“John Doe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“s111111111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123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“Main St.”] ]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“Joe Public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“s222222222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[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321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“Pine St.”] ]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C05-02FA-4275-9AE3-4B2CD50201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all Idea of the Semantic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Step1/locationStep2/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nodes specified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te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uch node 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 all nodes specified b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Step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ing N as the curre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node returned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te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s::node[predicate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nodes specified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::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nly those that satisf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0E9-95A5-4DBA-8709-4AE2D6EB12F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Navigation Prim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sTak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ild of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ild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[1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sTaken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[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Tak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s within each Student el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Students/Student/CrsTaken[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last(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39A-3A58-4DC0-A224-4AD8ACA021B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dc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dcards are useful when the exact structure of document is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scendant-or-sel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xis,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//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llows to descend down any number of levels (including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sTa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– a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sTa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des under the 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– al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ribute nodes under the elements Students, who are children of the curre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s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wildc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 –  any element: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/*/tex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*  –  any attribute: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s//@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7F7-B0E3-4F56-932E-52DDB131C0B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Path Queries (selection predicat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: Location ste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::nodeSelector[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at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 expression = const | built-in function | XPath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-in pred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oolean combination there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::nodeSelector[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s::nodeSelector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ontains only the nodes that satisf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e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predicate:  special predicates for string matching, set manipula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function: large assortment of functions for string manipulation, aggrega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57A-44E7-4FEA-9337-378E83BDD18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 Queries –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ho have taken CS53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Student[CrsTaken/@CrsCode=“CS532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e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“CS532”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/Student/CrsTaken/@Cr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Student[Status=“U3” 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arts-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//Last, “A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nc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//@CrsCode),  “ES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//Last = .//First)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:  sum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count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Student[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//@Grade) div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//@Grade)  &gt;  3.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AD32-3FB1-467A-B434-98973761DB4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th Querie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whether a subnode exi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tudent[CrsTaken/@Grade]   –  students who have a grade (for some cour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tudent[Name/First or  CrsTaken/@Seme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atus/text() = “U4”]   –  students who have either a first name or have taken a course in some semester or have status U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 operator,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CrsTaken[@Semester=“F2001”]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Class[Semester=“F1990”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on lets us def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terogene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lections of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037-CD66-4C92-95A0-7A94818831A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oi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ointer =  URL + 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RL on ster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#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xpo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XPathExpr1)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xpo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XPathExpr2)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XPathExp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 non-empty?  –  return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:  compute XPathExpr2; and so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you might click on a link and run a query against your Registrar’s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yours.edu/Report.xml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#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xpoi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tudent[CrsTaken/@CrsCode=“CS53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rsTaken/@Semester=“S2002” 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43D-CC2C-4A9A-BD92-15DCB5D4DCE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SLT: XML Transformation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programming language, us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al programming paradi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designed as a stylesheet language: this is what “S”, “L”, and “T” stand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was to use it to display XML documents by transforming them into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reason, XSLT programs are often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yle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use is not limited to stylesheets – can be used to query XML documents, transform documen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ide use, but semantics is very compl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445-003E-47EF-A6CA-84680F4AD2F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SLT Bas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y to apply an XSLT program to an XML document is to specify the program as a stylesheet in the doc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am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cessing instr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?xml version=“1.0” 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&lt;?xml-stylesheet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text/xs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hr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“http://xyz.edu/Report/report.xsl”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Report  Date=“2002-11-1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Re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0" y="2743200"/>
            <a:ext cx="1905120" cy="609480"/>
          </a:xfrm>
          <a:prstGeom prst="wedgeRoundRectCallout">
            <a:avLst>
              <a:gd name="adj1" fmla="val -246999"/>
              <a:gd name="adj2" fmla="val 11927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essing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3733920"/>
            <a:ext cx="380880" cy="1371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-46080" y="41986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Pream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66D-3601-4E96-B80F-79D091E5A59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ract the list of all 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2800" spc="-1" strike="noStrike" u="sng">
                <a:solidFill>
                  <a:srgbClr val="4d4d4d"/>
                </a:solidFill>
                <a:uFillTx/>
                <a:latin typeface="Times New Roman"/>
                <a:hlinkClick r:id="rId1" action="ppaction://hlinksldjump"/>
              </a:rPr>
              <a:t>this (hyperlinked)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?xml version=“1.0”  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xmlns:xsl=“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http://www.w3.org/1999/XSL/Trans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:version=“1.0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py-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elect=“//Student/Name” 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ame&gt;&lt;First&gt;John&lt;/First&gt;&lt;Last&gt;Doe&lt;/Last&gt;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ame&gt;&lt;First&gt;Bart&lt;/First&gt;&lt;Last&gt;Simpson&lt;/Last&gt;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Li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z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 we use the XSLT namespace as the default namespace in a styleshe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What problem might ar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1676520"/>
            <a:ext cx="2590920" cy="304560"/>
          </a:xfrm>
          <a:prstGeom prst="wedgeRoundRectCallout">
            <a:avLst>
              <a:gd name="adj1" fmla="val -79226"/>
              <a:gd name="adj2" fmla="val 119791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ndard XSLT name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280" y="2590920"/>
            <a:ext cx="1143000" cy="685800"/>
          </a:xfrm>
          <a:prstGeom prst="wedgeRoundRectCallout">
            <a:avLst>
              <a:gd name="adj1" fmla="val 95000"/>
              <a:gd name="adj2" fmla="val -62037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sult document skel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2590920"/>
            <a:ext cx="1143000" cy="685800"/>
          </a:xfrm>
          <a:prstGeom prst="wedgeRoundRectCallout">
            <a:avLst>
              <a:gd name="adj1" fmla="val 88750"/>
              <a:gd name="adj2" fmla="val 78240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3657600"/>
            <a:ext cx="2895840" cy="533520"/>
          </a:xfrm>
          <a:prstGeom prst="wedgeRoundRectCallout">
            <a:avLst>
              <a:gd name="adj1" fmla="val -139472"/>
              <a:gd name="adj2" fmla="val -8333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SLT instruction – copies the result of path expression to std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1DDD-81C5-40B6-B5B3-5041F5F9B83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– The De Facto Standard for Semistructur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: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si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ku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able for semistructured data and has become a standa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describe object-lik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-describ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require a schema (but can be provided option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u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Ds – an older way to specify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Schema – a newer, more powerful (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re complex!) way of specifying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and transformation langu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/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B5F-8C59-46D6-8F27-6E8FE3B39B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mplex (Still Simple) Stylesh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List  xmlns:xsl=“http://www.w3.org/1999/XSL/Transfor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:version=“1.0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r-e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elect=“//Student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est=“count(CrsTaken) &amp;gt; 1”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ull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value-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elect=“*/Last” /&gt;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value-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elect=“*/First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ull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xsl: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xsl: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r-e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tudent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00600" y="4724280"/>
            <a:ext cx="3200400" cy="18010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udent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ull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, Jo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FullName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tudent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77120" y="2133720"/>
            <a:ext cx="2438280" cy="914400"/>
          </a:xfrm>
          <a:prstGeom prst="wedgeRoundRectCallout">
            <a:avLst>
              <a:gd name="adj1" fmla="val -161328"/>
              <a:gd name="adj2" fmla="val 6545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xtrac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lement, not the element itself (unlike copy-o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C13-77BE-4254-94DA-E9127ED03ED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T Pattern-based Templ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the real power 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lso where the peril lu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s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how to process XML documents by descending into their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syntax was just a shorthand for template syntax – nex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401-8481-4067-89D9-AD4BF2DCAA1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ll Syntax vs. Simplified Synt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&lt;StudentLi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mlns:xsl=“http://www.w3.org/1999/XSL/Transfor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:version=“1.0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&lt;xsl:for-each  select=“//Student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… 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&lt;/Student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synta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stylesh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xmlns:xsl=“http://www.w3.org/1999/XSL/Transfor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:version=“1.0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templ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atch=“/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&lt;Student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&lt;xsl:for-each  select=“//Student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          … 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&lt;/Student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xsl: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templ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xsl:</a:t>
            </a:r>
            <a:r>
              <a:rPr b="0" lang="en-US" sz="1800" spc="-1" strike="noStrike">
                <a:solidFill>
                  <a:srgbClr val="990099"/>
                </a:solidFill>
                <a:latin typeface="Times New Roman"/>
              </a:rPr>
              <a:t>stylesh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7320" y="1512720"/>
            <a:ext cx="4348080" cy="1818000"/>
          </a:xfrm>
          <a:custGeom>
            <a:avLst/>
            <a:gdLst/>
            <a:ahLst/>
            <a:rect l="l" t="t" r="r" b="b"/>
            <a:pathLst>
              <a:path w="2739" h="1145">
                <a:moveTo>
                  <a:pt x="521" y="28"/>
                </a:moveTo>
                <a:cubicBezTo>
                  <a:pt x="443" y="22"/>
                  <a:pt x="399" y="23"/>
                  <a:pt x="332" y="1"/>
                </a:cubicBezTo>
                <a:cubicBezTo>
                  <a:pt x="310" y="3"/>
                  <a:pt x="227" y="0"/>
                  <a:pt x="188" y="19"/>
                </a:cubicBezTo>
                <a:cubicBezTo>
                  <a:pt x="143" y="41"/>
                  <a:pt x="128" y="77"/>
                  <a:pt x="107" y="118"/>
                </a:cubicBezTo>
                <a:cubicBezTo>
                  <a:pt x="72" y="189"/>
                  <a:pt x="45" y="266"/>
                  <a:pt x="26" y="343"/>
                </a:cubicBezTo>
                <a:cubicBezTo>
                  <a:pt x="14" y="486"/>
                  <a:pt x="0" y="634"/>
                  <a:pt x="35" y="775"/>
                </a:cubicBezTo>
                <a:cubicBezTo>
                  <a:pt x="38" y="811"/>
                  <a:pt x="40" y="847"/>
                  <a:pt x="44" y="883"/>
                </a:cubicBezTo>
                <a:cubicBezTo>
                  <a:pt x="54" y="980"/>
                  <a:pt x="72" y="1055"/>
                  <a:pt x="179" y="1072"/>
                </a:cubicBezTo>
                <a:cubicBezTo>
                  <a:pt x="206" y="1076"/>
                  <a:pt x="233" y="1078"/>
                  <a:pt x="260" y="1081"/>
                </a:cubicBezTo>
                <a:cubicBezTo>
                  <a:pt x="302" y="1095"/>
                  <a:pt x="344" y="1103"/>
                  <a:pt x="386" y="1117"/>
                </a:cubicBezTo>
                <a:cubicBezTo>
                  <a:pt x="814" y="1113"/>
                  <a:pt x="1145" y="1145"/>
                  <a:pt x="1529" y="1090"/>
                </a:cubicBezTo>
                <a:cubicBezTo>
                  <a:pt x="1570" y="1076"/>
                  <a:pt x="1613" y="1065"/>
                  <a:pt x="1655" y="1054"/>
                </a:cubicBezTo>
                <a:cubicBezTo>
                  <a:pt x="1707" y="1019"/>
                  <a:pt x="1698" y="965"/>
                  <a:pt x="1754" y="946"/>
                </a:cubicBezTo>
                <a:cubicBezTo>
                  <a:pt x="1792" y="908"/>
                  <a:pt x="1834" y="906"/>
                  <a:pt x="1880" y="883"/>
                </a:cubicBezTo>
                <a:cubicBezTo>
                  <a:pt x="1928" y="859"/>
                  <a:pt x="1972" y="837"/>
                  <a:pt x="2024" y="820"/>
                </a:cubicBezTo>
                <a:cubicBezTo>
                  <a:pt x="2034" y="817"/>
                  <a:pt x="2041" y="806"/>
                  <a:pt x="2051" y="802"/>
                </a:cubicBezTo>
                <a:cubicBezTo>
                  <a:pt x="2086" y="787"/>
                  <a:pt x="2105" y="799"/>
                  <a:pt x="2141" y="775"/>
                </a:cubicBezTo>
                <a:cubicBezTo>
                  <a:pt x="2184" y="746"/>
                  <a:pt x="2238" y="735"/>
                  <a:pt x="2285" y="712"/>
                </a:cubicBezTo>
                <a:cubicBezTo>
                  <a:pt x="2327" y="691"/>
                  <a:pt x="2365" y="673"/>
                  <a:pt x="2411" y="658"/>
                </a:cubicBezTo>
                <a:cubicBezTo>
                  <a:pt x="2452" y="644"/>
                  <a:pt x="2490" y="614"/>
                  <a:pt x="2528" y="595"/>
                </a:cubicBezTo>
                <a:cubicBezTo>
                  <a:pt x="2601" y="559"/>
                  <a:pt x="2645" y="559"/>
                  <a:pt x="2708" y="496"/>
                </a:cubicBezTo>
                <a:cubicBezTo>
                  <a:pt x="2723" y="450"/>
                  <a:pt x="2739" y="429"/>
                  <a:pt x="2717" y="379"/>
                </a:cubicBezTo>
                <a:cubicBezTo>
                  <a:pt x="2705" y="352"/>
                  <a:pt x="2636" y="343"/>
                  <a:pt x="2636" y="343"/>
                </a:cubicBezTo>
                <a:cubicBezTo>
                  <a:pt x="2177" y="349"/>
                  <a:pt x="2140" y="316"/>
                  <a:pt x="1853" y="388"/>
                </a:cubicBezTo>
                <a:cubicBezTo>
                  <a:pt x="1703" y="385"/>
                  <a:pt x="1553" y="386"/>
                  <a:pt x="1403" y="379"/>
                </a:cubicBezTo>
                <a:cubicBezTo>
                  <a:pt x="1355" y="377"/>
                  <a:pt x="1259" y="361"/>
                  <a:pt x="1259" y="361"/>
                </a:cubicBezTo>
                <a:cubicBezTo>
                  <a:pt x="1217" y="363"/>
                  <a:pt x="989" y="406"/>
                  <a:pt x="962" y="325"/>
                </a:cubicBezTo>
                <a:cubicBezTo>
                  <a:pt x="968" y="257"/>
                  <a:pt x="969" y="214"/>
                  <a:pt x="989" y="154"/>
                </a:cubicBezTo>
                <a:cubicBezTo>
                  <a:pt x="986" y="121"/>
                  <a:pt x="990" y="87"/>
                  <a:pt x="980" y="55"/>
                </a:cubicBezTo>
                <a:cubicBezTo>
                  <a:pt x="975" y="39"/>
                  <a:pt x="926" y="29"/>
                  <a:pt x="917" y="28"/>
                </a:cubicBezTo>
                <a:cubicBezTo>
                  <a:pt x="884" y="24"/>
                  <a:pt x="851" y="19"/>
                  <a:pt x="818" y="19"/>
                </a:cubicBezTo>
                <a:cubicBezTo>
                  <a:pt x="719" y="19"/>
                  <a:pt x="620" y="25"/>
                  <a:pt x="521" y="28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4552920"/>
            <a:ext cx="3857760" cy="1447920"/>
          </a:xfrm>
          <a:custGeom>
            <a:avLst/>
            <a:gdLst/>
            <a:ahLst/>
            <a:rect l="l" t="t" r="r" b="b"/>
            <a:pathLst>
              <a:path w="2430" h="912">
                <a:moveTo>
                  <a:pt x="1206" y="48"/>
                </a:moveTo>
                <a:cubicBezTo>
                  <a:pt x="872" y="0"/>
                  <a:pt x="1218" y="29"/>
                  <a:pt x="378" y="39"/>
                </a:cubicBezTo>
                <a:cubicBezTo>
                  <a:pt x="318" y="46"/>
                  <a:pt x="256" y="49"/>
                  <a:pt x="198" y="66"/>
                </a:cubicBezTo>
                <a:cubicBezTo>
                  <a:pt x="168" y="74"/>
                  <a:pt x="117" y="111"/>
                  <a:pt x="117" y="111"/>
                </a:cubicBezTo>
                <a:cubicBezTo>
                  <a:pt x="111" y="120"/>
                  <a:pt x="107" y="130"/>
                  <a:pt x="99" y="138"/>
                </a:cubicBezTo>
                <a:cubicBezTo>
                  <a:pt x="91" y="146"/>
                  <a:pt x="79" y="148"/>
                  <a:pt x="72" y="156"/>
                </a:cubicBezTo>
                <a:cubicBezTo>
                  <a:pt x="66" y="163"/>
                  <a:pt x="67" y="174"/>
                  <a:pt x="63" y="183"/>
                </a:cubicBezTo>
                <a:cubicBezTo>
                  <a:pt x="36" y="245"/>
                  <a:pt x="16" y="306"/>
                  <a:pt x="0" y="372"/>
                </a:cubicBezTo>
                <a:cubicBezTo>
                  <a:pt x="3" y="429"/>
                  <a:pt x="4" y="486"/>
                  <a:pt x="9" y="543"/>
                </a:cubicBezTo>
                <a:cubicBezTo>
                  <a:pt x="15" y="616"/>
                  <a:pt x="76" y="677"/>
                  <a:pt x="108" y="741"/>
                </a:cubicBezTo>
                <a:cubicBezTo>
                  <a:pt x="112" y="749"/>
                  <a:pt x="112" y="760"/>
                  <a:pt x="117" y="768"/>
                </a:cubicBezTo>
                <a:cubicBezTo>
                  <a:pt x="128" y="787"/>
                  <a:pt x="141" y="804"/>
                  <a:pt x="153" y="822"/>
                </a:cubicBezTo>
                <a:cubicBezTo>
                  <a:pt x="158" y="830"/>
                  <a:pt x="155" y="842"/>
                  <a:pt x="162" y="849"/>
                </a:cubicBezTo>
                <a:cubicBezTo>
                  <a:pt x="201" y="888"/>
                  <a:pt x="255" y="899"/>
                  <a:pt x="306" y="912"/>
                </a:cubicBezTo>
                <a:cubicBezTo>
                  <a:pt x="634" y="898"/>
                  <a:pt x="914" y="890"/>
                  <a:pt x="1260" y="885"/>
                </a:cubicBezTo>
                <a:cubicBezTo>
                  <a:pt x="1284" y="882"/>
                  <a:pt x="1308" y="879"/>
                  <a:pt x="1332" y="876"/>
                </a:cubicBezTo>
                <a:cubicBezTo>
                  <a:pt x="1389" y="870"/>
                  <a:pt x="1503" y="858"/>
                  <a:pt x="1503" y="858"/>
                </a:cubicBezTo>
                <a:cubicBezTo>
                  <a:pt x="1512" y="855"/>
                  <a:pt x="1521" y="851"/>
                  <a:pt x="1530" y="849"/>
                </a:cubicBezTo>
                <a:cubicBezTo>
                  <a:pt x="1548" y="845"/>
                  <a:pt x="1566" y="845"/>
                  <a:pt x="1584" y="840"/>
                </a:cubicBezTo>
                <a:cubicBezTo>
                  <a:pt x="1609" y="833"/>
                  <a:pt x="1632" y="821"/>
                  <a:pt x="1656" y="813"/>
                </a:cubicBezTo>
                <a:cubicBezTo>
                  <a:pt x="1668" y="809"/>
                  <a:pt x="1680" y="807"/>
                  <a:pt x="1692" y="804"/>
                </a:cubicBezTo>
                <a:cubicBezTo>
                  <a:pt x="1749" y="766"/>
                  <a:pt x="1811" y="732"/>
                  <a:pt x="1863" y="687"/>
                </a:cubicBezTo>
                <a:cubicBezTo>
                  <a:pt x="1912" y="645"/>
                  <a:pt x="1962" y="597"/>
                  <a:pt x="2016" y="561"/>
                </a:cubicBezTo>
                <a:cubicBezTo>
                  <a:pt x="2060" y="496"/>
                  <a:pt x="2143" y="477"/>
                  <a:pt x="2214" y="453"/>
                </a:cubicBezTo>
                <a:cubicBezTo>
                  <a:pt x="2224" y="450"/>
                  <a:pt x="2231" y="439"/>
                  <a:pt x="2241" y="435"/>
                </a:cubicBezTo>
                <a:cubicBezTo>
                  <a:pt x="2258" y="427"/>
                  <a:pt x="2277" y="423"/>
                  <a:pt x="2295" y="417"/>
                </a:cubicBezTo>
                <a:cubicBezTo>
                  <a:pt x="2295" y="417"/>
                  <a:pt x="2362" y="372"/>
                  <a:pt x="2376" y="363"/>
                </a:cubicBezTo>
                <a:cubicBezTo>
                  <a:pt x="2385" y="357"/>
                  <a:pt x="2403" y="345"/>
                  <a:pt x="2403" y="345"/>
                </a:cubicBezTo>
                <a:cubicBezTo>
                  <a:pt x="2412" y="331"/>
                  <a:pt x="2430" y="310"/>
                  <a:pt x="2430" y="291"/>
                </a:cubicBezTo>
                <a:cubicBezTo>
                  <a:pt x="2430" y="146"/>
                  <a:pt x="2320" y="143"/>
                  <a:pt x="2214" y="111"/>
                </a:cubicBezTo>
                <a:cubicBezTo>
                  <a:pt x="2196" y="106"/>
                  <a:pt x="2179" y="94"/>
                  <a:pt x="2160" y="93"/>
                </a:cubicBezTo>
                <a:cubicBezTo>
                  <a:pt x="2058" y="90"/>
                  <a:pt x="1956" y="87"/>
                  <a:pt x="1854" y="84"/>
                </a:cubicBezTo>
                <a:cubicBezTo>
                  <a:pt x="1700" y="73"/>
                  <a:pt x="1548" y="49"/>
                  <a:pt x="1395" y="30"/>
                </a:cubicBezTo>
                <a:cubicBezTo>
                  <a:pt x="1356" y="33"/>
                  <a:pt x="1317" y="33"/>
                  <a:pt x="1278" y="39"/>
                </a:cubicBezTo>
                <a:cubicBezTo>
                  <a:pt x="1202" y="51"/>
                  <a:pt x="1247" y="68"/>
                  <a:pt x="1206" y="48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5" idx="0"/>
            <a:endCxn id="376" idx="0"/>
          </p:cNvCxnSpPr>
          <p:nvPr/>
        </p:nvCxnSpPr>
        <p:spPr>
          <a:xfrm>
            <a:off x="5100480" y="2114640"/>
            <a:ext cx="586800" cy="2900880"/>
          </a:xfrm>
          <a:prstGeom prst="curvedConnector5">
            <a:avLst>
              <a:gd name="adj1" fmla="val 519459"/>
              <a:gd name="adj2" fmla="val 49993"/>
              <a:gd name="adj3" fmla="val 519459"/>
            </a:avLst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85B-CE1F-45DF-A7F5-CC1C55F50B8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ursive Styleshe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nch of templates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template  match=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Path-exp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ags, XSLT instru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 is applied to the node tha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r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valuation process (will describe this process la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 is used if its XPath express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tch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ched” means: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rrent n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ult set of XPath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everal templates match: us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est matching 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 with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mall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y inclusion) XPath expression result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everal of those:  other rules apply (see XSLT spe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mplate matches, use the match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one default template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children and one f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children – 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504-6163-4673-AC9A-35B842E3F4A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ursive Traversal of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apply-templates/&gt;  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SLT instruction that drives the recursive process of descending into the document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s the list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ildren of the curre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node in the list, applies the best matching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ical initial templ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template  match=“/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udent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apply-templates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tudent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s  &lt;StudentList&gt;  –  &lt;/StudentList&gt;  tag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es templates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ildren of the curren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whatever output is produced in-between &lt;StudentList&gt; and &lt;/Student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19440" y="3065400"/>
            <a:ext cx="738360" cy="335160"/>
          </a:xfrm>
          <a:custGeom>
            <a:avLst/>
            <a:gdLst/>
            <a:ahLst/>
            <a:rect l="l" t="t" r="r" b="b"/>
            <a:pathLst>
              <a:path w="465" h="211">
                <a:moveTo>
                  <a:pt x="339" y="13"/>
                </a:moveTo>
                <a:cubicBezTo>
                  <a:pt x="277" y="34"/>
                  <a:pt x="212" y="20"/>
                  <a:pt x="150" y="4"/>
                </a:cubicBezTo>
                <a:cubicBezTo>
                  <a:pt x="64" y="18"/>
                  <a:pt x="82" y="14"/>
                  <a:pt x="15" y="58"/>
                </a:cubicBezTo>
                <a:cubicBezTo>
                  <a:pt x="33" y="157"/>
                  <a:pt x="0" y="190"/>
                  <a:pt x="105" y="211"/>
                </a:cubicBezTo>
                <a:cubicBezTo>
                  <a:pt x="259" y="204"/>
                  <a:pt x="267" y="211"/>
                  <a:pt x="375" y="184"/>
                </a:cubicBezTo>
                <a:cubicBezTo>
                  <a:pt x="385" y="155"/>
                  <a:pt x="401" y="150"/>
                  <a:pt x="411" y="121"/>
                </a:cubicBezTo>
                <a:cubicBezTo>
                  <a:pt x="384" y="31"/>
                  <a:pt x="465" y="0"/>
                  <a:pt x="339" y="13"/>
                </a:cubicBezTo>
                <a:close/>
              </a:path>
            </a:pathLst>
          </a:custGeom>
          <a:noFill/>
          <a:ln cap="rnd" w="9360">
            <a:solidFill>
              <a:srgbClr val="9900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8520" y="3048120"/>
            <a:ext cx="2666880" cy="838080"/>
          </a:xfrm>
          <a:prstGeom prst="wedgeRoundRectCallout">
            <a:avLst>
              <a:gd name="adj1" fmla="val -117143"/>
              <a:gd name="adj2" fmla="val -308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rt with th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o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node – typically the first template to be used in a stylesh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BCB-3301-4C0F-85EC-5D8F85CD767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ursive Stylesheet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efor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 the names of students with  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cour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?xml version=“1.0”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stylesheet  xmlns:xsl=“http://www.w3.org/1999/XSL/Transfor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sl:version=“1.0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template  match=“/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udent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apply-templates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tudent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xsl:template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template  match=“//Student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if   test=“count(CrsTaken)  &amp;gt;  1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ull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value-of   select=“*/Last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value-of   select=“*/First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Full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xsl i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template  match=“text()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24480" y="5257800"/>
            <a:ext cx="2667240" cy="990720"/>
          </a:xfrm>
          <a:prstGeom prst="wedgeRoundRectCallout">
            <a:avLst>
              <a:gd name="adj1" fmla="val -97319"/>
              <a:gd name="adj2" fmla="val 1570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mpty template – no-o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eded to block default template for text – la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5715000"/>
            <a:ext cx="304920" cy="533520"/>
          </a:xfrm>
          <a:custGeom>
            <a:avLst/>
            <a:gdLst>
              <a:gd name="textAreaLeft" fmla="*/ 0 w 304920"/>
              <a:gd name="textAreaRight" fmla="*/ 11016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28600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2209680"/>
            <a:ext cx="1981080" cy="381240"/>
          </a:xfrm>
          <a:prstGeom prst="wedgeRoundRectCallout">
            <a:avLst>
              <a:gd name="adj1" fmla="val -104805"/>
              <a:gd name="adj2" fmla="val 858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itial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91320" y="3581280"/>
            <a:ext cx="304560" cy="1828800"/>
          </a:xfrm>
          <a:custGeom>
            <a:avLst/>
            <a:gdLst>
              <a:gd name="textAreaLeft" fmla="*/ 0 w 304560"/>
              <a:gd name="textAreaRight" fmla="*/ 10980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91520" y="3809880"/>
            <a:ext cx="1600200" cy="685800"/>
          </a:xfrm>
          <a:prstGeom prst="wedgeRoundRectCallout">
            <a:avLst>
              <a:gd name="adj1" fmla="val -117856"/>
              <a:gd name="adj2" fmla="val 46296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workhors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does all the 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1A7-75BE-4D4A-BC94-AFD3214F9F2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Disse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itial temp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arts off, applies template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hildren. The on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hil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sheet has no matching template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fault temp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nod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o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default is to go down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hildr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template  match = “ * | / 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apply-templates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 are tw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des – the “workhorse” template match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u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node 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ullName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ull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0C7-9B68-4BDF-858C-94920BE7A26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a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cum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Repor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ud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udent StudId=“111111111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tud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Student StudId=“987654321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…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tud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Stud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urs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ourse  CrsCode=“CS308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CrsName&gt;Software Engineering&lt;/Crs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Cour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… 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Cours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Repor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the previous stylesheet has another branch to 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0280" y="3990960"/>
            <a:ext cx="5671800" cy="1614600"/>
          </a:xfrm>
          <a:custGeom>
            <a:avLst/>
            <a:gdLst/>
            <a:ahLst/>
            <a:rect l="l" t="t" r="r" b="b"/>
            <a:pathLst>
              <a:path w="3573" h="1017">
                <a:moveTo>
                  <a:pt x="927" y="15"/>
                </a:moveTo>
                <a:cubicBezTo>
                  <a:pt x="820" y="17"/>
                  <a:pt x="271" y="0"/>
                  <a:pt x="144" y="42"/>
                </a:cubicBezTo>
                <a:cubicBezTo>
                  <a:pt x="102" y="84"/>
                  <a:pt x="80" y="98"/>
                  <a:pt x="45" y="150"/>
                </a:cubicBezTo>
                <a:cubicBezTo>
                  <a:pt x="29" y="174"/>
                  <a:pt x="27" y="204"/>
                  <a:pt x="18" y="231"/>
                </a:cubicBezTo>
                <a:cubicBezTo>
                  <a:pt x="12" y="249"/>
                  <a:pt x="0" y="285"/>
                  <a:pt x="0" y="285"/>
                </a:cubicBezTo>
                <a:cubicBezTo>
                  <a:pt x="9" y="465"/>
                  <a:pt x="33" y="628"/>
                  <a:pt x="90" y="798"/>
                </a:cubicBezTo>
                <a:cubicBezTo>
                  <a:pt x="106" y="847"/>
                  <a:pt x="127" y="919"/>
                  <a:pt x="180" y="942"/>
                </a:cubicBezTo>
                <a:cubicBezTo>
                  <a:pt x="304" y="995"/>
                  <a:pt x="450" y="957"/>
                  <a:pt x="585" y="960"/>
                </a:cubicBezTo>
                <a:cubicBezTo>
                  <a:pt x="1038" y="1017"/>
                  <a:pt x="1498" y="978"/>
                  <a:pt x="1953" y="951"/>
                </a:cubicBezTo>
                <a:cubicBezTo>
                  <a:pt x="2042" y="929"/>
                  <a:pt x="1925" y="956"/>
                  <a:pt x="2097" y="933"/>
                </a:cubicBezTo>
                <a:cubicBezTo>
                  <a:pt x="2210" y="918"/>
                  <a:pt x="2324" y="900"/>
                  <a:pt x="2439" y="888"/>
                </a:cubicBezTo>
                <a:cubicBezTo>
                  <a:pt x="2570" y="874"/>
                  <a:pt x="2697" y="834"/>
                  <a:pt x="2826" y="816"/>
                </a:cubicBezTo>
                <a:cubicBezTo>
                  <a:pt x="2936" y="800"/>
                  <a:pt x="3048" y="783"/>
                  <a:pt x="3159" y="771"/>
                </a:cubicBezTo>
                <a:cubicBezTo>
                  <a:pt x="3231" y="753"/>
                  <a:pt x="3292" y="731"/>
                  <a:pt x="3357" y="699"/>
                </a:cubicBezTo>
                <a:cubicBezTo>
                  <a:pt x="3389" y="683"/>
                  <a:pt x="3422" y="673"/>
                  <a:pt x="3447" y="645"/>
                </a:cubicBezTo>
                <a:cubicBezTo>
                  <a:pt x="3485" y="602"/>
                  <a:pt x="3514" y="549"/>
                  <a:pt x="3546" y="501"/>
                </a:cubicBezTo>
                <a:cubicBezTo>
                  <a:pt x="3549" y="489"/>
                  <a:pt x="3551" y="477"/>
                  <a:pt x="3555" y="465"/>
                </a:cubicBezTo>
                <a:cubicBezTo>
                  <a:pt x="3560" y="447"/>
                  <a:pt x="3573" y="411"/>
                  <a:pt x="3573" y="411"/>
                </a:cubicBezTo>
                <a:cubicBezTo>
                  <a:pt x="3570" y="360"/>
                  <a:pt x="3569" y="309"/>
                  <a:pt x="3564" y="258"/>
                </a:cubicBezTo>
                <a:cubicBezTo>
                  <a:pt x="3563" y="249"/>
                  <a:pt x="3562" y="237"/>
                  <a:pt x="3555" y="231"/>
                </a:cubicBezTo>
                <a:cubicBezTo>
                  <a:pt x="3437" y="126"/>
                  <a:pt x="3208" y="96"/>
                  <a:pt x="3060" y="87"/>
                </a:cubicBezTo>
                <a:cubicBezTo>
                  <a:pt x="2888" y="44"/>
                  <a:pt x="2705" y="35"/>
                  <a:pt x="2529" y="15"/>
                </a:cubicBezTo>
                <a:cubicBezTo>
                  <a:pt x="2034" y="18"/>
                  <a:pt x="1539" y="18"/>
                  <a:pt x="1044" y="24"/>
                </a:cubicBezTo>
                <a:cubicBezTo>
                  <a:pt x="931" y="25"/>
                  <a:pt x="1029" y="49"/>
                  <a:pt x="927" y="15"/>
                </a:cubicBezTo>
                <a:close/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77320" y="6095880"/>
            <a:ext cx="7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7" idx="3"/>
            <a:endCxn id="396" idx="0"/>
          </p:cNvCxnSpPr>
          <p:nvPr/>
        </p:nvCxnSpPr>
        <p:spPr>
          <a:xfrm flipH="1" flipV="1">
            <a:off x="6471720" y="4642560"/>
            <a:ext cx="1681920" cy="1567800"/>
          </a:xfrm>
          <a:prstGeom prst="curvedConnector5">
            <a:avLst>
              <a:gd name="adj1" fmla="val -13594"/>
              <a:gd name="adj2" fmla="val 50000"/>
              <a:gd name="adj3" fmla="val -13594"/>
            </a:avLst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399" name=""/>
          <p:cNvSpPr/>
          <p:nvPr/>
        </p:nvSpPr>
        <p:spPr>
          <a:xfrm>
            <a:off x="6629400" y="1600200"/>
            <a:ext cx="1219320" cy="380880"/>
          </a:xfrm>
          <a:prstGeom prst="wedgeRoundRectCallout">
            <a:avLst>
              <a:gd name="adj1" fmla="val -189064"/>
              <a:gd name="adj2" fmla="val 2733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ld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2057400"/>
            <a:ext cx="228600" cy="1676520"/>
          </a:xfrm>
          <a:custGeom>
            <a:avLst/>
            <a:gdLst>
              <a:gd name="textAreaLeft" fmla="*/ 0 w 228600"/>
              <a:gd name="textAreaRight" fmla="*/ 8244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2819520"/>
            <a:ext cx="1219320" cy="380880"/>
          </a:xfrm>
          <a:prstGeom prst="wedgeRoundRectCallout">
            <a:avLst>
              <a:gd name="adj1" fmla="val -173828"/>
              <a:gd name="adj2" fmla="val 2433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w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EB1-774D-42C5-867C-EB11DC29EFB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ylesheet template applie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lement, so use the default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plicit template applies to childre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lements – use the defaul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hing applie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Name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l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text node.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f we used the default 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 text/attribute nodes the XSLT defaul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template  match=“text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| @*”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xsl:value-of  select=“.”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output the contents of text/attribute – we don’t want th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This is why we provided the empty template for text no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to suppr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pplication of the default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895-94C6-4297-B5D5-D37F67B21FB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SLT  Evaluation 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n properly defined in the official XSLT specific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lly described in a research paper by Wadler – can only hope that vendors read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describe simplified version – will omit the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-ea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BE9-7968-4FA2-91F4-DDCF4F970B6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X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HTML, but any number of different tags can be used (up to the document author) – exten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HTML, no semantics behind the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nstance, HTML’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able&gt;…&lt;/table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s: render contents as a table; in XML: doesn’t mean anything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emantics can be specified using XML Schema (types); some using stylesheets (browser rend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HTML, is intolerant to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s will render buggy HTML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ML process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not supposed to process buggy XML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60E-9927-4869-B069-F8062D4C2E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SLT  Evaluation  Algorithm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root nod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the output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root of the input documen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o output documen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Roo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M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Root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chil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current node variable: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=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Ro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current node list: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N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=  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Ro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always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ode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 nod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s placed on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N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its copy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goes to the output document (becomes a child of some node – see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marker for where subsequent actions apply in the output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ght be deleted or replaced 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t matching temp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r default template, if nothing appl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is template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E5B-D445-4914-B79E-AAA52EC06FC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SLT Evaluation Algorithm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a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of template can cause these 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se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replaced by a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ode in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1" action="ppaction://hlinksldjump"/>
              </a:rPr>
              <a:t>our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3" action="ppaction://hlinksldjump"/>
              </a:rPr>
              <a:t>docu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Assume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4" action="ppaction://hlinksldjump"/>
              </a:rPr>
              <a:t>our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Times New Roman"/>
                <a:hlinkClick r:id="rId6" action="ppaction://hlinksldjump"/>
              </a:rPr>
              <a:t>styleshe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the following template instead of the initial template (it thus becomes best-matching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&lt;xsl:template  match=“//Students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&lt;Student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&lt;xsl:apply-templates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&lt;/StudentLis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replaced with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Student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child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ode) is copied over to the output tree as a child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255-D7BD-4997-9CCE-39A60D8AF10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SLT Evaluation Algorithm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of a Templat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se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deleted and its children become children of the par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The default template, below, delete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any n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template  match=“* | /”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apply-template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E01-5CA5-485C-B463-67D9DC85776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ffect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-templ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Document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85800" y="1084320"/>
            <a:ext cx="7848720" cy="541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A8B-0CE4-4F26-B910-6C3BC7211E4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SLT Evaluation Algorithm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both cases (A &amp; B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has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hildre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omes sho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does have childre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longer or stays the sam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rder 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hildren are plac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ir order in the sourc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omes the ne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terminates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careful – might not terminate (see 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9D4-C211-4BBF-8B9E-7BC3511B981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SLT Evaluation Algorithm –Subtle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-templates instruction can have select attribu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apply-templates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node()” /&gt;   –  equivalent to the usual &lt;xsl:apply-templates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apply-templates  select=“@* | text()” /&gt;   –  instead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ildre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tak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apply-templates  select=“..” /&gt;   –  take the parent of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apply-templates  select=“.” /&gt;    –  will cause an infinite loop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ipe to guarantee termination: make sur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apply-templates selects nodes only from a subtre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BBE-1D7B-4893-88C7-020F7BBFD5E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ced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ake any document and replace attributes with elements. So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 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11111111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ame&gt;John Doe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CS308”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“F1997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tud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bec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Stud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11111111&lt;/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ame&gt;John Doe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rsTak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CS308&lt;/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&lt;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F1997&lt;/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CrsTak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Stud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148-A48A-4868-AC9D-1979900873F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ced Example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itional requir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on’t rely on knowing the names of the attributes and elements in input document – should be completely general. 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able to output elements whose name is not known in advance (we don’t know which nodes we might be visi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mplished with  xsl: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struction and Xpath functions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ur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and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name=“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ur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)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m 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xsl: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current node is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obar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ll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ba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m 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fooba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2AB-87C0-4EEC-A3CC-0ABBD58C9DA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ced Example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be able to copy the current element over to the output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py-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struction won’t do:  it copies elements over with all their belongings. But remember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 don’t want attributes to remain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, use the 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the current node to the output document, b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ithout any of its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…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SLT instructions, which fill in the bo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f the element being copied over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672-A5B3-4357-83D6-0AF9771F080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ced Example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stylesheet … … …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template  match=“node()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apply-templates  select=“@*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apply-template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xsl: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template  match=“@*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name=“</a:t>
            </a: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”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value-of  select=“.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xsl: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xsl:styleshee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24480" y="914400"/>
            <a:ext cx="2286000" cy="380880"/>
          </a:xfrm>
          <a:prstGeom prst="wedgeRoundRectCallout">
            <a:avLst>
              <a:gd name="adj1" fmla="val -120625"/>
              <a:gd name="adj2" fmla="val 10833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ess elements/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943600" y="3505320"/>
            <a:ext cx="2971800" cy="380880"/>
          </a:xfrm>
          <a:prstGeom prst="wedgeRoundRectCallout">
            <a:avLst>
              <a:gd name="adj1" fmla="val -98555"/>
              <a:gd name="adj2" fmla="val 6708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al with attributes separat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77120" y="426708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72400" y="4267080"/>
            <a:ext cx="1219320" cy="838440"/>
          </a:xfrm>
          <a:prstGeom prst="wedgeRoundRectCallout">
            <a:avLst>
              <a:gd name="adj1" fmla="val -116796"/>
              <a:gd name="adj2" fmla="val -189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t attribute to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86600" y="1828800"/>
            <a:ext cx="1905120" cy="609480"/>
          </a:xfrm>
          <a:prstGeom prst="wedgeRoundRectCallout">
            <a:avLst>
              <a:gd name="adj1" fmla="val -92500"/>
              <a:gd name="adj2" fmla="val 27865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ess a-children of current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2666880"/>
            <a:ext cx="2514600" cy="609840"/>
          </a:xfrm>
          <a:prstGeom prst="wedgeRoundRectCallout">
            <a:avLst>
              <a:gd name="adj1" fmla="val -121402"/>
              <a:gd name="adj2" fmla="val -26041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ess et-children of current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91320" y="5486400"/>
            <a:ext cx="2646360" cy="11304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… Attr=“foo”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Attr&gt;foo&lt;/At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43600" y="480060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72B-764F-4738-A224-E071031EF04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7T07:16:22Z</dcterms:created>
  <dc:creator>Michael Kifer</dc:creator>
  <dc:description/>
  <dc:language>en-US</dc:language>
  <cp:lastModifiedBy>Pearson Education</cp:lastModifiedBy>
  <dcterms:modified xsi:type="dcterms:W3CDTF">2005-04-06T15:58:18Z</dcterms:modified>
  <cp:revision>175</cp:revision>
  <dc:subject/>
  <dc:title>XML and Databases</dc:title>
</cp:coreProperties>
</file>