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6DD1-0B87-4A77-8660-55DE5892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A50-DBFC-4BC5-8A57-AE50DDD4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7E8A-4956-4C63-AE7F-C179EEB4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C7F-2BAA-4FD1-9492-035ECC97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C05D-9D79-4A1F-8F28-9B61E330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6A9B-D5BF-45E0-97D6-B651F5D1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2EA4-2B3C-4DE9-A97E-0B3C888E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0581-FA28-4CFC-BDAE-405E6398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E507-9D7A-4C71-8D14-D204AF2E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87F3-8AD0-4473-921D-37973340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9851-ADA9-4F87-B168-DDA095CE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AC85-663B-47BD-90A6-3E528F3D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E11F-D69F-498A-AA1C-10A613E4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97EF-3551-4907-972B-6A925AE0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C257-1054-4D63-BCED-D8C64E61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D2A1-518A-489E-9FD1-E9895E9E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D61F-5D7B-4F2D-B53B-5661029E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43D-24DC-47A2-A183-25D46D7E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C9EB-1B1E-4AB3-B3B9-878809C0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9ED8-1BC6-4DD3-AA16-0D85E23E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7AA1-5E21-4E64-83AA-196C29D7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0407-33E8-4506-B5FE-18E2E766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993-3E9B-4667-A9E8-5E3F16F2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3EE-E540-4D40-8ACB-6887F34C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E6B3-E66E-436F-BA9A-337587D82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05160" y="914040"/>
            <a:ext cx="3276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87E4-53EA-47F5-B849-8B5798BE3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05160" y="914040"/>
            <a:ext cx="3276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1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105160" y="2819160"/>
            <a:ext cx="3352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Calculus,Visual Query Languages, and Deductive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4647960"/>
            <a:ext cx="8153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the set of all course tuples corresponding to all courses that have been taken by all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1066680"/>
            <a:ext cx="7086600" cy="33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S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9E0-C6B9-499E-83C8-929796C7F0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C Syntax Ext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dd syntactic sugar to TRC, which simplifies queries and make the syntax even closer to that of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590920"/>
            <a:ext cx="853452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(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R.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= S.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R.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= T.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new tuple variable with attribu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2D4-DCE7-48F0-8D31-E1D52FC4DA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ion Between TRC and SQL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he names of all professors who have taught MGT1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R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P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Professor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P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e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P.</a:t>
            </a:r>
            <a:r>
              <a:rPr b="0" i="1" lang="en-US" sz="2400" spc="-1" strike="noStrike">
                <a:solidFill>
                  <a:srgbClr val="808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 = T.</a:t>
            </a:r>
            <a:r>
              <a:rPr b="0" i="1" lang="en-US" sz="2400" spc="-1" strike="noStrike">
                <a:solidFill>
                  <a:srgbClr val="808000"/>
                </a:solidFill>
                <a:latin typeface="Times New Roman"/>
              </a:rPr>
              <a:t>ProfId</a:t>
            </a: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  T.</a:t>
            </a:r>
            <a:r>
              <a:rPr b="0" i="1" lang="en-US" sz="2400" spc="-1" strike="noStrike">
                <a:solidFill>
                  <a:srgbClr val="808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 = ‘MGT123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}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Q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Professor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  </a:t>
            </a: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P.</a:t>
            </a:r>
            <a:r>
              <a:rPr b="0" i="1" lang="en-US" sz="2400" spc="-1" strike="noStrike">
                <a:solidFill>
                  <a:srgbClr val="808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 = T.</a:t>
            </a:r>
            <a:r>
              <a:rPr b="0" i="1" lang="en-US" sz="2400" spc="-1" strike="noStrike">
                <a:solidFill>
                  <a:srgbClr val="808000"/>
                </a:solidFill>
                <a:latin typeface="Times New Roman"/>
              </a:rPr>
              <a:t>ProfId</a:t>
            </a: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 T.</a:t>
            </a:r>
            <a:r>
              <a:rPr b="0" i="1" lang="en-US" sz="2400" spc="-1" strike="noStrike">
                <a:solidFill>
                  <a:srgbClr val="808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 = ‘MGT123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re of SQL is merely a syntactic sugar on top of T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0DE-9114-49EE-BFED-E890AB6081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Happened to Quantifiers in SQ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has no quantifiers: how come?  It uses conven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.   Universal quantifiers are not allowed (but SQL:1999 introduced a limited form of explici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ven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.   Make existential quantifi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mplic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Any tuple variable that does not occur 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ssumed to be implicitly quantified with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P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Professor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(P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eaching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P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Professor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…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3800" y="3962520"/>
            <a:ext cx="1219320" cy="761760"/>
          </a:xfrm>
          <a:prstGeom prst="wedgeRoundRectCallout">
            <a:avLst>
              <a:gd name="adj1" fmla="val -173046"/>
              <a:gd name="adj2" fmla="val 79791"/>
              <a:gd name="adj3" fmla="val 16667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mplic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FD2-64EF-4E34-A164-7A09967B3D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uses a subset of TRC with simplifying conventions for qua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s the use of quantification and negation (so TRC is more general in this resp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uses aggregates, which are absent in TRC (and relational algebra, for that matter).  But aggregates can be ad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is extended with relational algebra operators (MINUS, UNION, JOIN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just more syntactic sugar, but it makes queries easier to 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ion Between TRC and SQL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5956-A37E-4142-8769-A79F1118BF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Quan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acent existential quantifiers and adjacent universal quantifiers commu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 (…)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 (…)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acent existential and universal quantifier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u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 (…)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ffer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 (…)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80B1-67B8-4B9F-95D5-0536435D4F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Quantification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antifier defines the scope of the quantified variable (analogously to a begin/end block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R1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R2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same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8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R1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R2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versal 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ssume a domai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is a union of all other domains in the database. Then, instead of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imply writ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4B4D-46CA-4E40-AE9A-BCA2CDA6FC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ws in TR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st students who took a course from every professor in the Computer Scienc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create view:  All CS prof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SPr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{P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CS’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us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SPr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ing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Code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me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380880" y="1066680"/>
            <a:ext cx="75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89A-715E-4F11-9340-1BB0090668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ries with Im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 not need views in the previous query, but doing it without a view has its pitfalls: need the implica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f-the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ent(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cc0000"/>
                </a:solidFill>
                <a:latin typeface="Century Gothic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Profess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P.</a:t>
            </a:r>
            <a:r>
              <a:rPr b="0" i="1" lang="en-US" sz="1600" spc="-1" strike="noStrike">
                <a:solidFill>
                  <a:srgbClr val="cc0000"/>
                </a:solidFill>
                <a:latin typeface="Times New Roman"/>
              </a:rPr>
              <a:t>DeptId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 = ‘CS’   </a:t>
            </a:r>
            <a:r>
              <a:rPr b="0" lang="en-US" sz="16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cript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T1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.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.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1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R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T1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R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mes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‘CS’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‘CS’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AND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 …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those queries aloud (but slowly) in English and try to understa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AE4-9139-45AC-A8CB-B098C73815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complex SQL to TRC Conve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views, translation between complex SQL queries and TRC is dir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057400"/>
            <a:ext cx="81536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1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dition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1, R2)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                  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1.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33cc"/>
                </a:solidFill>
                <a:latin typeface="Century Gothic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3.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Century Gothic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3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Century Gothic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dition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3, R4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R1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2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1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2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dition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1, R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Tem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1.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R3.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R3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3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Tem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{R3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dition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3, R4) )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343040" y="3962520"/>
            <a:ext cx="388620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162560" y="3580920"/>
            <a:ext cx="106668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5600" y="2666880"/>
            <a:ext cx="128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C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resp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b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29718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650"/>
                </a:lnTo>
                <a:cubicBezTo>
                  <a:pt x="10800" y="8550"/>
                  <a:pt x="16200" y="9450"/>
                  <a:pt x="21600" y="9450"/>
                </a:cubicBezTo>
                <a:cubicBezTo>
                  <a:pt x="16200" y="9450"/>
                  <a:pt x="10800" y="10350"/>
                  <a:pt x="10800" y="112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4298-4718-456C-A0D6-F853DADDBB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and Relational Calcul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hough relationa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useful in the analysis of query evaluation, SQL is actually based on a different query language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latio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wo relational calcu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up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relational calcul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R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relational calcul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R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669-BCCF-4E9A-BB49-8082A808CD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main Relational Calculus (DR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main vari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a variable whose value is drawn from the domain of an attribut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st this with a tuple variable, whose value is an entire t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domain of a domain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be the set of all possible value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ribute in the rel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8EF-AF60-467B-A446-7B222D0FE0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ies in D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 of DRC que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| 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list of domain varia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is similar to a condition in TRC; uses free variab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quantification is over a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… …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there is  X  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 i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‘F1997’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imilar to the TRC 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T |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F1997’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164-77BC-443E-94AA-A3A32FC3EF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 of the DRC 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| cond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respect to a given database is the set of  all tuple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, for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…,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substituted for the free variabl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cond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true statement about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a constant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n which case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0348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F05-D0CD-4A9C-83DB-0DB8D9BC61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names of all professors who taugh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GT12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‘MGT123’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iversal domain is used to abbreviate th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e mixing of variabl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constant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T1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names of all professors who ever taught 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914400"/>
            <a:ext cx="64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3733920"/>
            <a:ext cx="693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C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S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C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S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‘Ann’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000" y="4629240"/>
            <a:ext cx="1820520" cy="13107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ts of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– 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llmark of DR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ventions l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SQL can be us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horten quer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133720" y="4724280"/>
            <a:ext cx="533160" cy="1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752480" y="4191120"/>
            <a:ext cx="68580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60C-6256-411A-B8D9-82949E3678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ion Between Relational Algebra, TRC, and DR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query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|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the set of all tupl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rel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attribute domains change, the result set changes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referred to a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main-depend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example:  {T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(R(S)) \/  Q(T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figure out why this is domain-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main-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ries make sense, but checking domain-independence is undecid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re are syntactic restrictions that guarantee domain-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8B4-3A09-4D3C-A502-E2EF849AD2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ion Between Relational Algebra, TRC, and DRC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al algebra (but not DRC or TRC) queries are always domain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t (prove by induction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C, DRC, and relational algebra are equally expressive for domain-independent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ng that every domain-independent TRC/DRC query can be written in the algebra is somewhat 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show the other direction: that algebraic queries are expressible in TRC/D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D70-F358-41A3-AA0D-87D1EDD232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tionship between Algebra, TRC, DR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: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C: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 | R(T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1" i="1" lang="en-US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C: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R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1" i="1" lang="en-US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‘Joe’.   Wh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1" i="1" lang="en-US" sz="2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1" i="1" lang="en-US" sz="2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TRC, DRC, and the algebra have slightly different syntax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‘Jo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be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‘Joe’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ssibly with different variable n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FD0-DA2E-44D0-85A8-B33281BBAA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between Algebra, TRC, D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,B,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C:       {T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T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T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C:      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B,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B,C,D,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arlett"/>
                <a:ea typeface="Marlett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C: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V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V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)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C: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B,C,D,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,B,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,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6AE-475F-4FE6-B3E4-9311CDB624C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between Algebra, TRC, D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C:   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C:  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B,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B,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B,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C:   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C:  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B,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B,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B,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28B-661F-4FDB-AF76-7872C8ED3D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BE: Query by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ative query language, like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DRC (rather than TR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visual query languages (MS Access, Paradox) are just incremental impro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95E-6148-4000-AE33-CEFBE0A48D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ple Relational Calcul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of que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| 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a variable that ranges over tuples of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d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and possibly other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a specific tuple is substituted fo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68580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C4D4-9E9A-45A8-93DB-6ECBEF9D1E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BE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600200" y="2209680"/>
            <a:ext cx="5334120" cy="1025640"/>
            <a:chOff x="1600200" y="2209680"/>
            <a:chExt cx="5334120" cy="1025640"/>
          </a:xfrm>
        </p:grpSpPr>
        <p:sp>
          <p:nvSpPr>
            <p:cNvPr id="165" name=""/>
            <p:cNvSpPr/>
            <p:nvPr/>
          </p:nvSpPr>
          <p:spPr>
            <a:xfrm>
              <a:off x="1600200" y="224460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00200" y="2244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00200" y="270180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05320" y="22446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38480" y="22446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2446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4040" y="2209680"/>
              <a:ext cx="13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82720" y="2244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69240" y="2244600"/>
              <a:ext cx="89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6080" y="224460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pt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34320" y="22446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600200" y="4724280"/>
            <a:ext cx="5334120" cy="1025640"/>
            <a:chOff x="1600200" y="4724280"/>
            <a:chExt cx="5334120" cy="1025640"/>
          </a:xfrm>
        </p:grpSpPr>
        <p:sp>
          <p:nvSpPr>
            <p:cNvPr id="177" name=""/>
            <p:cNvSpPr/>
            <p:nvPr/>
          </p:nvSpPr>
          <p:spPr>
            <a:xfrm>
              <a:off x="1600200" y="475920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00200" y="4759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00200" y="521640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05320" y="47592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38480" y="47592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62720" y="47592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14040" y="4724280"/>
              <a:ext cx="13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82720" y="4759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69240" y="4759200"/>
              <a:ext cx="89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16080" y="475920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pt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4320" y="47592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252680" y="270828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9440" y="27432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43000" y="522288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7160" y="51814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91360" y="1413000"/>
            <a:ext cx="64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 all professors’ names in the MGT 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08280" y="396252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, but print all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3505320"/>
            <a:ext cx="2057400" cy="380880"/>
          </a:xfrm>
          <a:prstGeom prst="wedgeRoundRectCallout">
            <a:avLst>
              <a:gd name="adj1" fmla="val 77777"/>
              <a:gd name="adj2" fmla="val -15416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perator “Prin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657600"/>
            <a:ext cx="2819520" cy="685800"/>
          </a:xfrm>
          <a:prstGeom prst="wedgeRoundRectCallout">
            <a:avLst>
              <a:gd name="adj1" fmla="val -77365"/>
              <a:gd name="adj2" fmla="val -1266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argetlist “example” 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0840" y="5943600"/>
            <a:ext cx="53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rals that start with “_” ar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2FDC-6A62-49CE-AA70-ACBAF9DE11D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oins in Q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600200" y="2057400"/>
            <a:ext cx="5334120" cy="1025640"/>
            <a:chOff x="1600200" y="2057400"/>
            <a:chExt cx="5334120" cy="1025640"/>
          </a:xfrm>
        </p:grpSpPr>
        <p:sp>
          <p:nvSpPr>
            <p:cNvPr id="199" name=""/>
            <p:cNvSpPr/>
            <p:nvPr/>
          </p:nvSpPr>
          <p:spPr>
            <a:xfrm>
              <a:off x="1600200" y="20923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00200" y="2092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00200" y="25495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38480" y="20923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62720" y="20923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4040" y="2057400"/>
              <a:ext cx="13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2720" y="20923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69240" y="2092320"/>
              <a:ext cx="89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6080" y="209232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pt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34320" y="209232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78520" y="25909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1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76720" y="20574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76720" y="2556000"/>
              <a:ext cx="11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_Joh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5438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295280" y="3962520"/>
            <a:ext cx="6248520" cy="990360"/>
            <a:chOff x="1295280" y="3962520"/>
            <a:chExt cx="6248520" cy="990360"/>
          </a:xfrm>
        </p:grpSpPr>
        <p:sp>
          <p:nvSpPr>
            <p:cNvPr id="214" name=""/>
            <p:cNvSpPr/>
            <p:nvPr/>
          </p:nvSpPr>
          <p:spPr>
            <a:xfrm>
              <a:off x="1295280" y="3962520"/>
              <a:ext cx="624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95280" y="3962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95280" y="4419720"/>
              <a:ext cx="624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48120" y="39625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38480" y="39625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86400" y="39625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43800" y="39625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23880" y="39625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a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48840" y="396252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rof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16600" y="396252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rs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68000" y="39625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me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12588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6960" y="44197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GT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4840" y="990720"/>
            <a:ext cx="757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rofessors who taught MGT123 in any 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Fall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76200" y="438480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&lt;</a:t>
            </a: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&gt; ‘F2002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81080" y="5486400"/>
            <a:ext cx="2971800" cy="838080"/>
          </a:xfrm>
          <a:prstGeom prst="wedgeRoundRectCallout">
            <a:avLst>
              <a:gd name="adj1" fmla="val 93912"/>
              <a:gd name="adj2" fmla="val -1246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imple conditio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ac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irectly in colu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7045-8E67-436E-91B6-249BB613B3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 Bo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2400" y="1143000"/>
            <a:ext cx="71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conditions are too complex to be placed direct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able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143000" y="2438280"/>
            <a:ext cx="7057440" cy="990720"/>
            <a:chOff x="1143000" y="2438280"/>
            <a:chExt cx="7057440" cy="990720"/>
          </a:xfrm>
        </p:grpSpPr>
        <p:sp>
          <p:nvSpPr>
            <p:cNvPr id="233" name=""/>
            <p:cNvSpPr/>
            <p:nvPr/>
          </p:nvSpPr>
          <p:spPr>
            <a:xfrm>
              <a:off x="1143000" y="243828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43000" y="2438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3000" y="289548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95480" y="24382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86200" y="24382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4120" y="24382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53280" y="24382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70880" y="243828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cri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96200" y="24382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ud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64320" y="243828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rs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15720" y="243828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me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38880" y="24382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41040" y="2438280"/>
              <a:ext cx="95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r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109680" y="286056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01120" y="286056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5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77480" y="29368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G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33720" y="41148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33720" y="4114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91320" y="4114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33720" y="45720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55960" y="40798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63760" y="4648320"/>
            <a:ext cx="32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Gr = ‘A’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_Gr = ‘B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840" y="5715000"/>
            <a:ext cx="53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ho took CS532 &amp; got A 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0AD6-3FDB-4449-8BCE-7D1B2EE21AE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, Updates,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ggregates (operators li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grouping operator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update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reate a new table (lik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simply construct a new templ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600200" y="4724280"/>
            <a:ext cx="5105520" cy="1067040"/>
            <a:chOff x="1600200" y="4724280"/>
            <a:chExt cx="5105520" cy="1067040"/>
          </a:xfrm>
        </p:grpSpPr>
        <p:sp>
          <p:nvSpPr>
            <p:cNvPr id="259" name=""/>
            <p:cNvSpPr/>
            <p:nvPr/>
          </p:nvSpPr>
          <p:spPr>
            <a:xfrm>
              <a:off x="1600200" y="472428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00200" y="4724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00200" y="518148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05720" y="47242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05520" y="47242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29000" y="47242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53560" y="47242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sTau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82360" y="472428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rof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86400" y="472428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95640" y="522288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06760" y="525780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345678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06960" y="525780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678910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671-80EC-401C-B292-C15A877857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mplex Insert Using a Qu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2590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47920" y="30481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812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9112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3868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96080" y="2590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76520" y="2590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1120" y="25909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69240" y="25909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20640" y="25909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05120" y="39625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05120" y="44197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0102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8480" y="39625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Ta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7280" y="39625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9625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00560" y="446076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11680" y="44956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123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1880" y="4495680"/>
            <a:ext cx="11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56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3341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05120" y="579132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10280" y="5334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0080" y="5334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3920" y="5334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8480" y="533412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Ta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7280" y="53341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1320" y="53341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00200" y="583236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143000" y="1143000"/>
            <a:ext cx="7057440" cy="990720"/>
            <a:chOff x="1143000" y="1143000"/>
            <a:chExt cx="7057440" cy="990720"/>
          </a:xfrm>
        </p:grpSpPr>
        <p:sp>
          <p:nvSpPr>
            <p:cNvPr id="306" name=""/>
            <p:cNvSpPr/>
            <p:nvPr/>
          </p:nvSpPr>
          <p:spPr>
            <a:xfrm>
              <a:off x="1143000" y="114300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43000" y="1143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43000" y="1600200"/>
              <a:ext cx="701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95480" y="11430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86200" y="11430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34120" y="11430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53280" y="11430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70880" y="114300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cri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96200" y="114300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tud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64320" y="114300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rs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15720" y="114300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me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11430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41040" y="1143000"/>
              <a:ext cx="95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r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897280" y="160020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56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16960" y="16002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S5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93480" y="1600200"/>
            <a:ext cx="11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74360" y="3048120"/>
            <a:ext cx="11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69240" y="30481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S5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97280" y="30481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123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990720"/>
            <a:ext cx="457200" cy="27432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5257800"/>
            <a:ext cx="380880" cy="990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25"/>
                </a:lnTo>
                <a:cubicBezTo>
                  <a:pt x="10800" y="9225"/>
                  <a:pt x="5400" y="10125"/>
                  <a:pt x="0" y="10125"/>
                </a:cubicBezTo>
                <a:cubicBezTo>
                  <a:pt x="5400" y="10125"/>
                  <a:pt x="10800" y="11025"/>
                  <a:pt x="10800" y="119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3720" y="1546200"/>
            <a:ext cx="2952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0" y="5486400"/>
            <a:ext cx="644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2120" y="388620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481"/>
                </a:lnTo>
                <a:cubicBezTo>
                  <a:pt x="10800" y="8381"/>
                  <a:pt x="5400" y="9281"/>
                  <a:pt x="0" y="9281"/>
                </a:cubicBezTo>
                <a:cubicBezTo>
                  <a:pt x="5400" y="9281"/>
                  <a:pt x="10800" y="10181"/>
                  <a:pt x="10800" y="1108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040" y="3809880"/>
            <a:ext cx="29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9AC8-1BBB-4427-BE90-62E965A41F5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 to D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vious: just a graphical representation of D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the same convention as SQL: existential quantifiers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re o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27672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" y="373392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3276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57600" y="3276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05520" y="3276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24680" y="3276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2280" y="32767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67600" y="327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5720" y="32767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87120" y="32767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10280" y="3276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1244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21320" y="38098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12040" y="38098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CS5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48680" y="3774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01520" y="3774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89840" y="5486400"/>
            <a:ext cx="38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‘F2002’, ‘A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14800" y="4419720"/>
            <a:ext cx="533520" cy="761760"/>
          </a:xfrm>
          <a:prstGeom prst="upDownArrow">
            <a:avLst>
              <a:gd name="adj1" fmla="val 50000"/>
              <a:gd name="adj2" fmla="val 28424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9FAD-C078-4A30-8F76-57A3ACCB97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tfalls: Ne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ll professors who didn’t teach anything in S200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676520" y="1371600"/>
            <a:ext cx="5333760" cy="1025280"/>
            <a:chOff x="1676520" y="1371600"/>
            <a:chExt cx="5333760" cy="1025280"/>
          </a:xfrm>
        </p:grpSpPr>
        <p:sp>
          <p:nvSpPr>
            <p:cNvPr id="355" name=""/>
            <p:cNvSpPr/>
            <p:nvPr/>
          </p:nvSpPr>
          <p:spPr>
            <a:xfrm>
              <a:off x="1676520" y="1406520"/>
              <a:ext cx="53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76520" y="1406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520" y="1863720"/>
              <a:ext cx="53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14440" y="14065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38680" y="14065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89640" y="1371600"/>
              <a:ext cx="13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fes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58680" y="14065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45200" y="1406520"/>
              <a:ext cx="89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91680" y="140652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pt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10280" y="14065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38280" y="18698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1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52680" y="13716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81280" y="1869840"/>
              <a:ext cx="44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295280" y="2514600"/>
            <a:ext cx="6248160" cy="993240"/>
            <a:chOff x="1295280" y="2514600"/>
            <a:chExt cx="6248160" cy="993240"/>
          </a:xfrm>
        </p:grpSpPr>
        <p:grpSp>
          <p:nvGrpSpPr>
            <p:cNvPr id="369" name=""/>
            <p:cNvGrpSpPr/>
            <p:nvPr/>
          </p:nvGrpSpPr>
          <p:grpSpPr>
            <a:xfrm>
              <a:off x="1295280" y="2514600"/>
              <a:ext cx="6248160" cy="990360"/>
              <a:chOff x="1295280" y="2514600"/>
              <a:chExt cx="6248160" cy="990360"/>
            </a:xfrm>
          </p:grpSpPr>
          <p:sp>
            <p:nvSpPr>
              <p:cNvPr id="370" name=""/>
              <p:cNvSpPr/>
              <p:nvPr/>
            </p:nvSpPr>
            <p:spPr>
              <a:xfrm>
                <a:off x="1295280" y="2514600"/>
                <a:ext cx="624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295280" y="25146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295280" y="2971800"/>
                <a:ext cx="624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47760" y="25146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038120" y="25146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486040" y="25146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543440" y="25146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523520" y="251460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ach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048120" y="251460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fI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16240" y="2514600"/>
                <a:ext cx="126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rsCod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7640" y="2514600"/>
                <a:ext cx="12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mes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125880" y="3048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r>
                <a:rPr b="0" lang="en-US" sz="2400" spc="-1" strike="noStrike">
                  <a:solidFill>
                    <a:srgbClr val="006600"/>
                  </a:solidFill>
                  <a:latin typeface="Times New Roman"/>
                </a:rPr>
                <a:t>1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45400" y="3048120"/>
              <a:ext cx="95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20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39960" y="29718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4920" y="3657600"/>
            <a:ext cx="86104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hat is the quantifica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Crs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,Name,Dep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’S2002’) 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at was intended(!!), but what the convention about implicit quantification s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Crs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,Name,Dep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tend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sul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F6F2-6F41-421F-B307-A2B4A42A5F7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gation Pitfall: Re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BE changed its conven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 that occu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negated table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lici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antified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instance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our example. Note:  _123  (which correspond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 DRC formulation) is quantified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ecause it also occurs in the non-negated t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, problems rem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Crs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,Name,Dep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Crs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,Name,Dep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he same que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E decrees that 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prefix goes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52B-D1E1-4C9A-B8B4-5A0BC251F96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soft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371600" y="1036800"/>
            <a:ext cx="6400800" cy="55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579-7D5C-42A0-928B-7D3C37FF389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ruced up version of QBE (better interf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ware of implicit quan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are of negation pitf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45D-BB61-45AA-B6BE-324BE681BC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uple Relational Calculus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oncrete tuple has been substituted for 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is true if T is in the relational instance o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‘F2000’ is true if the semester attribute of T has value F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8080" y="1447920"/>
            <a:ext cx="68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 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AND 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‘F2000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22200" y="5029200"/>
            <a:ext cx="40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F2000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818-4DA0-4999-A0DF-1C73917CB3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ductive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: Limitations of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on in SQL: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log – a better language for complex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E80B-D0D5-4CCC-AA46-5B399ED9BFA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mitations of SQ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rel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ttribu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C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ist the set of all courses that must be completed prior to enrolling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6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re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puted by the following expression, contains the  immediate and once removed (i.e. 2-step prerequisites) prerequisites for all cour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eneral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re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all prerequisites up to those that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removed for all cour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04320" y="3505320"/>
            <a:ext cx="675108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reC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r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reCr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r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C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r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9880" y="5410080"/>
            <a:ext cx="692316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reC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r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PreCr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re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C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re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29000" y="5562720"/>
            <a:ext cx="228600" cy="15228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0"/>
                </a:moveTo>
                <a:lnTo>
                  <a:pt x="0" y="96"/>
                </a:lnTo>
                <a:lnTo>
                  <a:pt x="144" y="0"/>
                </a:lnTo>
                <a:lnTo>
                  <a:pt x="144" y="9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5320" y="3657600"/>
            <a:ext cx="228600" cy="15228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0"/>
                </a:moveTo>
                <a:lnTo>
                  <a:pt x="0" y="96"/>
                </a:lnTo>
                <a:lnTo>
                  <a:pt x="144" y="0"/>
                </a:lnTo>
                <a:lnTo>
                  <a:pt x="144" y="9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C55-B0DA-4A8C-82A0-AD2F8F392CC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itations of SQL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e can comput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=‘CS632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req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 get all prerequisites up to those that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removed, but how can we be sure that there are not additional prerequisites that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mov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en you reach a value o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Prereq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req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+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’ve got them all.  This is referred to a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bl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re’s no way of doing this within relational algebra, DRC, TRC, or SQL (this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vious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sy to pro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1CA-FDCC-4D1A-9FE2-723C0B7BA0E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 in SQL: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queries can be formulated using a recursive vie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recursive subquery – it cannot refer to the view being def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s recursion off by introducing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se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 the set of direct prerequi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2133720"/>
            <a:ext cx="7086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CURS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EW 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IndirectPrer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C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 *  FROM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r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  P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I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C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r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,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IndirectPrer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  P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C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I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19320" y="2438280"/>
            <a:ext cx="152280" cy="381240"/>
          </a:xfrm>
          <a:custGeom>
            <a:avLst/>
            <a:gdLst>
              <a:gd name="textAreaLeft" fmla="*/ 97200 w 152280"/>
              <a:gd name="textAreaRight" fmla="*/ 152640 w 15228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219320" y="3124080"/>
            <a:ext cx="152280" cy="83844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6520" y="23623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6880" y="32767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C675-273C-43AD-97FD-4C00A424982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ursion in SQL:1999 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 contai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this subquery refers to the view being defin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declarative way of specifying the iterative process of calculating successive levels of indirect prerequisites until a stable point is rea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35080" y="1371600"/>
            <a:ext cx="694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CURS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IEW 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IndirectPrer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C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 *  FROM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r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  P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C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r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,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IndirectPrer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  P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C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I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748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90720" y="23623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2440" y="24796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28F-F8E4-41D5-AF29-DE7CAA92149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on in SQL: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cursive view can be evaluated by computing successive approxi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rectPrere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btained by taking the union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rectPrere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result of th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  P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C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r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P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rectPrere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  P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C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I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ive values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rectPrere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mputed until a stable point is reached, i.e., when  the result of the que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rectPrere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contained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rectPrere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2120" y="609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1A3-E233-4156-87D1-A8AF1667228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ursion in SQL:199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provides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, which does not require vie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even define mutually recursive que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RECURSI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OddPrer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eC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LECT  *  FROM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r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LECT   P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E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eC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r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P, 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EvenPrer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   P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eC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E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) 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URSIVE  </a:t>
            </a:r>
            <a:r>
              <a:rPr b="0" lang="en-US" sz="1800" spc="-1" strike="noStrike">
                <a:solidFill>
                  <a:srgbClr val="006600"/>
                </a:solidFill>
                <a:latin typeface="Times New Roman"/>
              </a:rPr>
              <a:t>EvenPrer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eC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LECT   P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O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eC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r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P, 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OddPrer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   P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eC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O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 *  FROM 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OddPrer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C54B-E831-46AC-9027-18CDE3AA9CA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-based query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to use, more modular tha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asier to use for recursive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vely used in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al implementations of Datalog are used commerc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C13-99ED-4634-9192-D73A75BE516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Between SQL and TRC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3581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 T  corresponds to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st: the query result contains the entire t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 split between two clau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) corresponds to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F2000’ corresponds to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25800" y="1447920"/>
            <a:ext cx="68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T |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AND 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‘F2000’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59000" y="2133720"/>
            <a:ext cx="468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‘F2000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679-D636-4AB4-BE22-64FEEA51FA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ult of a TRC query with respect to a given database is the set of all choices of tuples for the variable T that make the query condition a true statement about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8A0-B9D1-4DA3-B879-DDBB7A172F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omic 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la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.A oper S.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.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 con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relation name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attributes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omparison operator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&lt;, &gt;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ditions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elation name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tuple variable, and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condition that use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 and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are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061-D527-4E11-BD3A-C27355D466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und and Free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in the statement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30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(this might be represented more formally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tement is neither true nor false in a particular state of the database until we assign a value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f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variable in the statement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exists a 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is 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30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(this might be represented more formally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et of all stud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statement can be assigned a truth value for any particular state of the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A40-06FD-4AE9-B1BF-39B1A9685F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und and Free Variables in TRC Qu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 variables are used to make assertions about tuples in database (used in condi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variables designate the tuples to be returned by the query (used in targ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CS305’)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value is substituted for S the condition has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can be only one free variable in a condition (the one that appears in the targ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80880"/>
            <a:ext cx="738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52E-D798-4C05-895F-935E2D6DAF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13:49:46Z</dcterms:created>
  <dc:creator>ARTHUR  BERNSTEIN</dc:creator>
  <dc:description/>
  <dc:language>en-US</dc:language>
  <cp:lastModifiedBy>Pearson Education</cp:lastModifiedBy>
  <dcterms:modified xsi:type="dcterms:W3CDTF">2005-04-06T15:58:38Z</dcterms:modified>
  <cp:revision>110</cp:revision>
  <dc:subject/>
  <dc:title>Query Languages II: Relational Calculus and Visual Query Languages</dc:title>
</cp:coreProperties>
</file>