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627-5D28-4AFE-B827-0E41B6C6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5B0-88DC-43CC-BBAC-646CE549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2D2-35A8-4583-AF8F-2C16490C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681-53F7-4F4F-BDCD-66964F74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D9D8-1676-438B-BC33-0AFB52B6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3951-76BB-41AD-AF49-AED39445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320C-BAF3-4410-9D3D-3E08326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06B-3C74-47CC-A508-481F622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2CF8-884B-4287-B4D6-1C65A67F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A580-37A0-45E8-AB5D-74F99281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7B4D-EBD3-4CB6-B0B2-602A7C77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8EF-6AA5-4510-B319-60D3ADE2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89C8-994E-42C3-BABC-7141BBE0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CF57-C8BC-4BDE-BB8E-B045A04D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EA7F-5C94-4692-B2E7-77AF1A1A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6D31-7AF6-4793-A37B-68148994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3431-E102-420D-B036-80988CE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690-ADDA-474A-B2CD-86B66B9D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98D-918C-4D6B-B551-1241409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9D1-937D-4A1D-877A-DAAD745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CDF-7975-43C1-9C7F-759EF41C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04F-19A1-4AF5-879C-E7D9530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C04-E061-43C4-A8BE-396B2581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136-219E-4752-A8C3-8E78ACD2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2010-7114-40D7-8042-4F8326E5A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93FA-016E-45C5-B087-B792056E5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520" y="91404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520" y="266652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Tu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CD50-1058-458F-BA06-44C95DFA27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ts and Storag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: a group of contiguous blocks on mass store that serves as an allocation unit for a table or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ing an extent for a table keeps its pages together and reduces latency:  if another page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ek is avoided with high probabl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ly, the entire extent can be retrieved at a cost not much greater than the cost of retrieving a sing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age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p: unsorted rows in a file (table without a clustered 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table and index (sparse, clustered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e or hash) in a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 rows in a file (dense, clustered index stored separ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2E5-7F2C-453A-8596-CDCAAC8436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when no primary key or unique constraint is declared i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 is no useful index the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, UPDAT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n entir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ssive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since a transaction must lock entir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ion since all transactions must lock last page (exclusiv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3FD-A9C8-4A97-9568-11E79E2578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dvantages of using an ind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able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cases, avoid accessing the table entir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 uniqu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ize inse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j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automatically to enforce primary key or unique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CC7-16D7-4624-9EF2-A8A30073DD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clustered index can be created for a table since clustering specifies how the rows are to be st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created automatically based on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FBE-4002-4C4B-B5BB-1A7B01D4C8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grated Storage Structure: B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ustered index implemented as a sparse tree over sorted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table scan for many SQL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range as well as point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data page (in addition to index page) splitting necessary to keep rows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4495680"/>
            <a:ext cx="1600200" cy="1219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67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ed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31440" y="3565440"/>
            <a:ext cx="184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4419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19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477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340-1CBA-4D9C-9ECF-ACB010179C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ed Storage Structure: H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t of buckets with an associated hash is also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support range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200400"/>
            <a:ext cx="2057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9080" y="3429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dat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86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267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4724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181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562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5943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520" y="38862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520" y="42670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520" y="47242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cke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99C-1A92-40AC-96BE-FB6107EEDC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stered Index over Sorted 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, clustered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index, stored separately, refers to (mostly) sorte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many data page splits: rows do not have to be in exact sorted order since index is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ow doesn’t fit in page, store it in another page in same 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same searches as integrated storage structure, but efficiency drops if table is 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828800" y="5028840"/>
            <a:ext cx="1600200" cy="1219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4724280"/>
            <a:ext cx="3808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724280"/>
            <a:ext cx="10666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99520" y="5181480"/>
            <a:ext cx="10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1200" y="541008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, 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e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4800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952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105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5257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5410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6477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E61-9B89-4CAC-A9EF-BD86E52571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se index (hash 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), stored in separat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utomatically whe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IQU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decl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bitrary number of unclustered indexes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earches as clustered index, but less effici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entries and rows ordered diffe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level in 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index cov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verhead when table is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495680"/>
            <a:ext cx="10670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648320"/>
            <a:ext cx="9907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5400000">
            <a:off x="5867280" y="4876200"/>
            <a:ext cx="152388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572000"/>
            <a:ext cx="457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4840" y="518148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, un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0880" y="525780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se, un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472428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87692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50292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90920" y="480060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53341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47960" y="46483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4647960" y="47242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647960" y="495288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647960" y="510552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647960" y="5257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5334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594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6B5-801E-4D2A-9B5B-4C81BD4813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Index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es can also be created explicitly using (proprietary) commands of the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REATE CLUSTERED IND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_key_attribute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 storage structure to be 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REATE UNCLUSTERED IND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ex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bl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_key_attribute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255-1D52-4191-9116-A354E8785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for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(Id, Name, Address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key: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 (Id, Name, DeptId, Salary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key: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(Id, Name, …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key: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 (StudId, CrsCode, Semester,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key: (StudId, CrsCode, Semes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491-641E-4DBB-93D9-477DB255CA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ing the Performance of an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is generally measur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ti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average time to wait for a response to a particular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ughp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volume of work completed in a fixed amount of time (often measured as transactions per se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805-12BE-4898-BD71-F110D452E2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ll attributes (in all clauses) of a query are included in the search key of a dense (clustered or unclustered)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ee index, then the result set can be computed from the index a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68C-F73B-4669-864B-2593C2D5D8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v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ing cas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used i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includ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earch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 from index root and scan segment of leaf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nse index on (DeptId, Name) covers the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56440" y="2743200"/>
            <a:ext cx="32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fess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DeptId = ‘C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114800"/>
            <a:ext cx="13716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911880" y="4721760"/>
            <a:ext cx="2057400" cy="995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4191120"/>
            <a:ext cx="6094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523880" y="502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5029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133720" y="5257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572000"/>
            <a:ext cx="6094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6040" y="4800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53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74720" y="618660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650-55A1-4241-88F1-05872648DD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x Cov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matching c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ttributes i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do not include a prefix of search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entire leaf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nse index on (Id, Name, Address) covers the 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79400" y="2971800"/>
            <a:ext cx="42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 Id, S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Address = ‘1 Lake S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523880" y="4876560"/>
            <a:ext cx="1828800" cy="10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4495680"/>
            <a:ext cx="609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4419720"/>
            <a:ext cx="1143000" cy="21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5520" y="52578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495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C58-3B8F-449C-9053-9B929B7DE3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n index on Dep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lustered index already exists on Id (since it is primary key), then index on DeptId is un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56440" y="990720"/>
            <a:ext cx="32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Id, P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fess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DeptId = ‘C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2062080" y="52524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5029200"/>
            <a:ext cx="3045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00600" y="4343400"/>
            <a:ext cx="3045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5410080"/>
            <a:ext cx="30456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29000" y="518112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429000" y="51814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429000" y="518112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51811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886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structure using sparse, clustered index on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5480" y="5334120"/>
            <a:ext cx="114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4160" y="4038480"/>
            <a:ext cx="184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on 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2781000" y="407664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638680" y="37339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410080" y="50288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33720" y="5881680"/>
            <a:ext cx="21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ying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581280" y="6095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8600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5638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58672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6095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2E9-F32A-4E3B-B1EA-D2CCF0CE2F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an unclustered index is a bad idea if result set is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n unclustered index for primary key (Id) and  a clustered index on Dep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80120" y="990720"/>
            <a:ext cx="32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Id, P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fessor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DeptId = ‘C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2138040" y="52524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3809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5029200"/>
            <a:ext cx="304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876920" y="4343400"/>
            <a:ext cx="3045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5105520" y="4648320"/>
            <a:ext cx="304560" cy="761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518112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505320" y="51814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505320" y="51811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05320" y="51811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3320" y="3733920"/>
            <a:ext cx="211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par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index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30640" y="5334120"/>
            <a:ext cx="21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s of 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ying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2280" y="403848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on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2857320" y="407664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714280" y="3733920"/>
            <a:ext cx="152280" cy="1523880"/>
          </a:xfrm>
          <a:custGeom>
            <a:avLst/>
            <a:gdLst>
              <a:gd name="textAreaLeft" fmla="*/ 96840 w 152280"/>
              <a:gd name="textAreaRight" fmla="*/ 152280 w 1522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86400" y="50288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05320" y="5028840"/>
            <a:ext cx="1218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505320" y="5105520"/>
            <a:ext cx="1752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505320" y="51814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962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876920" y="4343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478-4E21-47A7-A7B8-D8DDB2EFA5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useable index available, DBMS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lock-nested loops join based on jo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 to a selection using selec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good – most rows satisfying join condition fail selec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9400" y="24336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S,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Id = T.StudI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771720" y="270504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6895800" y="2400120"/>
            <a:ext cx="152640" cy="2514600"/>
          </a:xfrm>
          <a:custGeom>
            <a:avLst/>
            <a:gdLst>
              <a:gd name="textAreaLeft" fmla="*/ 97560 w 152640"/>
              <a:gd name="textAreaRight" fmla="*/ 153000 w 15264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68920" y="365760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080" y="365760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A07-4E05-49B9-8537-38134B8296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 p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clustered index on Transcript with search key (Crs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ustered index with search key (CrsCode, Semester, StudId) might already exist since it corresponds to primary key of Transcrip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index on Student with search key (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dex with search key (Id) already exists since it is primary 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can be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e or hash, clustered or un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5600" y="1442880"/>
            <a:ext cx="67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S,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Id = T.StudI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705120" y="1704960"/>
            <a:ext cx="133200" cy="1904760"/>
          </a:xfrm>
          <a:custGeom>
            <a:avLst/>
            <a:gdLst>
              <a:gd name="textAreaLeft" fmla="*/ 85320 w 133200"/>
              <a:gd name="textAreaRight" fmla="*/ 133200 w 133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829200" y="1400040"/>
            <a:ext cx="133200" cy="2514600"/>
          </a:xfrm>
          <a:custGeom>
            <a:avLst/>
            <a:gdLst>
              <a:gd name="textAreaLeft" fmla="*/ 85320 w 133200"/>
              <a:gd name="textAreaRight" fmla="*/ 133200 w 1332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8920" y="266688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080" y="2666880"/>
            <a:ext cx="182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D28-2D59-4D59-8E52-12AF1955479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can then use an index-nested loops joi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all Transcript rows satisfying selection condition (they are stored contiguously since index on CrsCode is cluste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uch row use index on Student to retriev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w satisfying join condition (index-nesting particularly effective in this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5600" y="985680"/>
            <a:ext cx="67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S,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Id = T.StudI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1800" y="4087800"/>
            <a:ext cx="30304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d=Stu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rsCode=‘CS305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                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4653000" y="4871520"/>
            <a:ext cx="29988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5400000">
            <a:off x="4348080" y="4871520"/>
            <a:ext cx="29988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03812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5334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8F2-3EDC-4403-B8F9-61C73C25BE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41907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dex on Professor with search key (Sal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to support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clustered since many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52680" y="2133720"/>
            <a:ext cx="61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Name, D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fessor P, Departme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Salar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00 AND 7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DeptId = D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A6B-1422-491D-B6C2-2BD0FB8512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dex on Department with search key (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or B+ tree since a unique department corresponds to a row of 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ustered is sufficient (same reas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ste a clustered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can use index-nested loops jo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 Professor rows using cluste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on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such row get matching row o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 using index on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52680" y="1066680"/>
            <a:ext cx="619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Name, D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fessor P, Departme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Salar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00 AND 7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DeptId = D.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99360" y="4281480"/>
            <a:ext cx="379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042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89400" y="3886200"/>
            <a:ext cx="28598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ame=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eptId=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       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5400000">
            <a:off x="7167600" y="4719600"/>
            <a:ext cx="30024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7472160" y="4719600"/>
            <a:ext cx="30024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4674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705720" y="5105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51814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25F-3996-47F6-8A08-9DC24E0FAC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 taken to improve performanc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: schema redesign, use of indexes, client vs. server processing (stored proced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: isolation level, cod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e issues: cache size, binding, I/O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 of data across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le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cpu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configuration (many small disks vs. a few large 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up (mirrored disks vs lo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ng data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CCEB-9F8F-462D-945B-D22EB32CCF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dex on G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dex to retrieve rows satisfying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since a range i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since many rows satisf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result on Semester and count size of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 good plan since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 not selective and a large intermediate table must be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be acceptable if conditions were T.Grade &lt; ‘C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1280" y="1295280"/>
            <a:ext cx="423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Semes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Grade &lt;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6E1-55EC-4C99-BCCC-6FA868E19D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28195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index on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clustered index so that rows will be grou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Transcript, counting qualifying rows in eac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can be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2160" y="1143000"/>
            <a:ext cx="423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Semes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Grade &lt;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4267080"/>
            <a:ext cx="2133360" cy="1143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5562720"/>
            <a:ext cx="3276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1   G2 G3      G 4      G5  G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244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0800" y="60199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60958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3880" y="4495680"/>
            <a:ext cx="20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ed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on Sem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882-C109-4050-8C02-ECB3DFC496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on Semester can be a ha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ash is acceptable since que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 a range on Seme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stores all rows of a particular group in one bucket; if a bucket fits in memory it is easy to count the qualifying rows in each group it cont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 bu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lan sinc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ot selective; if it were, scan might be too cos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2160" y="1143000"/>
            <a:ext cx="423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Semes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COUNT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Grade &lt; ‘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4419720"/>
            <a:ext cx="838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1, G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4419720"/>
            <a:ext cx="7621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419720"/>
            <a:ext cx="7617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4, G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51055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2040" y="5105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BEE-2523-4B90-BE47-E432F84671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Index – Example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frequently asked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’n 1: clustered index on StudId for (1), unclustered index on (CrsCode, Semester) fo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both result sets are moderate size, using an unclustered index for (2) results in excessive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’n 2: clustered index on (CrsCode, Semester) for (2), unclustered index on (StudId, CrsCode) for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uses index covering (matching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3200" y="1595520"/>
            <a:ext cx="39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tudId = :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41360" y="1600200"/>
            <a:ext cx="398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: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Semester = :s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CA1-C797-4342-95BA-D16B61C641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 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clustered index to sup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queries with large result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ustered index on Transcript with search key (CrsCode, Semester, StudId) supports queries requesting the Id’s of all students in a particular cla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que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ustered index on Transcript with search key (Grade) supports queries requesting the Id’s of all students with grades between B+ and A.  (In this case the primary key constraint must be enforced with an unclustered index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attributes i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prefix of search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-nested (get all rows satisfying a particular search key value) and sort-merge (avoid sort) jo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AA0-BE0B-412C-9BC1-A50299E9D4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 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choose a clustered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not needed for one of the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earch key attribute is frequently upd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t will be necessary to move rows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– from bucket to bu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e – from one leaf page to another (contention results if index pages near the root need to be modificd - use an ISAM index in this c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: if search key is primary key and is monotonically increasing with each insert (since all inserts go into last leaf page, causing conten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invoice number, date,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51E-3E55-4052-8A25-34A36B7879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Unclustered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unclustered index to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ies with small result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-nested loop joins (when the weight of the join attribute is sm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cov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queries with small result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67A-8BB3-4C31-B9BD-EA4BC04420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 attribute is unique, declare it so (query optimizer can use it in query plan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row can match a search or join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 fill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100% if table is read-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 smaller value if table is dyna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earch keys small to flatten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unclustered indexes only whe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0AA-09E9-462B-A068-C1AFCEA878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ing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s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-merge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ISTINCT, UNION, EXCEPT, ORDER BY, 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 sorts.  Avoid their use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use cursors (since communication may be required for each row retrie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ored procedures if only aggregrate information is required by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CB3-4C7A-49ED-92BE-AF85975EF7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ing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nts (con’t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are of views since they may cause unnecessary j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restructuring a query – different formulations will have different costs depending on state of tables and indexes avail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09B-E6E4-45A3-9EB3-07B88719AB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Redesign: Denorm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reduces redundancy and avoids anoma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can improv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edundancy =&gt; more rows/page =&gt; less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=&gt; more tables =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more clustered indexes =&gt; smaller ind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62B-39B0-4ACB-BCDB-28EFF7F0D3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ing the Query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s: Used by opimizers to estimate cost of a query plan (based on size of result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: number of rows, number of distinct values of an attribute, max and min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: depth, number of leaf pages, number of distinct search ke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grams of attribut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use unclustered index if histogram shows that number of rows with attribute value specified in query is small, else use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eriodically updated if table 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40A-604E-4412-ABCD-A77DEA7EEFE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cing the Query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nts: suggestions inserted into an SQL statement for consideration by optim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552-1366-4562-AA9B-C4353D7FE4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Level Tuning – The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recently referenced pages in main memory since probability is high that they will be referenced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to achieve realistic performance goals: a hit rate of at least 90% is so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data pages (data cache) and query plan pages (procedure ca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50D-8067-401E-8205-79224A7252B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n/Dirty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pages that have been updated are mark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other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che ultimately f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pages can simply be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pages must be written to database before page frame can be re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more efficient to overwrite a clean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310-2CB9-49EC-B624-F14F32EFA2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RU Page Replacement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6665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RU page is overwritten when new page is brough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ge becomes MRU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to a page causes it to move to MRU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page must be written before reaching LRU end to avoid de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rite is initiated when a page reaches the wash ma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h marker must be carefully set so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is high that page is clean by the time it reaches LRU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is high that pag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ferenced after passing marker (else it might be written several times before it is overwrit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137160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479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608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152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560" y="203040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U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8200" y="203040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U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4600" y="203040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 m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2193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55308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8487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698-A6C6-485F-87DE-20309DB386C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U Page Replacement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8381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 strategy (a): inefficient for a new pag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at is unlikely to be referenced a second time (table scan, outer loop of nested join) since it unecessarily forc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the writ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U strategy (b): Keep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write area (it will not be overwritten until it reaches LRU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bout how a page is being used is contained in query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905120"/>
            <a:ext cx="693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4600" y="251460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 m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5530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3640" y="1905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7880" y="19051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1523880"/>
            <a:ext cx="114300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720" y="240"/>
                </a:moveTo>
                <a:cubicBezTo>
                  <a:pt x="612" y="120"/>
                  <a:pt x="504" y="0"/>
                  <a:pt x="384" y="0"/>
                </a:cubicBezTo>
                <a:cubicBezTo>
                  <a:pt x="264" y="0"/>
                  <a:pt x="132" y="120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990720"/>
            <a:ext cx="6629400" cy="914400"/>
          </a:xfrm>
          <a:custGeom>
            <a:avLst/>
            <a:gdLst/>
            <a:ahLst/>
            <a:rect l="l" t="t" r="r" b="b"/>
            <a:pathLst>
              <a:path w="4176" h="576">
                <a:moveTo>
                  <a:pt x="4176" y="576"/>
                </a:moveTo>
                <a:cubicBezTo>
                  <a:pt x="3444" y="288"/>
                  <a:pt x="2712" y="0"/>
                  <a:pt x="2016" y="0"/>
                </a:cubicBezTo>
                <a:cubicBezTo>
                  <a:pt x="1320" y="0"/>
                  <a:pt x="336" y="480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440" y="990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238880" y="114300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7DD-FB4A-47E6-9C63-C7C245E27B7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tching Pages Into The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/O 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trieve multiple pages (in an extent) of a table with a single I/O (and lat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 might support several different transfer sizes (e.g., 1, 2 4, … pages from same ext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pages retrieved at cost of a single 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able that is heavily refer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Retrieve a page before it has been requ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a table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9C3-BFFB-44A4-8A4B-9C370B3703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tioning the C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med caches and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fault cache can be divided into several (named) caches of specified s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/index can be bound to a particular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ge in one cache cannot be overwritten by a page of an object bound to a different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queries that have stringent response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inding objects to caches application programmer can exert some control over page replacem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F6A-A8D0-4159-AC15-40AEEE44FA3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Level Tuning: the L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log is an example of a heap storage structure: records appended at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log on a separate de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contention with access to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s seeks since head is always on correct tr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AE8-A83E-4396-A702-30ADF3D9ED9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ation can decreas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sCode, Semester, 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StudI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of Transcript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ere an attribute of Transcript it would not be in BCNF or 3NF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 required to list names of students with A in CS3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join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590920"/>
            <a:ext cx="44960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28600" y="4343400"/>
            <a:ext cx="668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udent S,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Id = T.StudI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Grade = ‘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B0B-F8C1-452F-865F-659A15CDF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ormal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ttribute Name to Tran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avoided, but added redundanc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s data modification (update to redundant attribute has to be performed in two 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size of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the possibility of inconsisten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9280" y="2057400"/>
            <a:ext cx="66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cript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CrsCode = ‘CS305’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Grade = ‘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52F-306E-4EB8-A1E5-B4EE142C4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 Redesig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artitioning of 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ble might be a performance bottlen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is heavily used, causing locking co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’s index is deep (table has many rows or search key is wide), increasing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ws are wide, increasing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partitioning might be a solution to thi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CA3-F0FB-49FC-97CD-6F8F6B073D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izont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ccesses are confined to disjoint subsets of rows, partition table into smaller tables containing the sub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ically (e.g., by state), organizationally (e.g., by department), active/inactive (e.g., current students vs. gr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s users out and reduces contention (particularly if tables can be spread over different de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es have fewer levels (but only margin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in a typical result set are concentrated in fewer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to handle queries over all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B7E-02BF-4CAD-A706-D8C20E5089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columns into two subsets and replicat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when table has many column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ossible to distinguish between frequently and infrequently accesse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queries use different subsets of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mploye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s related to compensation (tax, benefits, salary) split from columns related to job (department, projects, skil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SSN is included in each set, it is possible to retrieve all information about each employee (decomposition is lossless), although a join 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637-6A09-4D35-B47E-5CF040E29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5:42:12Z</dcterms:created>
  <dc:creator>Computer Science Department</dc:creator>
  <dc:description/>
  <dc:language>en-US</dc:language>
  <cp:lastModifiedBy>Pearson Education</cp:lastModifiedBy>
  <dcterms:modified xsi:type="dcterms:W3CDTF">2005-04-06T15:58:46Z</dcterms:modified>
  <cp:revision>58</cp:revision>
  <dc:subject/>
  <dc:title>Tuning</dc:title>
</cp:coreProperties>
</file>