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B8F-A982-4C1E-8053-0099D481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EA7-097B-42A5-A984-68783CE2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E5A-0EE4-4151-AFCA-CC5E49ED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EF6-3283-4B36-98B5-2551B4F6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82FF-54F1-4884-9660-93FA4F4A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7EC5-549A-4F0E-9CEF-EE24EB04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33C8-7C5F-41C5-BA46-38B6A050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7BFB-6C0C-4709-87A9-A79D8C86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01EE-D938-43FA-9AC3-93F0E346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E1A7-DF4D-4CFE-8295-3B3EB363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44BC-0866-438C-9365-5CFFB0C5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EEA-5230-4770-9EE0-8B818CC7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1955-95B7-4F22-A97C-DE90EEAF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92FE-4F53-4869-8E6E-D6342908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6B85-5CD6-4DD8-A48C-3EE3266B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A973-A707-4D46-A106-8A0CB7E3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4A3B-FE27-4C05-88E2-BA4B430E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F0F-7169-40F4-968B-17BC91F3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5BD-557C-4C8F-8B00-79729685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F5C-761C-4118-B4AF-72B66B35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711-B70A-4BA7-AEC8-8F6E8F99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088-D24D-48D3-98C8-4C0FC615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1143-6B93-4009-A576-2CFAA8AF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B7C-90B7-423B-8FA7-05406D5E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257E-D64F-4369-8C40-B88474FC3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81480" y="99072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BF14-07FE-47C1-8E78-6814CBFA3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81480" y="990720"/>
            <a:ext cx="3276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257800" y="2666520"/>
            <a:ext cx="3200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Query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D1F6-6D9B-471D-BE1A-AE114E0CB3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quivalence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1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2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)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 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rot="5400000">
            <a:off x="4342680" y="3123720"/>
            <a:ext cx="3049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647960" y="3123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7880" y="3886200"/>
            <a:ext cx="661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lves only attributes o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volves only attributes o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relates attributes of  R and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B0D-C5F6-4DDB-A72F-FFA227FFF8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97960" y="1295280"/>
            <a:ext cx="783504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.Id =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in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CS’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F1994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eptId=‘CS’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Semester=‘F1994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d=Prof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- 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21240" y="3745080"/>
            <a:ext cx="2737800" cy="31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eptId=‘CS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Semester=‘F1994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d=Prof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52120" y="6019920"/>
            <a:ext cx="44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742840" y="58672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59436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790960" y="3352680"/>
            <a:ext cx="228960" cy="304920"/>
            <a:chOff x="5790960" y="3352680"/>
            <a:chExt cx="228960" cy="304920"/>
          </a:xfrm>
        </p:grpSpPr>
        <p:grpSp>
          <p:nvGrpSpPr>
            <p:cNvPr id="135" name=""/>
            <p:cNvGrpSpPr/>
            <p:nvPr/>
          </p:nvGrpSpPr>
          <p:grpSpPr>
            <a:xfrm>
              <a:off x="5791320" y="3352680"/>
              <a:ext cx="228600" cy="304920"/>
              <a:chOff x="5791320" y="3352680"/>
              <a:chExt cx="228600" cy="304920"/>
            </a:xfrm>
          </p:grpSpPr>
          <p:sp>
            <p:nvSpPr>
              <p:cNvPr id="136" name=""/>
              <p:cNvSpPr/>
              <p:nvPr/>
            </p:nvSpPr>
            <p:spPr>
              <a:xfrm>
                <a:off x="5791320" y="3352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19920" y="335268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790960" y="3352680"/>
              <a:ext cx="228960" cy="304920"/>
              <a:chOff x="5790960" y="3352680"/>
              <a:chExt cx="228960" cy="304920"/>
            </a:xfrm>
          </p:grpSpPr>
          <p:sp>
            <p:nvSpPr>
              <p:cNvPr id="139" name=""/>
              <p:cNvSpPr/>
              <p:nvPr/>
            </p:nvSpPr>
            <p:spPr>
              <a:xfrm>
                <a:off x="5791320" y="33526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5790960" y="33526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3657240" y="5562720"/>
            <a:ext cx="228960" cy="304560"/>
            <a:chOff x="3657240" y="5562720"/>
            <a:chExt cx="228960" cy="304560"/>
          </a:xfrm>
        </p:grpSpPr>
        <p:grpSp>
          <p:nvGrpSpPr>
            <p:cNvPr id="142" name=""/>
            <p:cNvGrpSpPr/>
            <p:nvPr/>
          </p:nvGrpSpPr>
          <p:grpSpPr>
            <a:xfrm>
              <a:off x="3657600" y="5562720"/>
              <a:ext cx="228600" cy="304560"/>
              <a:chOff x="3657600" y="5562720"/>
              <a:chExt cx="228600" cy="304560"/>
            </a:xfrm>
          </p:grpSpPr>
          <p:sp>
            <p:nvSpPr>
              <p:cNvPr id="143" name=""/>
              <p:cNvSpPr/>
              <p:nvPr/>
            </p:nvSpPr>
            <p:spPr>
              <a:xfrm>
                <a:off x="3657600" y="55627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886200" y="55627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657240" y="5562720"/>
              <a:ext cx="228960" cy="304560"/>
              <a:chOff x="3657240" y="5562720"/>
              <a:chExt cx="228960" cy="304560"/>
            </a:xfrm>
          </p:grpSpPr>
          <p:sp>
            <p:nvSpPr>
              <p:cNvPr id="146" name=""/>
              <p:cNvSpPr/>
              <p:nvPr/>
            </p:nvSpPr>
            <p:spPr>
              <a:xfrm>
                <a:off x="3657600" y="556272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657240" y="556272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152280" y="4267080"/>
            <a:ext cx="1905120" cy="762120"/>
          </a:xfrm>
          <a:prstGeom prst="wedgeRoundRectCallout">
            <a:avLst>
              <a:gd name="adj1" fmla="val 97750"/>
              <a:gd name="adj2" fmla="val 31250"/>
              <a:gd name="adj3" fmla="val 16667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ster query execution plan (nothing push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5D5-EFC2-473C-A08A-FE97D9686D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adata on Tables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n system catalog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200 pages, 1000 rows, 50 depar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lustered, 2-level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ash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1000 pages, 10,000 rows, 4 seme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x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lustered, 2-level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 on Semest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n attribute –  average number of rows that have a particular 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(it is a 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(10,000 classes/1000 profess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A92-C040-48CE-986B-6524A8BCF3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Cost - 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block-nested loops with  52  page buffer (50 pages – input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page – input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 – output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n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uter loop): 200 page transfers, (4 iterations, 50 transfers ea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matching rows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ner loop):  1000 page transfer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 each it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outer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cost = 200+4*1000 = 4200 page trans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AB9-04C5-47EA-A708-FCAAFD7387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timating Cost - Example 1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scan rows of intermediate file, discard those that don’t satisfy selection, project on those that do, write result when output buffer is fu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lgorith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e result to intermediate file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intermediate file, d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rite final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nnecessary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2F32-9C8D-487D-86D7-F3A0764F08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pel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ipeli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t as coroutines, operate as producer/consumer sharing a buffer in main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join  fills buffer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ters it and outputs 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is repeated unti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processed last output from jo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ing select/project adds no additional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5105520"/>
            <a:ext cx="1752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5105520"/>
            <a:ext cx="1752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5105520"/>
            <a:ext cx="1524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5486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89720" y="5105520"/>
            <a:ext cx="12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5029200"/>
            <a:ext cx="152424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6248520"/>
            <a:ext cx="914400" cy="380880"/>
          </a:xfrm>
          <a:prstGeom prst="wedgeRoundRectCallout">
            <a:avLst>
              <a:gd name="adj1" fmla="val 72050"/>
              <a:gd name="adj2" fmla="val -151250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029200"/>
            <a:ext cx="14479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EF3E-5AE6-4F85-8D14-88BA640A73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timating Cost - Example 1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00 + (cost of outputting final resul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isregard the cost of  outputting final resul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mparing with other query evaluation strategies, since this will be same fo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286-608F-4D3D-AA7C-A452127AEF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65560" y="2514600"/>
            <a:ext cx="787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emester=‘F1994’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eptId=‘CS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d=Prof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6280" y="1103400"/>
            <a:ext cx="7788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.Id =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CS’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F1994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790960" y="2590920"/>
            <a:ext cx="457560" cy="304560"/>
            <a:chOff x="5790960" y="2590920"/>
            <a:chExt cx="457560" cy="304560"/>
          </a:xfrm>
        </p:grpSpPr>
        <p:sp>
          <p:nvSpPr>
            <p:cNvPr id="173" name=""/>
            <p:cNvSpPr/>
            <p:nvPr/>
          </p:nvSpPr>
          <p:spPr>
            <a:xfrm flipH="1" rot="5400000">
              <a:off x="5752440" y="262872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6200000">
              <a:off x="5981760" y="262872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362320" y="2895480"/>
            <a:ext cx="3763800" cy="54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emester=‘F1994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=‘C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52200" y="4800600"/>
            <a:ext cx="90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d=Prof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76360" y="5029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525780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038120" y="4723920"/>
            <a:ext cx="457560" cy="304920"/>
            <a:chOff x="4038120" y="4723920"/>
            <a:chExt cx="457560" cy="304920"/>
          </a:xfrm>
        </p:grpSpPr>
        <p:sp>
          <p:nvSpPr>
            <p:cNvPr id="183" name=""/>
            <p:cNvSpPr/>
            <p:nvPr/>
          </p:nvSpPr>
          <p:spPr>
            <a:xfrm flipH="1" rot="5400000">
              <a:off x="3999600" y="476208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200000">
              <a:off x="4228920" y="476208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04920" y="3581280"/>
            <a:ext cx="2209680" cy="762120"/>
          </a:xfrm>
          <a:prstGeom prst="wedgeRoundRectCallout">
            <a:avLst>
              <a:gd name="adj1" fmla="val 67888"/>
              <a:gd name="adj2" fmla="val 151250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rtially pushed pl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lection pushed 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265-CBB1-4994-B1CF-BC0584E36B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Example 2 --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=‘CS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(to reduce size of one join table) us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u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-level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 departments and 1000 professors; he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eptId is 20 (roughly 20 CS professors).  These rows are in ~4 consecutive pages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= 4 (to get rows) + 2 (to search index)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resulting 4 pages in memory and pipe to next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4495680"/>
            <a:ext cx="2133720" cy="1143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571500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876560" y="4648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5029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800240" y="53341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5715000"/>
            <a:ext cx="8380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95680"/>
            <a:ext cx="152280" cy="1752840"/>
          </a:xfrm>
          <a:custGeom>
            <a:avLst/>
            <a:gdLst>
              <a:gd name="textAreaLeft" fmla="*/ 97200 w 152280"/>
              <a:gd name="textAreaRight" fmla="*/ 152640 w 15228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7880" y="4952880"/>
            <a:ext cx="20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ed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82760" y="5486400"/>
            <a:ext cx="13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323760" y="5638680"/>
            <a:ext cx="304920" cy="609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BD9-9916-49F6-9154-9A2A1C6AD2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Example 2 --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-nested loops join using hash index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looping on the selected professors (computed on previous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ele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not pushed, hash index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selection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 pushed, the index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have been lost – an advantag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a fully pushed query execu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F6A-4BCE-47B7-B969-DD2B0BC949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n SQL query is declarative –  does not specify a query execution pl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lational algebra expression is procedural –  there is an associated query execution pl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vert SQL query to an equivalent  relational algebra and evaluate it using the associated query execution pl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t which equivalent expression is be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6AD-69FB-4DC6-9FEE-057B00A17F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t Example 2 –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jo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rofessor matches ~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ws. Since 20 CS professors, hence 200 teaching rec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ndex entries for a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in same bucket.  Assume ~1.2 I/Os to get a bu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= 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(to fetch index entries for 20 CS professors) + 200 (to fet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ws, since hash index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clust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4114800"/>
            <a:ext cx="60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4952880"/>
            <a:ext cx="6098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5791320"/>
            <a:ext cx="60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038480"/>
            <a:ext cx="144792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48006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590920" y="4495320"/>
            <a:ext cx="9903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9520" y="525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55627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8480" y="4191120"/>
            <a:ext cx="2057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4495680"/>
            <a:ext cx="20574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464832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7240" y="4343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92240" y="448956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1600" y="50292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4167-41D2-44C8-99D9-F6B21CCA9A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Example 2 –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pe result of join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t no I/O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output same as for Exampl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(select 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224 (join)  =  2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is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00 (example 1) vs. 230 (example 2)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C2D-DBDF-42E3-AC5F-890F3D7319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Output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important to estimate the size of the output of a relational expression – size serves as input to the next stage and affects the choice of how the next stage will be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stimation uses the following measures on a particular instance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up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number of tu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loc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number of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number of distinct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maximum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n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minimum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42D1-5C3E-49C6-93AF-FDBB335DCF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Output Si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qu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duction fa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s by how much query result is smaller than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78800" y="2133720"/>
            <a:ext cx="29941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rget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127040" y="3429000"/>
            <a:ext cx="3817800" cy="875880"/>
            <a:chOff x="4127040" y="3429000"/>
            <a:chExt cx="3817800" cy="875880"/>
          </a:xfrm>
        </p:grpSpPr>
        <p:sp>
          <p:nvSpPr>
            <p:cNvPr id="225" name=""/>
            <p:cNvSpPr/>
            <p:nvPr/>
          </p:nvSpPr>
          <p:spPr>
            <a:xfrm>
              <a:off x="4127040" y="3429000"/>
              <a:ext cx="38178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lock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esult s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lock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..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lock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91120" y="38098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838-64C0-41F1-948B-F7CEB348BB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on of Reduction Fa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that reduction factors due to target list and query condition are indepen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duction(Query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duction(TargetLis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duction(Cond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303-1BF2-44B5-9D6A-C914B2EFD9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du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=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du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at  values are uniformly distributed,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up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up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and every row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ches a row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  The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tuples that satisf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du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54440" y="5486400"/>
            <a:ext cx="3786120" cy="967680"/>
            <a:chOff x="4654440" y="5486400"/>
            <a:chExt cx="3786120" cy="967680"/>
          </a:xfrm>
        </p:grpSpPr>
        <p:sp>
          <p:nvSpPr>
            <p:cNvPr id="231" name=""/>
            <p:cNvSpPr/>
            <p:nvPr/>
          </p:nvSpPr>
          <p:spPr>
            <a:xfrm>
              <a:off x="4654440" y="5486400"/>
              <a:ext cx="3786120" cy="96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axV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axV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inV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22920" y="5943600"/>
              <a:ext cx="34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duction Due to Simpl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962520" y="1066680"/>
            <a:ext cx="1752480" cy="825480"/>
            <a:chOff x="3962520" y="1066680"/>
            <a:chExt cx="1752480" cy="825480"/>
          </a:xfrm>
        </p:grpSpPr>
        <p:sp>
          <p:nvSpPr>
            <p:cNvPr id="235" name=""/>
            <p:cNvSpPr/>
            <p:nvPr/>
          </p:nvSpPr>
          <p:spPr>
            <a:xfrm>
              <a:off x="3962880" y="1066680"/>
              <a:ext cx="168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alu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62520" y="15238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523880" y="4419720"/>
            <a:ext cx="7156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up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up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B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045680" y="1905120"/>
            <a:ext cx="4141440" cy="875880"/>
            <a:chOff x="4045680" y="1905120"/>
            <a:chExt cx="4141440" cy="875880"/>
          </a:xfrm>
        </p:grpSpPr>
        <p:sp>
          <p:nvSpPr>
            <p:cNvPr id="239" name=""/>
            <p:cNvSpPr/>
            <p:nvPr/>
          </p:nvSpPr>
          <p:spPr>
            <a:xfrm>
              <a:off x="4045680" y="1905120"/>
              <a:ext cx="41414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ax(Valu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alu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90760" y="228600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2DA6-4307-48EC-8FF1-79A0971359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duction Due to Complex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(1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867-09C4-4EFB-AF11-394B63C9F0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tion Due to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arget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duction(TargetList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661840" y="3200400"/>
            <a:ext cx="5647320" cy="1136160"/>
            <a:chOff x="2661840" y="3200400"/>
            <a:chExt cx="5647320" cy="1136160"/>
          </a:xfrm>
        </p:grpSpPr>
        <p:sp>
          <p:nvSpPr>
            <p:cNvPr id="246" name=""/>
            <p:cNvSpPr/>
            <p:nvPr/>
          </p:nvSpPr>
          <p:spPr>
            <a:xfrm>
              <a:off x="2661840" y="3200400"/>
              <a:ext cx="564732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umber-of-attribute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argetList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umber-of-attribute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95480" y="3733920"/>
              <a:ext cx="518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24E-6A97-4226-9695-B9FA69E044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imating Weight of At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ight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up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C55-2AE9-4FF1-8EBD-14345AD2E52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Query Execution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Choos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Reduce search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Use a heuristic search to further reduce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671-F132-49D6-9F3E-3C6AFD88B4D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ive Conver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990720"/>
            <a:ext cx="8686800" cy="54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 DISTIN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rget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R1, R2, …,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argetLi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ond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is may  imply a very inefficient query execution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d=ProfId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rsCode=‘CS532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can be  &lt; 100 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if each relation is 50K then we end up computing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ediate  resul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of size 50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 shrinking it down to just a few by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ind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lational algebra expression that can be evaluated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ficien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A22-89DE-434E-B9C1-8C54B78E60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Choosing a Logical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choosing a query tree, which indicates the order in which algebraic operations are ap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uri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ushed trees are good, but sometimes “nearly fully pushed” trees are better due to indexing (as we saw in the ex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ake the initial “master plan” tree and produc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lly push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ee plus sever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arly fully push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4A15-0794-42B3-9FA2-FB983C56FE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Reduce Search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sociativ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binary operators (join, union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6880" y="39276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B      C   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962160" y="3200400"/>
            <a:ext cx="457560" cy="304560"/>
            <a:chOff x="3962160" y="3200400"/>
            <a:chExt cx="457560" cy="304560"/>
          </a:xfrm>
        </p:grpSpPr>
        <p:sp>
          <p:nvSpPr>
            <p:cNvPr id="258" name=""/>
            <p:cNvSpPr/>
            <p:nvPr/>
          </p:nvSpPr>
          <p:spPr>
            <a:xfrm flipH="1" rot="5400000">
              <a:off x="3923640" y="32382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200000">
              <a:off x="4152960" y="323820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959200" y="4613400"/>
            <a:ext cx="24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B     C     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914040" y="35812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447560" y="3581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3581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76520" y="358128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81280" y="3581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91120" y="35812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200400" y="41148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41911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495320" y="41148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41148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35040" y="3774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72560" y="4537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01680" y="52228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857640" y="35812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43800" y="35812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324480" y="41911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41911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943240" y="48769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48769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2200" y="4765680"/>
            <a:ext cx="196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59800" y="5375160"/>
            <a:ext cx="150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90600" y="5562720"/>
            <a:ext cx="207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ep quer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352320" y="3809880"/>
            <a:ext cx="457560" cy="304560"/>
            <a:chOff x="3352320" y="3809880"/>
            <a:chExt cx="457560" cy="304560"/>
          </a:xfrm>
        </p:grpSpPr>
        <p:sp>
          <p:nvSpPr>
            <p:cNvPr id="284" name=""/>
            <p:cNvSpPr/>
            <p:nvPr/>
          </p:nvSpPr>
          <p:spPr>
            <a:xfrm flipH="1" rot="5400000">
              <a:off x="3313800" y="38476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3543120" y="384768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571640" y="3809880"/>
            <a:ext cx="457560" cy="304560"/>
            <a:chOff x="4571640" y="3809880"/>
            <a:chExt cx="457560" cy="304560"/>
          </a:xfrm>
        </p:grpSpPr>
        <p:sp>
          <p:nvSpPr>
            <p:cNvPr id="287" name=""/>
            <p:cNvSpPr/>
            <p:nvPr/>
          </p:nvSpPr>
          <p:spPr>
            <a:xfrm flipH="1" rot="5400000">
              <a:off x="4533120" y="38476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4762440" y="384768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552720" y="3886200"/>
            <a:ext cx="457560" cy="304560"/>
            <a:chOff x="6552720" y="3886200"/>
            <a:chExt cx="457560" cy="304560"/>
          </a:xfrm>
        </p:grpSpPr>
        <p:sp>
          <p:nvSpPr>
            <p:cNvPr id="290" name=""/>
            <p:cNvSpPr/>
            <p:nvPr/>
          </p:nvSpPr>
          <p:spPr>
            <a:xfrm flipH="1" rot="5400000">
              <a:off x="6514200" y="39240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6200000">
              <a:off x="6743520" y="392400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314840" y="3200400"/>
            <a:ext cx="457560" cy="304560"/>
            <a:chOff x="7314840" y="3200400"/>
            <a:chExt cx="457560" cy="304560"/>
          </a:xfrm>
        </p:grpSpPr>
        <p:sp>
          <p:nvSpPr>
            <p:cNvPr id="293" name=""/>
            <p:cNvSpPr/>
            <p:nvPr/>
          </p:nvSpPr>
          <p:spPr>
            <a:xfrm flipH="1" rot="5400000">
              <a:off x="7276320" y="32382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6200000">
              <a:off x="7505640" y="323820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019560" y="4495680"/>
            <a:ext cx="457560" cy="304560"/>
            <a:chOff x="6019560" y="4495680"/>
            <a:chExt cx="457560" cy="304560"/>
          </a:xfrm>
        </p:grpSpPr>
        <p:sp>
          <p:nvSpPr>
            <p:cNvPr id="296" name=""/>
            <p:cNvSpPr/>
            <p:nvPr/>
          </p:nvSpPr>
          <p:spPr>
            <a:xfrm flipH="1" rot="5400000">
              <a:off x="5981040" y="45334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6200000">
              <a:off x="6210360" y="453348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447560" y="3200400"/>
            <a:ext cx="457560" cy="304560"/>
            <a:chOff x="1447560" y="3200400"/>
            <a:chExt cx="457560" cy="304560"/>
          </a:xfrm>
        </p:grpSpPr>
        <p:sp>
          <p:nvSpPr>
            <p:cNvPr id="299" name=""/>
            <p:cNvSpPr/>
            <p:nvPr/>
          </p:nvSpPr>
          <p:spPr>
            <a:xfrm flipH="1" rot="5400000">
              <a:off x="1409040" y="32382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6200000">
              <a:off x="1638360" y="323820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10D-FFCE-4BEC-8261-4F81F35447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particul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a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tree (like in the previous sl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s the number of ways to parenthesize N-way join – grows very rapi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particular permutation of the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4! permutations of the leave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3DA-F5FC-4FC3-914F-308A85FE51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 2: Dealing With Associa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any trees to evaluate: settle on a particular shape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ft-deep tre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ecause it allow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ipeli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nce a row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been output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t need not be output again (but C may have to be processed several times i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successive portions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ne of the intermediate relations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ve to be completely materialized and saved on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 if one such relation is very large, but the final result is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447920" y="2286000"/>
            <a:ext cx="6781680" cy="1482480"/>
            <a:chOff x="1447920" y="2286000"/>
            <a:chExt cx="6781680" cy="1482480"/>
          </a:xfrm>
        </p:grpSpPr>
        <p:sp>
          <p:nvSpPr>
            <p:cNvPr id="306" name=""/>
            <p:cNvSpPr/>
            <p:nvPr/>
          </p:nvSpPr>
          <p:spPr>
            <a:xfrm rot="16200000">
              <a:off x="2133360" y="3158640"/>
              <a:ext cx="304920" cy="304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47920" y="2854080"/>
              <a:ext cx="14475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        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62520" y="2854080"/>
              <a:ext cx="14475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        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81680" y="2854080"/>
              <a:ext cx="14479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        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895480" y="33112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10080" y="33112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6720" y="3276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53600" y="3276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11600" y="2286000"/>
              <a:ext cx="560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495320" y="3159000"/>
              <a:ext cx="457560" cy="304560"/>
              <a:chOff x="4495320" y="3159000"/>
              <a:chExt cx="457560" cy="304560"/>
            </a:xfrm>
          </p:grpSpPr>
          <p:sp>
            <p:nvSpPr>
              <p:cNvPr id="316" name=""/>
              <p:cNvSpPr/>
              <p:nvPr/>
            </p:nvSpPr>
            <p:spPr>
              <a:xfrm flipH="1" rot="5400000">
                <a:off x="4456800" y="3196800"/>
                <a:ext cx="30456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200000">
                <a:off x="4686120" y="3196800"/>
                <a:ext cx="304560" cy="228600"/>
              </a:xfrm>
              <a:prstGeom prst="triangle">
                <a:avLst>
                  <a:gd name="adj" fmla="val 5051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7238520" y="3159000"/>
              <a:ext cx="457560" cy="304560"/>
              <a:chOff x="7238520" y="3159000"/>
              <a:chExt cx="457560" cy="304560"/>
            </a:xfrm>
          </p:grpSpPr>
          <p:sp>
            <p:nvSpPr>
              <p:cNvPr id="319" name=""/>
              <p:cNvSpPr/>
              <p:nvPr/>
            </p:nvSpPr>
            <p:spPr>
              <a:xfrm flipH="1" rot="5400000">
                <a:off x="7200000" y="3196800"/>
                <a:ext cx="30456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7429320" y="3196800"/>
                <a:ext cx="304560" cy="228600"/>
              </a:xfrm>
              <a:prstGeom prst="triangle">
                <a:avLst>
                  <a:gd name="adj" fmla="val 5051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1904760" y="3159000"/>
              <a:ext cx="457560" cy="304560"/>
              <a:chOff x="1904760" y="3159000"/>
              <a:chExt cx="457560" cy="304560"/>
            </a:xfrm>
          </p:grpSpPr>
          <p:sp>
            <p:nvSpPr>
              <p:cNvPr id="322" name=""/>
              <p:cNvSpPr/>
              <p:nvPr/>
            </p:nvSpPr>
            <p:spPr>
              <a:xfrm flipH="1" rot="5400000">
                <a:off x="1866240" y="3196800"/>
                <a:ext cx="30456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6200000">
                <a:off x="2095560" y="3196800"/>
                <a:ext cx="304560" cy="228600"/>
              </a:xfrm>
              <a:prstGeom prst="triangle">
                <a:avLst>
                  <a:gd name="adj" fmla="val 5051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6AC-7DAE-4AA1-828F-912DC17894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 2: Dealing with Associa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alternative:  if we use the association (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      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 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      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274320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4038480"/>
            <a:ext cx="1447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      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67080" y="3352680"/>
            <a:ext cx="14479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       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83440" y="3048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95480" y="32004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95480" y="38095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344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80040" y="301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440" y="2971800"/>
            <a:ext cx="283392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row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processed agai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Hence al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an be very lar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pute it sev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0880" y="2936880"/>
            <a:ext cx="4384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88480" y="43084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114440" y="2057400"/>
            <a:ext cx="457560" cy="304560"/>
            <a:chOff x="4114440" y="2057400"/>
            <a:chExt cx="457560" cy="304560"/>
          </a:xfrm>
        </p:grpSpPr>
        <p:sp>
          <p:nvSpPr>
            <p:cNvPr id="338" name=""/>
            <p:cNvSpPr/>
            <p:nvPr/>
          </p:nvSpPr>
          <p:spPr>
            <a:xfrm flipH="1" rot="5400000">
              <a:off x="4075920" y="20952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6200000">
              <a:off x="4305240" y="209520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333760" y="2057400"/>
            <a:ext cx="457560" cy="304560"/>
            <a:chOff x="5333760" y="2057400"/>
            <a:chExt cx="457560" cy="304560"/>
          </a:xfrm>
        </p:grpSpPr>
        <p:sp>
          <p:nvSpPr>
            <p:cNvPr id="341" name=""/>
            <p:cNvSpPr/>
            <p:nvPr/>
          </p:nvSpPr>
          <p:spPr>
            <a:xfrm flipH="1" rot="5400000">
              <a:off x="5295240" y="20952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5524560" y="209520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629040" y="2057400"/>
            <a:ext cx="457560" cy="304560"/>
            <a:chOff x="6629040" y="2057400"/>
            <a:chExt cx="457560" cy="304560"/>
          </a:xfrm>
        </p:grpSpPr>
        <p:sp>
          <p:nvSpPr>
            <p:cNvPr id="344" name=""/>
            <p:cNvSpPr/>
            <p:nvPr/>
          </p:nvSpPr>
          <p:spPr>
            <a:xfrm flipH="1" rot="5400000">
              <a:off x="6590520" y="20952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6819840" y="209520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980720" y="3048120"/>
            <a:ext cx="457560" cy="304560"/>
            <a:chOff x="1980720" y="3048120"/>
            <a:chExt cx="457560" cy="304560"/>
          </a:xfrm>
        </p:grpSpPr>
        <p:sp>
          <p:nvSpPr>
            <p:cNvPr id="347" name=""/>
            <p:cNvSpPr/>
            <p:nvPr/>
          </p:nvSpPr>
          <p:spPr>
            <a:xfrm flipH="1" rot="5400000">
              <a:off x="1942200" y="308592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2171520" y="308592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723920" y="3657600"/>
            <a:ext cx="457560" cy="304560"/>
            <a:chOff x="4723920" y="3657600"/>
            <a:chExt cx="457560" cy="304560"/>
          </a:xfrm>
        </p:grpSpPr>
        <p:sp>
          <p:nvSpPr>
            <p:cNvPr id="350" name=""/>
            <p:cNvSpPr/>
            <p:nvPr/>
          </p:nvSpPr>
          <p:spPr>
            <a:xfrm flipH="1" rot="5400000">
              <a:off x="4685400" y="36954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6200000">
              <a:off x="4914720" y="369540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904760" y="4343400"/>
            <a:ext cx="457560" cy="304560"/>
            <a:chOff x="1904760" y="4343400"/>
            <a:chExt cx="457560" cy="304560"/>
          </a:xfrm>
        </p:grpSpPr>
        <p:sp>
          <p:nvSpPr>
            <p:cNvPr id="353" name=""/>
            <p:cNvSpPr/>
            <p:nvPr/>
          </p:nvSpPr>
          <p:spPr>
            <a:xfrm flipH="1" rot="5400000">
              <a:off x="1866240" y="43812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6200000">
              <a:off x="2095560" y="438120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6AC-DA01-4E2D-980F-5C3E202E0B2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 3: Heuristic 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oice of left-deep trees still leaves open too many options (N! permutation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     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(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      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euristic (often dynamic programming based) algorithm is used to get a ‘good’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647960" y="3124080"/>
            <a:ext cx="457560" cy="304560"/>
            <a:chOff x="4647960" y="3124080"/>
            <a:chExt cx="457560" cy="304560"/>
          </a:xfrm>
        </p:grpSpPr>
        <p:sp>
          <p:nvSpPr>
            <p:cNvPr id="358" name=""/>
            <p:cNvSpPr/>
            <p:nvPr/>
          </p:nvSpPr>
          <p:spPr>
            <a:xfrm flipH="1" rot="5400000">
              <a:off x="4609440" y="31618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4838760" y="316188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647960" y="3657600"/>
            <a:ext cx="457560" cy="304560"/>
            <a:chOff x="4647960" y="3657600"/>
            <a:chExt cx="457560" cy="304560"/>
          </a:xfrm>
        </p:grpSpPr>
        <p:sp>
          <p:nvSpPr>
            <p:cNvPr id="361" name=""/>
            <p:cNvSpPr/>
            <p:nvPr/>
          </p:nvSpPr>
          <p:spPr>
            <a:xfrm flipH="1" rot="5400000">
              <a:off x="4609440" y="36954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4838760" y="369540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428640" y="3124080"/>
            <a:ext cx="457560" cy="304560"/>
            <a:chOff x="3428640" y="3124080"/>
            <a:chExt cx="457560" cy="304560"/>
          </a:xfrm>
        </p:grpSpPr>
        <p:sp>
          <p:nvSpPr>
            <p:cNvPr id="364" name=""/>
            <p:cNvSpPr/>
            <p:nvPr/>
          </p:nvSpPr>
          <p:spPr>
            <a:xfrm flipH="1" rot="5400000">
              <a:off x="3390120" y="31618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6200000">
              <a:off x="3619440" y="316188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428640" y="3657600"/>
            <a:ext cx="457560" cy="304560"/>
            <a:chOff x="3428640" y="3657600"/>
            <a:chExt cx="457560" cy="304560"/>
          </a:xfrm>
        </p:grpSpPr>
        <p:sp>
          <p:nvSpPr>
            <p:cNvPr id="367" name=""/>
            <p:cNvSpPr/>
            <p:nvPr/>
          </p:nvSpPr>
          <p:spPr>
            <a:xfrm flipH="1" rot="5400000">
              <a:off x="3390120" y="36954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6200000">
              <a:off x="3619440" y="369540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285640" y="3124080"/>
            <a:ext cx="457560" cy="304560"/>
            <a:chOff x="2285640" y="3124080"/>
            <a:chExt cx="457560" cy="304560"/>
          </a:xfrm>
        </p:grpSpPr>
        <p:sp>
          <p:nvSpPr>
            <p:cNvPr id="370" name=""/>
            <p:cNvSpPr/>
            <p:nvPr/>
          </p:nvSpPr>
          <p:spPr>
            <a:xfrm flipH="1" rot="5400000">
              <a:off x="2247120" y="31618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2476440" y="316188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285640" y="3657600"/>
            <a:ext cx="457560" cy="304560"/>
            <a:chOff x="2285640" y="3657600"/>
            <a:chExt cx="457560" cy="304560"/>
          </a:xfrm>
        </p:grpSpPr>
        <p:sp>
          <p:nvSpPr>
            <p:cNvPr id="373" name=""/>
            <p:cNvSpPr/>
            <p:nvPr/>
          </p:nvSpPr>
          <p:spPr>
            <a:xfrm flipH="1" rot="5400000">
              <a:off x="2247120" y="36954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6200000">
              <a:off x="2476440" y="3695400"/>
              <a:ext cx="304560" cy="228600"/>
            </a:xfrm>
            <a:prstGeom prst="triangle">
              <a:avLst>
                <a:gd name="adj" fmla="val 505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A4FE-A064-4377-A4A3-3CA9ADFFD26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: Dynamic Programming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an idea – see book for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ompute a join of 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 left-deep mann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1-relation expressions (can invol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best and “nearly best” plans for each (a plan is considered nearly best if its out put has some “interesting” form, e.g., is sor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se 1-relation plans into 2-relation expressions.  Retain only the best and nearly best 2-relation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same for 3-relation expressio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6DF-2E1B-4C2B-9501-3E56FDC5599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x-Only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ree index with search key attrib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stored in it the values of these attributes for each row in th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ies involving a prefix of the attribute li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satisfied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the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no access to the actual table is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clustered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ee index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A frequently asked query is one that requests all grades for a giv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ready have a clustered index on StudId – cannot create another one (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reate an unclustered index o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in mind, however, the overhead in maintaining extra ind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45C-DB7E-493D-A435-CF31605D22D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ry Processing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1230480"/>
            <a:ext cx="8153280" cy="53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278-8CFF-4F8A-9930-CD5B9257B9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Optimi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heuristic algorithms to evaluate relational algebra expressions. This invol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ing the cost of a relational algebra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ing one relational algebra expression to an equivalen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ing access paths for evaluating the sub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optimizers do not “optimize” – just try to find “reasonably good” evaluation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5A2-5B05-4749-B1BF-DCFD7C1A94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ivalence Preserving Transform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ransform a relational expression into another equivalent expression we need transformation rules that preserve equiva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ransformation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provably correct (ie, does preserve equival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a heuristic associated with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88F-6C37-40DC-9C17-726B0B4363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lection and Proje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complex selection into simpler 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ond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ond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ond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ond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projection into s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tt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)),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ttr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te projection and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)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o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))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ll attribut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480-394E-49E0-9D04-9E4721B429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utativity and Associativity of Jo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nd Cartesian Product as Special C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commutativity:  R        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       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reduce cost of nested loop evaluation strategies (smaller relation should be in outer lo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associativity:  R        (S        T)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R        S)       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reduce the size of intermediate relations in computation of multi-relational join – first compute the join that yields smaller intermediat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way join h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(N)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different evaluation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(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number of parenthesized expr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 is the number of permu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optimiz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ok at all plans (might take longer to find an optimal plan than to compute query brute-force). Hence it does not necessarily produce optimal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190760" y="1523520"/>
            <a:ext cx="304920" cy="228600"/>
            <a:chOff x="4190760" y="1523520"/>
            <a:chExt cx="304920" cy="228600"/>
          </a:xfrm>
        </p:grpSpPr>
        <p:sp>
          <p:nvSpPr>
            <p:cNvPr id="99" name=""/>
            <p:cNvSpPr/>
            <p:nvPr/>
          </p:nvSpPr>
          <p:spPr>
            <a:xfrm flipH="1" rot="5400000">
              <a:off x="4152240" y="156168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305240" y="156168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66920" y="1523520"/>
            <a:ext cx="304920" cy="228600"/>
            <a:chOff x="5866920" y="1523520"/>
            <a:chExt cx="304920" cy="228600"/>
          </a:xfrm>
        </p:grpSpPr>
        <p:sp>
          <p:nvSpPr>
            <p:cNvPr id="102" name=""/>
            <p:cNvSpPr/>
            <p:nvPr/>
          </p:nvSpPr>
          <p:spPr>
            <a:xfrm flipH="1" rot="5400000">
              <a:off x="5828400" y="156168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981400" y="156168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924320" y="2742840"/>
            <a:ext cx="304920" cy="228600"/>
            <a:chOff x="7924320" y="2742840"/>
            <a:chExt cx="304920" cy="228600"/>
          </a:xfrm>
        </p:grpSpPr>
        <p:sp>
          <p:nvSpPr>
            <p:cNvPr id="105" name=""/>
            <p:cNvSpPr/>
            <p:nvPr/>
          </p:nvSpPr>
          <p:spPr>
            <a:xfrm flipH="1" rot="5400000">
              <a:off x="7885800" y="27810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8038800" y="27810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885840" y="2742840"/>
            <a:ext cx="304920" cy="228600"/>
            <a:chOff x="3885840" y="2742840"/>
            <a:chExt cx="304920" cy="228600"/>
          </a:xfrm>
        </p:grpSpPr>
        <p:sp>
          <p:nvSpPr>
            <p:cNvPr id="108" name=""/>
            <p:cNvSpPr/>
            <p:nvPr/>
          </p:nvSpPr>
          <p:spPr>
            <a:xfrm flipH="1" rot="5400000">
              <a:off x="3847320" y="27810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4000320" y="27810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952520" y="2742840"/>
            <a:ext cx="304920" cy="228600"/>
            <a:chOff x="4952520" y="2742840"/>
            <a:chExt cx="304920" cy="228600"/>
          </a:xfrm>
        </p:grpSpPr>
        <p:sp>
          <p:nvSpPr>
            <p:cNvPr id="111" name=""/>
            <p:cNvSpPr/>
            <p:nvPr/>
          </p:nvSpPr>
          <p:spPr>
            <a:xfrm flipH="1" rot="5400000">
              <a:off x="4914000" y="27810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5067000" y="27810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857640" y="2742840"/>
            <a:ext cx="304920" cy="228600"/>
            <a:chOff x="6857640" y="2742840"/>
            <a:chExt cx="304920" cy="228600"/>
          </a:xfrm>
        </p:grpSpPr>
        <p:sp>
          <p:nvSpPr>
            <p:cNvPr id="114" name=""/>
            <p:cNvSpPr/>
            <p:nvPr/>
          </p:nvSpPr>
          <p:spPr>
            <a:xfrm flipH="1" rot="5400000">
              <a:off x="6819120" y="27810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6972120" y="27810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C92-65DC-4899-A246-ABE939DCA7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shing Selections and Proj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o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    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s attributes of both R and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s size of intermediate relation since rows can be discarded so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o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o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s only the attributes of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s size of intermediate relation since rows of R are discarded so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tributes(R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tr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t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∩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tributes(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s the size of an operand of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038120" y="1371240"/>
            <a:ext cx="304920" cy="228600"/>
            <a:chOff x="4038120" y="1371240"/>
            <a:chExt cx="304920" cy="228600"/>
          </a:xfrm>
        </p:grpSpPr>
        <p:sp>
          <p:nvSpPr>
            <p:cNvPr id="119" name=""/>
            <p:cNvSpPr/>
            <p:nvPr/>
          </p:nvSpPr>
          <p:spPr>
            <a:xfrm flipH="1" rot="5400000">
              <a:off x="3999600" y="14094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152600" y="140940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C54-01AA-49BB-ABC1-3A97D4B77F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4T15:36:10Z</dcterms:created>
  <dc:creator>ARTHUR  BERNSTEIN</dc:creator>
  <dc:description/>
  <dc:language>en-US</dc:language>
  <cp:lastModifiedBy>Pearson Education</cp:lastModifiedBy>
  <dcterms:modified xsi:type="dcterms:W3CDTF">2005-04-06T15:58:54Z</dcterms:modified>
  <cp:revision>62</cp:revision>
  <dc:subject/>
  <dc:title>An Overview of Query Optimization</dc:title>
</cp:coreProperties>
</file>