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AA4-BE29-4D72-88E3-8DA03FCF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113-DA27-4A8D-B25C-9C10F80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F85-C78B-4F98-8A52-4B489B23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BCE-2DEB-443B-9DF4-F1C0C1DA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8573-40AB-4FB2-8B76-1AF9181E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486E-79C8-4F53-B2CF-58525D65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C112-75BB-400D-A584-9A224B5F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FB71-9542-49B7-93B6-6E9C6EBF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7079-7FEC-4652-8A83-53AC7EED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FBD2-F481-44C3-9A1D-1B64F013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882-D667-4D56-9BA5-F61EE2D2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F2E-A3D7-4B93-B07E-76D452A7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DDBF-596B-4AED-91D3-DB649F03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E3D9-681F-4867-8E1A-60432A1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FA12-7186-4902-A15F-5C506306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8423-4094-4BD1-B72A-9698D110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FF99-20AD-425D-AA03-2C581214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861-4A25-4F55-A379-84D123EE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4F7-AA44-4781-82F6-348BAB2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856-2497-40AB-A3C8-EDC7F6CA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3D3-4531-424D-A0B8-4466A015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BC7-02CB-493E-AE68-56AB5FAE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302-B8AF-4EBE-9331-794E112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5C5-C1E0-4FFF-935A-B77662DC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B123-F20C-4E4F-8FFD-916FAF077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8840" y="9140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C9E9-A25D-4F9A-8665-6CF1C3488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8840" y="9140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105160" y="2742840"/>
            <a:ext cx="3429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Processing: The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8988-4922-4E00-B7AF-609F5E0FCD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rt-Based Proj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 rows of relation at cost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unwanted columns in partial sort phase (no additional c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duplicates on completion of last merge step (no additional c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: the cost of s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8D2-CBF7-4ABA-9F50-DCD8A3C332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sh-Based Proj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out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h remaining columns using a hash function with ran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…M-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ing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buckets on 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rt each bucket to eliminate du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ssuming a bucket fits in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-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ffer pages)  =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2120" y="4419720"/>
            <a:ext cx="7753320" cy="2038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025160" y="45576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6248520"/>
            <a:ext cx="914400" cy="380880"/>
          </a:xfrm>
          <a:prstGeom prst="wedgeRoundRectCallout">
            <a:avLst>
              <a:gd name="adj1" fmla="val 89583"/>
              <a:gd name="adj2" fmla="val -151250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07C-68E7-4AA9-800C-DBA2AEB11B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ing Selectio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op  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index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o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rt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all data pages to find rows satisfying  selectio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o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rte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 is  =, &gt;, &lt;  the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a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ocate first data page containing row in whi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further to get all rows satisfying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st of sc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021-FE8B-4B01-9D61-AA6884F56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ing Selectio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op  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index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or “=” or range searc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first  index entry corresponding to a row in which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 =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epth of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 satisfying condition packed in  sequence in successive data pages; scan those p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number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pied by qualifying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314520" y="4304880"/>
            <a:ext cx="251460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3886200"/>
            <a:ext cx="53352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17600" y="434340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100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85920" y="4738680"/>
            <a:ext cx="200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dex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ontaining r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at satis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57150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74E-B189-4127-BC31-9EF39492DF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ing Selectio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op  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cluste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index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for “=” or range search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first  index entry corresponding to a row in whi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 =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epth of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x entries with pointers to rows satisfying condition are packed in sequence in successive index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entries and sort record Ids to identify table data pages with qualifying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page that has at least one such row must be fetched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umber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satisfy selectio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BD7-7E44-4DFD-9373-AD8DA9D433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lustered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ee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419040" y="3086280"/>
            <a:ext cx="3276720" cy="167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2286000"/>
            <a:ext cx="53352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1371600"/>
            <a:ext cx="11430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2133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080" y="1344600"/>
            <a:ext cx="27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dex entries (cont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w Ids) that satis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2209680"/>
            <a:ext cx="83844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00400" y="26665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350532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200400" y="1905120"/>
            <a:ext cx="20574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200400" y="243828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388620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0400" y="39625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200400" y="2286000"/>
            <a:ext cx="20574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4114800"/>
            <a:ext cx="20574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2133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82400" y="228600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3962520"/>
            <a:ext cx="914400" cy="685800"/>
          </a:xfrm>
          <a:prstGeom prst="wedgeRoundRectCallout">
            <a:avLst>
              <a:gd name="adj1" fmla="val -156425"/>
              <a:gd name="adj2" fmla="val -57638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Data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5257800"/>
            <a:ext cx="1143000" cy="457200"/>
          </a:xfrm>
          <a:prstGeom prst="wedgeRoundRectCallout">
            <a:avLst>
              <a:gd name="adj1" fmla="val 45138"/>
              <a:gd name="adj2" fmla="val -162847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B6A-DAAF-40FD-BC58-D653DC3B55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Selectio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sh ind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or “=” search only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h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2 – typical average cost of hashing  (&gt; 1 due to possible overflow chai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s the (unique) bucket containing all index entries satisfying selection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ex – all qualifying rows packed in the bucket (a few p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g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ccupies by the bu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dex – sort row Ids in the index entries to identify data pages with qualifying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ge containing at least one such row must be fetched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in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umber of qualifying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ow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n bucket, number of pages in 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AF8-E0C2-4FA5-8682-341152F75C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ing Sele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at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lustered hash index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or equality sear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3124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124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3124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48520" y="3124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72428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472428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72428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472428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8320" y="472428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4724280"/>
            <a:ext cx="609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472428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4724280"/>
            <a:ext cx="609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28320" y="30132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27760" y="568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124080" y="342900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952520" y="3505320"/>
            <a:ext cx="3049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352320" y="3733920"/>
            <a:ext cx="2133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3352680"/>
            <a:ext cx="1447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3733920"/>
            <a:ext cx="2819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D8E-8E91-49C5-81AF-F1E6BB3150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ss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the notion that deno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orithm + data 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d to locate rows satisfying some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e s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can be used for any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quality search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key attributes of hash index are specified i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qua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ge search;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search key attributes are specified i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ee supports a variety of access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Relation sorted on a sequence of attributes and s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f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at sequence is specified in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4FA2-E8AF-43BC-BCD4-1679FA0F05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Paths Supported by B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iven a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 whose search key is the sequence of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2, a1, a3, a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path for searc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a2=3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a3=‘x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first entry hav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2=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1&gt;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3=‘x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can leaves from there until entry hav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3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‘x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elect satisfying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path for searc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2=3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a3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‘x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first entry hav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2=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can leaves until entry hav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elect satisfying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path for searc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a3 =‘x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 Sca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5F92-5BB3-48A3-B16B-33096C11DB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Sor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is used in implementing many relational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 are typically large, do not fit in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annot use traditional in-memory sorting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in-memory sorting with clever techniques aimed at minimizing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costs dominate =&gt; cost of sorting algorithm is measured in the number of page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C8F-43DB-456A-9A75-9E22507E62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an Access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access path = number of pages retrieved using that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everal access paths support a query, DBMS chooses the one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l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domain of attribute is an indicator of the selectivity of search conditions that involve that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‘CS305’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‘B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with search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lower selectivity than a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 with search k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C66-FFFC-4AA1-918C-A0148CB07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st of joining two relations makes the choice of a join algorithm cru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lock-nested loo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oin algorithm for computing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B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828800" y="4038480"/>
            <a:ext cx="4114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ach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ach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r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B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cc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3964680" y="3197880"/>
            <a:ext cx="228600" cy="23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rot="16200000">
            <a:off x="4228920" y="3162240"/>
            <a:ext cx="228600" cy="3045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5400000">
            <a:off x="3812040" y="4950360"/>
            <a:ext cx="228600" cy="233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4228920" y="3162240"/>
            <a:ext cx="228600" cy="3045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rot="16200000">
            <a:off x="4075560" y="4914720"/>
            <a:ext cx="228600" cy="30492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51A-F9DB-4BF4-9DFB-356221848E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Nested Loops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number of pages in r and s, the cost of algorithm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t of outputting fin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v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ges eac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is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oose smaller relation for the outer lo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2743200"/>
            <a:ext cx="579240" cy="569880"/>
          </a:xfrm>
          <a:custGeom>
            <a:avLst/>
            <a:gdLst/>
            <a:ahLst/>
            <a:rect l="l" t="t" r="r" b="b"/>
            <a:pathLst>
              <a:path w="365" h="359">
                <a:moveTo>
                  <a:pt x="229" y="36"/>
                </a:moveTo>
                <a:cubicBezTo>
                  <a:pt x="189" y="20"/>
                  <a:pt x="150" y="13"/>
                  <a:pt x="110" y="0"/>
                </a:cubicBezTo>
                <a:cubicBezTo>
                  <a:pt x="47" y="27"/>
                  <a:pt x="23" y="37"/>
                  <a:pt x="0" y="100"/>
                </a:cubicBezTo>
                <a:cubicBezTo>
                  <a:pt x="3" y="149"/>
                  <a:pt x="2" y="199"/>
                  <a:pt x="10" y="247"/>
                </a:cubicBezTo>
                <a:cubicBezTo>
                  <a:pt x="17" y="291"/>
                  <a:pt x="103" y="320"/>
                  <a:pt x="138" y="329"/>
                </a:cubicBezTo>
                <a:cubicBezTo>
                  <a:pt x="261" y="323"/>
                  <a:pt x="365" y="359"/>
                  <a:pt x="311" y="210"/>
                </a:cubicBezTo>
                <a:cubicBezTo>
                  <a:pt x="307" y="200"/>
                  <a:pt x="293" y="198"/>
                  <a:pt x="284" y="192"/>
                </a:cubicBezTo>
                <a:cubicBezTo>
                  <a:pt x="228" y="109"/>
                  <a:pt x="251" y="159"/>
                  <a:pt x="229" y="36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10280" y="1981080"/>
            <a:ext cx="1905120" cy="609840"/>
          </a:xfrm>
          <a:prstGeom prst="wedgeRoundRectCallout">
            <a:avLst>
              <a:gd name="adj1" fmla="val -242833"/>
              <a:gd name="adj2" fmla="val 7525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mber of scans of rel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CB5-B397-467F-9328-F6DCE82133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Nested Loops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can be reduced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(M-2))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t of outputting fin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M buffer pages instead of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9200" y="3171960"/>
            <a:ext cx="8372520" cy="26575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781680" y="1066680"/>
            <a:ext cx="1828800" cy="609840"/>
          </a:xfrm>
          <a:prstGeom prst="wedgeRoundRectCallout">
            <a:avLst>
              <a:gd name="adj1" fmla="val -225694"/>
              <a:gd name="adj2" fmla="val 7760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umber of scans of relation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1080" y="1752480"/>
            <a:ext cx="1600200" cy="612720"/>
          </a:xfrm>
          <a:custGeom>
            <a:avLst/>
            <a:gdLst/>
            <a:ahLst/>
            <a:rect l="l" t="t" r="r" b="b"/>
            <a:pathLst>
              <a:path w="1023" h="386">
                <a:moveTo>
                  <a:pt x="696" y="38"/>
                </a:moveTo>
                <a:cubicBezTo>
                  <a:pt x="577" y="18"/>
                  <a:pt x="621" y="32"/>
                  <a:pt x="559" y="11"/>
                </a:cubicBezTo>
                <a:cubicBezTo>
                  <a:pt x="416" y="16"/>
                  <a:pt x="198" y="0"/>
                  <a:pt x="84" y="121"/>
                </a:cubicBezTo>
                <a:cubicBezTo>
                  <a:pt x="70" y="158"/>
                  <a:pt x="51" y="197"/>
                  <a:pt x="29" y="230"/>
                </a:cubicBezTo>
                <a:cubicBezTo>
                  <a:pt x="0" y="320"/>
                  <a:pt x="81" y="375"/>
                  <a:pt x="166" y="377"/>
                </a:cubicBezTo>
                <a:cubicBezTo>
                  <a:pt x="428" y="383"/>
                  <a:pt x="690" y="383"/>
                  <a:pt x="952" y="386"/>
                </a:cubicBezTo>
                <a:cubicBezTo>
                  <a:pt x="970" y="383"/>
                  <a:pt x="991" y="386"/>
                  <a:pt x="1007" y="377"/>
                </a:cubicBezTo>
                <a:cubicBezTo>
                  <a:pt x="1015" y="372"/>
                  <a:pt x="1016" y="359"/>
                  <a:pt x="1016" y="349"/>
                </a:cubicBezTo>
                <a:cubicBezTo>
                  <a:pt x="1016" y="270"/>
                  <a:pt x="1023" y="128"/>
                  <a:pt x="943" y="75"/>
                </a:cubicBezTo>
                <a:cubicBezTo>
                  <a:pt x="911" y="28"/>
                  <a:pt x="852" y="13"/>
                  <a:pt x="797" y="2"/>
                </a:cubicBezTo>
                <a:cubicBezTo>
                  <a:pt x="726" y="11"/>
                  <a:pt x="733" y="1"/>
                  <a:pt x="696" y="38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189-CA56-4FE7-AAD6-67343F9A08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505320" y="24382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2438280"/>
            <a:ext cx="761760" cy="304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-Nested Loop Illustr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2362320"/>
            <a:ext cx="167652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3733920"/>
            <a:ext cx="7621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2057400"/>
            <a:ext cx="22860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7339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4076640" y="3085560"/>
            <a:ext cx="228600" cy="304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65760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28195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19320" y="4267080"/>
            <a:ext cx="152280" cy="2286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4267080"/>
            <a:ext cx="152280" cy="2286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4267080"/>
            <a:ext cx="152640" cy="2286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2895480"/>
            <a:ext cx="152640" cy="2286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76520" y="2895480"/>
            <a:ext cx="152280" cy="2286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2895480"/>
            <a:ext cx="152280" cy="22860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3733920"/>
            <a:ext cx="27468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64000" y="3733920"/>
            <a:ext cx="18252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3733920"/>
            <a:ext cx="380880" cy="30456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5715000"/>
            <a:ext cx="914400" cy="609480"/>
          </a:xfrm>
          <a:prstGeom prst="wedgeRoundRectCallout">
            <a:avLst>
              <a:gd name="adj1" fmla="val -147569"/>
              <a:gd name="adj2" fmla="val -311717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920" y="3505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320" y="1981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52480" y="5715000"/>
            <a:ext cx="1981440" cy="457200"/>
          </a:xfrm>
          <a:prstGeom prst="wedgeRoundRectCallout">
            <a:avLst>
              <a:gd name="adj1" fmla="val 45273"/>
              <a:gd name="adj2" fmla="val -398958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buffer f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1219320"/>
            <a:ext cx="1981080" cy="457200"/>
          </a:xfrm>
          <a:prstGeom prst="wedgeRoundRectCallout">
            <a:avLst>
              <a:gd name="adj1" fmla="val -77962"/>
              <a:gd name="adj2" fmla="val 168055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Input buffer f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244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343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888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2971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54920" y="405756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o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37339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560" y="23623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16200000">
            <a:off x="7978680" y="2485440"/>
            <a:ext cx="228600" cy="3049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F68-20EF-4E11-B435-7F1E6A0201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35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3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6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430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4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250" autoRev="1" fill="hold"/>
                                        <p:tgtEl>
                                          <p:spTgt spid="3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250" autoRev="1" fill="hold"/>
                                        <p:tgtEl>
                                          <p:spTgt spid="3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4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5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ex-Nested Loop Join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index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search key B (instead of scan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find row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tch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t of outputting fina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if number of rows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match tuple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mall (i.e.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small) and index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14400" y="4952880"/>
            <a:ext cx="7647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uple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index to f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 tuples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ying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=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5400000">
            <a:off x="6517440" y="721440"/>
            <a:ext cx="228600" cy="309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6200000">
            <a:off x="6818760" y="72396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3048120"/>
            <a:ext cx="1371600" cy="609480"/>
          </a:xfrm>
          <a:prstGeom prst="wedgeRoundRectCallout">
            <a:avLst>
              <a:gd name="adj1" fmla="val 147337"/>
              <a:gd name="adj2" fmla="val -9843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umber of rows i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15000" y="2819520"/>
            <a:ext cx="3124080" cy="761760"/>
          </a:xfrm>
          <a:prstGeom prst="wedgeRoundRectCallout">
            <a:avLst>
              <a:gd name="adj1" fmla="val -112652"/>
              <a:gd name="adj2" fmla="val -65625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g cost of retrie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s in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match 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D38-C7DF-4503-9037-5FCFBEA532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rt-Merge Join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1066680"/>
            <a:ext cx="68961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on 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on 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!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currently until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=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B=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=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411480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518148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91120" y="4191120"/>
            <a:ext cx="6094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4191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5257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5257800"/>
            <a:ext cx="2286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4648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47242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72400" y="464832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29000" y="3962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39625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60958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3962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800600" y="50288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99360" y="6095880"/>
            <a:ext cx="110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=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572000" y="3809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4648320" y="54860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5717160" y="531000"/>
            <a:ext cx="228600" cy="233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rot="16200000">
            <a:off x="5980680" y="49536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7680" y="3352680"/>
            <a:ext cx="101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4E72-350E-4A97-9978-DE5988F6CE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in During Merge Illustr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057400"/>
            <a:ext cx="3048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267080"/>
            <a:ext cx="30481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7240" y="2057400"/>
            <a:ext cx="48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" y="990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5334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80" y="2057400"/>
            <a:ext cx="3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0400" y="42670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57200" y="5105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15238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7600" y="4267080"/>
            <a:ext cx="53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 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1120" y="2057400"/>
            <a:ext cx="53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  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3040" y="4267080"/>
            <a:ext cx="28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6920" y="205740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 7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  s 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53920" y="4267080"/>
            <a:ext cx="28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58840" y="4267080"/>
            <a:ext cx="48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92720" y="426708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  u 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5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68680" y="2057400"/>
            <a:ext cx="48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 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1840" y="2057400"/>
            <a:ext cx="48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 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4120" y="4267080"/>
            <a:ext cx="28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743200"/>
            <a:ext cx="15264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3885480"/>
            <a:ext cx="15264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3000" y="2743200"/>
            <a:ext cx="15228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52480" y="2743200"/>
            <a:ext cx="15264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2743200"/>
            <a:ext cx="15228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2743200"/>
            <a:ext cx="15264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981080" y="3885480"/>
            <a:ext cx="15264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276720" y="3885480"/>
            <a:ext cx="15228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14600" y="3885480"/>
            <a:ext cx="15228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581280" y="3885480"/>
            <a:ext cx="15264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81280" y="2743200"/>
            <a:ext cx="15264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600200" y="3885480"/>
            <a:ext cx="15228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19320" y="3885480"/>
            <a:ext cx="152280" cy="304920"/>
          </a:xfrm>
          <a:prstGeom prst="flowChartExtra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895480"/>
            <a:ext cx="35816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02760" y="2971800"/>
            <a:ext cx="180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1  3  1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p  p  p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p  p  p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4  0  0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21720" y="2971800"/>
            <a:ext cx="160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8  7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s  s 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s  s 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7  7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0880" y="2971800"/>
            <a:ext cx="221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5  7  5  7  5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u  u  u  u  u 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u  u  u  u  u  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6600"/>
                </a:solidFill>
                <a:latin typeface="Times New Roman"/>
              </a:rPr>
              <a:t>2  2  5  5  0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75160" y="5181480"/>
            <a:ext cx="138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=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6705720" y="5333760"/>
            <a:ext cx="228600" cy="22860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01028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1430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38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337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9092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04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42900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3526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195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909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7652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952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4152960" y="3238560"/>
            <a:ext cx="457200" cy="53352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25909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886200" y="38858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98B-2586-45DD-8404-A8D979FB9D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6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3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of Sort-Merge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r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ffer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rg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=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ombined with the last step of sorting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costs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=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wheth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fit in the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es, this step costs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o, eac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=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=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computed us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-nes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join, so the cost is the cost of the jo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ink why indexed methods or sort-merge are inapplicable to Cartesian produc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 outputt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nal resul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the size of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A5F-F5CD-4EAE-B973-5DDAF22467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-Join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: Has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A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B into the same set of bu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: Since matching tuples must be in same bucket, read each bucket in turn and output the result of the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of output of final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each bucket fits 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00000">
            <a:off x="5183640" y="1064160"/>
            <a:ext cx="304920" cy="309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rot="16200000">
            <a:off x="5488560" y="1064160"/>
            <a:ext cx="304920" cy="309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2FA-8F5F-4D69-B0B2-FF5CD075F8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Sorting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sorting has two main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 involved in sorting records in buffers in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 necessary to move records between mass store and ma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CE3-B7B1-48B2-B525-F16A942F9C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sh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683560" cy="311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30A-7756-4B9F-BC8C-1316297D13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 Jo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3200" spc="-1" strike="noStrike" baseline="-3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3200" spc="-1" strike="noStrike" baseline="-3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      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3200" spc="-1" strike="noStrike" baseline="-3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attributes o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43000" y="1676520"/>
            <a:ext cx="614520" cy="304560"/>
            <a:chOff x="1143000" y="1676520"/>
            <a:chExt cx="614520" cy="304560"/>
          </a:xfrm>
        </p:grpSpPr>
        <p:sp>
          <p:nvSpPr>
            <p:cNvPr id="490" name=""/>
            <p:cNvSpPr/>
            <p:nvPr/>
          </p:nvSpPr>
          <p:spPr>
            <a:xfrm rot="5400000">
              <a:off x="1145520" y="1674000"/>
              <a:ext cx="30456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rot="16200000">
              <a:off x="1450440" y="1674000"/>
              <a:ext cx="30456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971800" y="1676520"/>
            <a:ext cx="614160" cy="304560"/>
            <a:chOff x="2971800" y="1676520"/>
            <a:chExt cx="614160" cy="304560"/>
          </a:xfrm>
        </p:grpSpPr>
        <p:sp>
          <p:nvSpPr>
            <p:cNvPr id="493" name=""/>
            <p:cNvSpPr/>
            <p:nvPr/>
          </p:nvSpPr>
          <p:spPr>
            <a:xfrm rot="5400000">
              <a:off x="2974320" y="1674000"/>
              <a:ext cx="30456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rot="16200000">
              <a:off x="3278880" y="1674000"/>
              <a:ext cx="30456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952880" y="1676520"/>
            <a:ext cx="614520" cy="304560"/>
            <a:chOff x="4952880" y="1676520"/>
            <a:chExt cx="614520" cy="304560"/>
          </a:xfrm>
        </p:grpSpPr>
        <p:sp>
          <p:nvSpPr>
            <p:cNvPr id="496" name=""/>
            <p:cNvSpPr/>
            <p:nvPr/>
          </p:nvSpPr>
          <p:spPr>
            <a:xfrm rot="5400000">
              <a:off x="4955400" y="1674000"/>
              <a:ext cx="30456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rot="16200000">
              <a:off x="5260320" y="1674000"/>
              <a:ext cx="30456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4024080" y="4232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46200" y="3276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55880" y="30481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56080" y="4572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655880" y="5867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65320" y="52578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666520" y="46483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365760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343400" y="35812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4647960" y="457164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80060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4360" y="3505320"/>
            <a:ext cx="7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8600" y="3657600"/>
            <a:ext cx="7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9480" y="4724280"/>
            <a:ext cx="7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7880" y="5334120"/>
            <a:ext cx="7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8560" y="4648320"/>
            <a:ext cx="7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62920" y="3809880"/>
            <a:ext cx="914400" cy="609840"/>
          </a:xfrm>
          <a:prstGeom prst="wedgeRoundRectCallout">
            <a:avLst>
              <a:gd name="adj1" fmla="val -346875"/>
              <a:gd name="adj2" fmla="val 46092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Star 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920" y="3962520"/>
            <a:ext cx="990360" cy="609480"/>
          </a:xfrm>
          <a:prstGeom prst="wedgeRoundRectCallout">
            <a:avLst>
              <a:gd name="adj1" fmla="val 163138"/>
              <a:gd name="adj2" fmla="val -95574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Satellite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3962520"/>
            <a:ext cx="990360" cy="609480"/>
          </a:xfrm>
          <a:prstGeom prst="wedgeRoundRectCallout">
            <a:avLst>
              <a:gd name="adj1" fmla="val 120032"/>
              <a:gd name="adj2" fmla="val 184115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7CC-14D7-4376-ACF6-74302E7238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41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FF4-89CF-4A1A-9793-23A4FAB204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Sta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in inde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hapter 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and the join index {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} (which is a set of tuples of rids) in one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ieve matching tuples in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7BD-7CF5-4EB1-BE40-7503EDD768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Star J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tmap ind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Chapter 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ne bitmapped join index,  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each partial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i="1" lang="en-US" sz="2400" spc="-1" strike="noStrike" baseline="-36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et of 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, 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rid of a tuple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t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1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 position if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h tuple o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joins with the tuple pointed to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 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gically OR all bitmaps.  We get all rid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join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logically AND the resulting bitmaps for 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bset of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contains all tuples that can possibly be in the star jo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3440" indent="-365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tion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only a few such tuples survive, so can use indexed lo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752480" y="2286000"/>
            <a:ext cx="614520" cy="304920"/>
            <a:chOff x="1752480" y="2286000"/>
            <a:chExt cx="614520" cy="304920"/>
          </a:xfrm>
        </p:grpSpPr>
        <p:sp>
          <p:nvSpPr>
            <p:cNvPr id="524" name=""/>
            <p:cNvSpPr/>
            <p:nvPr/>
          </p:nvSpPr>
          <p:spPr>
            <a:xfrm rot="5400000">
              <a:off x="1754640" y="2283480"/>
              <a:ext cx="30492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16200000">
              <a:off x="2059560" y="2283480"/>
              <a:ext cx="30492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EE6-95E8-4505-9F55-7EC357D046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s may allow user to specif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hash,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ee) and search key of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or not it should be clu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formation about the frequency and type of queries and size of tables, designer can use cost estimates to choose appropriate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mmercial systems have tools that sugges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s job, but index suggestions must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e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C89-F1AA-4122-9AF0-81154DD07F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ing Indices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requently executed query that involves selection or a join and has a large result set, use a clustered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ee 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all row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frequently executed query i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lity 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mall result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 unclustered hash index is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only one clustered index on a table is possible, choosing unclustered allows a different index to be clus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all row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143-8588-4B24-9985-97991FF7E8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e Sort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umber of main memory page bu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umber of pages in file to be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algorithm has two ph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al sort ph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o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ges at a time; cre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u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ass store, cost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4600" y="6019920"/>
            <a:ext cx="31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2, F 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488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1371600" y="4876200"/>
            <a:ext cx="152280" cy="1828800"/>
          </a:xfrm>
          <a:custGeom>
            <a:avLst/>
            <a:gdLst>
              <a:gd name="textAreaLeft" fmla="*/ 97200 w 152280"/>
              <a:gd name="textAreaRight" fmla="*/ 152640 w 1522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8672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2971800"/>
            <a:ext cx="1600200" cy="380880"/>
          </a:xfrm>
          <a:prstGeom prst="wedgeRoundRectCallout">
            <a:avLst>
              <a:gd name="adj1" fmla="val -201092"/>
              <a:gd name="adj2" fmla="val 1345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Original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419720"/>
            <a:ext cx="1981080" cy="380880"/>
          </a:xfrm>
          <a:prstGeom prst="wedgeRoundRectCallout">
            <a:avLst>
              <a:gd name="adj1" fmla="val -117388"/>
              <a:gd name="adj2" fmla="val 10208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artially sorted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8098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886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886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8098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3886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3886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8098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3886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3886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8098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3886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0080" y="3886200"/>
            <a:ext cx="6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886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886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   1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886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3886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 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3886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886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1055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181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81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51055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1814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51814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51055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5181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181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51055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5181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0080" y="5181480"/>
            <a:ext cx="64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181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5181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     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181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5181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5181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5181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343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B2F-E519-40AB-8FF6-ACF93B7562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or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Pha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all runs into a single run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ffers for input and 1 outpu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step: divide runs into groups of s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merge each group into a run; cost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ach step reduces number of runs by a factor of   M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8477280" cy="2600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44120" y="41911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962520"/>
            <a:ext cx="914400" cy="380880"/>
          </a:xfrm>
          <a:prstGeom prst="wedgeRoundRectCallout">
            <a:avLst>
              <a:gd name="adj1" fmla="val -170662"/>
              <a:gd name="adj2" fmla="val 54166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Times New Roman"/>
              </a:rPr>
              <a:t>Buff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D22-CBAF-4CA4-8DAC-DA4BF69D99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e: 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6668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88620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9625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9625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4120" y="2743200"/>
            <a:ext cx="64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743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3962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     7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209680"/>
            <a:ext cx="266688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2743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39625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2767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5791320"/>
            <a:ext cx="1447560" cy="380880"/>
          </a:xfrm>
          <a:prstGeom prst="wedgeRoundRectCallout">
            <a:avLst>
              <a:gd name="adj1" fmla="val 50217"/>
              <a:gd name="adj2" fmla="val -3712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put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5943600"/>
            <a:ext cx="1447560" cy="380880"/>
          </a:xfrm>
          <a:prstGeom prst="wedgeRoundRectCallout">
            <a:avLst>
              <a:gd name="adj1" fmla="val -1754"/>
              <a:gd name="adj2" fmla="val -5687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3352680"/>
            <a:ext cx="33526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34290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     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3080" y="3429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732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34290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     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3429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4038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4038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2004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32004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32004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4197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4197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4197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4038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40384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33526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80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1523880"/>
            <a:ext cx="1447920" cy="381240"/>
          </a:xfrm>
          <a:prstGeom prst="wedgeRoundRectCallout">
            <a:avLst>
              <a:gd name="adj1" fmla="val -54606"/>
              <a:gd name="adj2" fmla="val 38166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Outpu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447920"/>
            <a:ext cx="1447920" cy="380880"/>
          </a:xfrm>
          <a:prstGeom prst="wedgeRoundRectCallout">
            <a:avLst>
              <a:gd name="adj1" fmla="val 6907"/>
              <a:gd name="adj2" fmla="val 21250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put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76B-5285-42BC-9BE3-30353DA8CE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Sort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 of merge phase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g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rge steps needed to merge an initial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r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/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2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og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cost = cost of partial sort phase + cost of merge pha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2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697-F274-456B-BA89-88EDCCA7C7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 Eli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jor step in compu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ffere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last stage of the merge step eliminate duplicates on the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dditional cost (with respect to sorting) in terms of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C95-0B2D-47FA-8B6D-E2AA796876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plicate elimination During Mer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66688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88620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9625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39625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4120" y="2743200"/>
            <a:ext cx="64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2743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962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     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962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2209680"/>
            <a:ext cx="266688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743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9625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32767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791320"/>
            <a:ext cx="1447560" cy="380880"/>
          </a:xfrm>
          <a:prstGeom prst="wedgeRoundRectCallout">
            <a:avLst>
              <a:gd name="adj1" fmla="val 50217"/>
              <a:gd name="adj2" fmla="val -3712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put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5943600"/>
            <a:ext cx="1447560" cy="380880"/>
          </a:xfrm>
          <a:prstGeom prst="wedgeRoundRectCallout">
            <a:avLst>
              <a:gd name="adj1" fmla="val -1754"/>
              <a:gd name="adj2" fmla="val -5687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2720" y="3352680"/>
            <a:ext cx="33526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34290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     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34290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429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    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038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038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2004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19320" y="32004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2004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44197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44197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4197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819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4038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40384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3526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3352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1523880"/>
            <a:ext cx="1447920" cy="381240"/>
          </a:xfrm>
          <a:prstGeom prst="wedgeRoundRectCallout">
            <a:avLst>
              <a:gd name="adj1" fmla="val -54606"/>
              <a:gd name="adj2" fmla="val 38166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Output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447920"/>
            <a:ext cx="1447920" cy="380880"/>
          </a:xfrm>
          <a:prstGeom prst="wedgeRoundRectCallout">
            <a:avLst>
              <a:gd name="adj1" fmla="val 6907"/>
              <a:gd name="adj2" fmla="val 21250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put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2895480"/>
            <a:ext cx="304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1447920"/>
            <a:ext cx="1447920" cy="380880"/>
          </a:xfrm>
          <a:prstGeom prst="wedgeRoundRectCallout">
            <a:avLst>
              <a:gd name="adj1" fmla="val -78509"/>
              <a:gd name="adj2" fmla="val 297083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ast key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895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2895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6600" y="2895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6240" y="2895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6240" y="2895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6240" y="2895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0760" y="49528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gnored: dupl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0760" y="54100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gnored: dupl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AEE-0C7F-4E0A-B534-0915053024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3:30:38Z</dcterms:created>
  <dc:creator>ARTHUR  BERNSTEIN</dc:creator>
  <dc:description/>
  <dc:language>en-US</dc:language>
  <cp:lastModifiedBy>Pearson Education</cp:lastModifiedBy>
  <dcterms:modified xsi:type="dcterms:W3CDTF">2005-04-06T15:59:08Z</dcterms:modified>
  <cp:revision>124</cp:revision>
  <dc:subject/>
  <dc:title>Query Processing: The Basics</dc:title>
</cp:coreProperties>
</file>