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078-2492-41CB-B28E-3F95A6E5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B0C0-B4BE-4777-85FF-9A93B8D8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EA3-4FC1-44E3-A0E8-3AD6D78B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404-E34D-4C28-9FB5-49E34193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6D49-B860-4B3B-8FEE-13FAB17F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3938-939A-4FBE-9872-213EF70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5147-6C20-4A51-89BF-1B1C30F4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73E1-B18D-4C95-90F4-26B8C1B8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B8AC-6016-4740-B2E4-2279C3A6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1770-747A-40AE-8AF1-9574159C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6C4E-CB07-4416-83B1-88B19D28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B4C-12C5-403C-9F1F-CB50858E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4333-1718-473D-B35B-CFE74A7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F447-6212-4FB9-8E26-75E8F65F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6534-DA5B-4B3A-A73C-3F22B22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8125-7FE2-44AE-B11E-4BED5C22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7F6-6396-43A3-9D32-A95D5836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385-93F0-4E79-808D-0919B289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A47-D3C6-4C31-8B93-F5746211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1CF-A59E-4590-BA18-19D4217F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809-84BB-4F9F-858B-CD5D041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26F-9883-4F24-A2FE-905D7769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FCC-0B48-4599-A545-EFCA316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AD2-1742-47AA-9D6F-73B9923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7E9-05A8-4DC5-81BB-77350A41C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F564-8FEA-46B6-9CE0-96D07B47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05160" y="266652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QL in an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60EA-0A6B-43A3-8179-EA867BA04B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8520" y="2109960"/>
            <a:ext cx="4873320" cy="35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 SQL  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:num_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:crs_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 !strcmp (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00000”)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 ( “statement failed”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809880"/>
            <a:ext cx="1371600" cy="381240"/>
          </a:xfrm>
          <a:prstGeom prst="wedgeRoundRectCallout">
            <a:avLst>
              <a:gd name="adj1" fmla="val -135763"/>
              <a:gd name="adj2" fmla="val -7041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In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895480"/>
            <a:ext cx="1600200" cy="381240"/>
          </a:xfrm>
          <a:prstGeom prst="wedgeRoundRectCallout">
            <a:avLst>
              <a:gd name="adj1" fmla="val -182837"/>
              <a:gd name="adj2" fmla="val -4916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Out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886-11A3-4399-B137-E13C378F96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ne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nect to an SQL database, use a connect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nection_nam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r_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DF1-1267-4832-B4F4-9811D5AA9E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plicit statement is needed to beg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action is initiated when the first SQL statement that accesses the database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 of transaction execution can be se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SET TRANSACTION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RE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SOLATION LEVEL 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are terminated with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M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OLL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38C-0255-43AE-A02D-6D693E91A4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Course Deregi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800" y="1143000"/>
            <a:ext cx="813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ONNEC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:dbserv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( ! strcmp (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“00000”) ) exit 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DELETE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:studi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:crs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(! strcmp (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“00000”) )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:crs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 (! strcmp (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“00000”) 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ROLL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1BC-95E1-4A98-81F0-3448F885E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er Mismatch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QL deals with tables (of arbitrary size); host language program deals with fixed size bu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the application to allocate storage for the result of a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Fetch a single row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for a single row (number and typ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s) can be determined from schema and allocated in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119-394A-458B-98F2-3378F94A5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sult 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set of rows produced by a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pointer to a row in the result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execu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result set and initialize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e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advance pointer and retrieve next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allocate cu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1BE-1898-4E40-B862-BEBF21D562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1828800"/>
            <a:ext cx="213372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666880"/>
            <a:ext cx="8380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304812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5320" y="2971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29040" y="52578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4267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r pointers to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505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057400"/>
            <a:ext cx="114300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40" y="480060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6002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70D-3737-47AD-B1EE-C42B4CA87F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sor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DECL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Enro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SENSITIVE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URSOR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sor is not a schema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:crscode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2000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tEnro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 !strcmp (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“00000”)) {..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il ex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FE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tEnrol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studid, :gr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 (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“00000”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s the returned row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FETC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Enro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studid, :gr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 !strcmp (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“02000”)) {..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il ex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GetEnro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2536920"/>
            <a:ext cx="3657600" cy="587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ference resolved at compile 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alue substituted at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P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495680" y="2437920"/>
            <a:ext cx="609840" cy="30492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605-062C-46B2-B759-08455E5A3B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sensitive cur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sult set (effectively) computed and stored in a separate table at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made to base table subsequent to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y any transaction) do not affect resul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 is read-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rsors that are not inse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ecification not part of SQL stand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made to base table subsequent to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y any transaction) can affect resul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 is upd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0AD-CEFB-4AFE-AF84-48369C50D2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nsitive Cur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920" y="2860560"/>
            <a:ext cx="730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1 t t t t t t t t            key1    t t t t qqt t t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3 yyyyyyyy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2    xxx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4 zzzzzzzzz            key3    yyyrryy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4    zzzzzzzz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5    uuuuuuuu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6   vvvvvvvv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2895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895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2895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51055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038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895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895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4320" y="5410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99280" y="26319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 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715000"/>
            <a:ext cx="2590920" cy="838080"/>
          </a:xfrm>
          <a:prstGeom prst="wedgeRoundRectCallout">
            <a:avLst>
              <a:gd name="adj1" fmla="val 107171"/>
              <a:gd name="adj2" fmla="val -31060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5715000"/>
            <a:ext cx="2590920" cy="838080"/>
          </a:xfrm>
          <a:prstGeom prst="wedgeRoundRectCallout">
            <a:avLst>
              <a:gd name="adj1" fmla="val 105944"/>
              <a:gd name="adj2" fmla="val -183523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5715000"/>
            <a:ext cx="2590920" cy="838080"/>
          </a:xfrm>
          <a:prstGeom prst="wedgeRoundRectCallout">
            <a:avLst>
              <a:gd name="adj1" fmla="val 105393"/>
              <a:gd name="adj2" fmla="val -14412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uples added after opening the cu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75440" y="2944800"/>
            <a:ext cx="495360" cy="415800"/>
          </a:xfrm>
          <a:custGeom>
            <a:avLst/>
            <a:gdLst/>
            <a:ahLst/>
            <a:rect l="l" t="t" r="r" b="b"/>
            <a:pathLst>
              <a:path w="312" h="262">
                <a:moveTo>
                  <a:pt x="115" y="4"/>
                </a:moveTo>
                <a:cubicBezTo>
                  <a:pt x="61" y="31"/>
                  <a:pt x="105" y="3"/>
                  <a:pt x="64" y="48"/>
                </a:cubicBezTo>
                <a:cubicBezTo>
                  <a:pt x="45" y="68"/>
                  <a:pt x="5" y="106"/>
                  <a:pt x="5" y="106"/>
                </a:cubicBezTo>
                <a:cubicBezTo>
                  <a:pt x="7" y="140"/>
                  <a:pt x="0" y="176"/>
                  <a:pt x="12" y="208"/>
                </a:cubicBezTo>
                <a:cubicBezTo>
                  <a:pt x="18" y="225"/>
                  <a:pt x="56" y="238"/>
                  <a:pt x="56" y="238"/>
                </a:cubicBezTo>
                <a:cubicBezTo>
                  <a:pt x="131" y="235"/>
                  <a:pt x="214" y="262"/>
                  <a:pt x="282" y="230"/>
                </a:cubicBezTo>
                <a:cubicBezTo>
                  <a:pt x="312" y="216"/>
                  <a:pt x="267" y="81"/>
                  <a:pt x="238" y="63"/>
                </a:cubicBezTo>
                <a:cubicBezTo>
                  <a:pt x="223" y="0"/>
                  <a:pt x="184" y="15"/>
                  <a:pt x="115" y="4"/>
                </a:cubicBezTo>
                <a:close/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83560" y="3693960"/>
            <a:ext cx="330120" cy="360360"/>
          </a:xfrm>
          <a:custGeom>
            <a:avLst/>
            <a:gdLst/>
            <a:ahLst/>
            <a:rect l="l" t="t" r="r" b="b"/>
            <a:pathLst>
              <a:path w="208" h="227">
                <a:moveTo>
                  <a:pt x="163" y="6"/>
                </a:moveTo>
                <a:cubicBezTo>
                  <a:pt x="124" y="15"/>
                  <a:pt x="97" y="32"/>
                  <a:pt x="61" y="50"/>
                </a:cubicBezTo>
                <a:cubicBezTo>
                  <a:pt x="34" y="103"/>
                  <a:pt x="0" y="183"/>
                  <a:pt x="61" y="225"/>
                </a:cubicBezTo>
                <a:cubicBezTo>
                  <a:pt x="105" y="223"/>
                  <a:pt x="149" y="227"/>
                  <a:pt x="192" y="218"/>
                </a:cubicBezTo>
                <a:cubicBezTo>
                  <a:pt x="201" y="216"/>
                  <a:pt x="206" y="205"/>
                  <a:pt x="206" y="196"/>
                </a:cubicBezTo>
                <a:cubicBezTo>
                  <a:pt x="208" y="142"/>
                  <a:pt x="203" y="89"/>
                  <a:pt x="199" y="35"/>
                </a:cubicBezTo>
                <a:cubicBezTo>
                  <a:pt x="198" y="25"/>
                  <a:pt x="200" y="12"/>
                  <a:pt x="192" y="6"/>
                </a:cubicBezTo>
                <a:cubicBezTo>
                  <a:pt x="184" y="0"/>
                  <a:pt x="173" y="6"/>
                  <a:pt x="163" y="6"/>
                </a:cubicBezTo>
                <a:close/>
              </a:path>
            </a:pathLst>
          </a:cu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828800"/>
            <a:ext cx="2743200" cy="609480"/>
          </a:xfrm>
          <a:prstGeom prst="wedgeRoundRectCallout">
            <a:avLst>
              <a:gd name="adj1" fmla="val 104513"/>
              <a:gd name="adj2" fmla="val 117449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hanges made after opening cursor not seen in the cu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2F61-0566-497E-B33B-0B735CF9FF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active vs. Non-Interactive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active SQ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QL statements input from terminal;  DBMS outputs to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dequate for most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be necessary to process the data befor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of data returned not known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has very limited expressive power (not Turing-comple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n-interactive SQ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SQL statements are included in an application program written in a host language, like C, Java, CO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7DE-B91C-4C87-A3D4-C84DAC0B33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et-Driven Cur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cursor that is not insen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 of each row in result set is computed at open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ow in base table by a concurrent transaction between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ET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be seen through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base table, however, not seen through cu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sor is upda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995-A6D1-4281-AA7C-09C0614690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set-Driven Curs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5080" y="2556000"/>
            <a:ext cx="679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1                   key1    t t t t t t t t t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3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2    xxxxx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4                   key3    yyyyyyyyy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4    zzzzzzzzzzz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5    uuuuuuuuuu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6   vvvvvvvvvv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514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2514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4800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5029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7240" y="2971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27432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743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31240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5053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96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ey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760" y="4838760"/>
            <a:ext cx="396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ples added after cursor is open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seen, but updates to key1, key3, key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seen in the cur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41B-87FC-4CF2-BBD0-03CD3BA5B7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396216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0600" y="1371600"/>
            <a:ext cx="735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CL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sor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[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INSENSITIV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] [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SCROL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URSOR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996633"/>
                </a:solidFill>
                <a:latin typeface="Times New Roman"/>
              </a:rPr>
              <a:t>table-ex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[ ORDER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-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[ FOR {</a:t>
            </a:r>
            <a:r>
              <a:rPr b="0" lang="en-US" sz="2400" spc="-1" strike="noStrike">
                <a:solidFill>
                  <a:srgbClr val="009999"/>
                </a:solidFill>
                <a:latin typeface="Century Gothic"/>
              </a:rPr>
              <a:t>READ ONLY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|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[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lumn-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}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6880" y="2971800"/>
            <a:ext cx="8326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 updatable (not insensitive, not read-only) cur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ign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CURREN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so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LETE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-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CURREN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rso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996633"/>
                </a:solidFill>
                <a:latin typeface="Times New Roman"/>
              </a:rPr>
              <a:t>table-exp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atisfy restrictions of updatable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7AB-5F14-4A11-AD1F-674CDEDC9B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CROL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not specified in cursor declaration,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ET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ways moves cursor forward on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CROL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is included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CLARE CURS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ursor can be moved in arbitrary ways around result s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800600"/>
            <a:ext cx="7385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ETCH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PRIO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Enrol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studid, :gr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•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RST, LAST, ABSOL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RE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4114800"/>
            <a:ext cx="2590920" cy="380880"/>
          </a:xfrm>
          <a:prstGeom prst="wedgeRoundRectCallout">
            <a:avLst>
              <a:gd name="adj1" fmla="val -167097"/>
              <a:gd name="adj2" fmla="val 131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 previous t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3E7-E724-4E57-BBBC-9A1982B2F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– written in a conventional algorithmic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d as schema element (stored in DB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d by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data need not be communicated to application  (time and cost sav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’s SQL statements prepared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can be done at procedur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security since procedure resides in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that call the procedure need not know the details of database schema – all database access is encapsulated within th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33C-9F6B-4B0D-A556-C036EC87AF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36232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5029200"/>
            <a:ext cx="12189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5480" y="412920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/out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5740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1840" y="1219320"/>
            <a:ext cx="26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1981080"/>
            <a:ext cx="22096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4419720"/>
            <a:ext cx="22096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5181480"/>
            <a:ext cx="1066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6160" y="3554280"/>
            <a:ext cx="14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81840" y="11844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B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81080" y="5486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76400" y="542448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78040" y="25146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2209680"/>
            <a:ext cx="2286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4648320"/>
            <a:ext cx="228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92240" y="34290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2240" y="579132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4038480"/>
            <a:ext cx="243864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1219320"/>
            <a:ext cx="1371600" cy="609480"/>
          </a:xfrm>
          <a:prstGeom prst="wedgeRoundRectCallout">
            <a:avLst>
              <a:gd name="adj1" fmla="val -114583"/>
              <a:gd name="adj2" fmla="val 156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gular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6172200"/>
            <a:ext cx="1981440" cy="380880"/>
          </a:xfrm>
          <a:prstGeom prst="wedgeRoundRectCallout">
            <a:avLst>
              <a:gd name="adj1" fmla="val 129245"/>
              <a:gd name="adj2" fmla="val -165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</a:rPr>
              <a:t>Store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FB6-13F7-4447-8B66-369647F764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160" y="2138400"/>
            <a:ext cx="80521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CREATE  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gister (char  :par1, char  :pa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 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 SELECT  ……. 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F  ( ……)  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……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L  embed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….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sistent Stored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PSM)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0400" y="5562720"/>
            <a:ext cx="76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EXECUTE PROCED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Register ( :crscode, :stud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960" y="147312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160" y="495288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929-C1D8-4256-BD09-EA83170075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 Constrain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moves database from an initial to a final state, both of which satisfy all integrity constraints but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might not be true of intermediate states henc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checks at statement boundaries might be in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(optionally) allows checking to be deferred to transaction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514-9941-4F57-B537-77A364DEF3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rred Constrain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240" y="1447920"/>
            <a:ext cx="74073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 AS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 (  …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DEFERRABL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  CONSTR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DEFERRE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is aborted if constraint is false at commi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711-72F1-42C8-A306-553948CC7B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pplication might not know in adv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QL statement to be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base schema to which the statement is di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User inputs database name and SQL statement interactively from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application constructs (as the value of a host language string variable) the SQL statement at ru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(necessarily) done at ru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B5F-79C3-4387-8EB2-1F3526049D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 langu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conventional languag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, C, Java) that supplies control structures, computational capabilities, interaction with physical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pplies ability to interact with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 facilities of bo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pplication program can act as an intermediary between the user at a terminal and th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F5D-1EB8-47D9-8730-089934CBA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92 defines syntax for embedding directives into application for constructing, preparing, and executing an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 level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and static SQL can be mixed in a single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DC8-EBBD-400B-9DD7-7CBC8FA1BD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SQL variable; names the SQL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_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host language variables (note colon no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; supplies value for  placeholder  (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_enroll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; receives value from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520" y="1103400"/>
            <a:ext cx="819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 (tmp, 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PREPAR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tm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num_enrolle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crs_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1981080"/>
            <a:ext cx="1523880" cy="457200"/>
          </a:xfrm>
          <a:prstGeom prst="wedgeRoundRectCallout">
            <a:avLst>
              <a:gd name="adj1" fmla="val -133125"/>
              <a:gd name="adj2" fmla="val -68750"/>
              <a:gd name="adj3" fmla="val 16667"/>
            </a:avLst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664-60E2-4EE6-B782-0A02FB4B7C1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EP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s SQL statemen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ends it to DBMS for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ECUT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the statement name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8A6-008B-4FE2-9157-0573D9FA4A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s: Static vs Dynam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ic SQ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 (host language) parameters are contained in SQL statement and available to precompi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and type information in symbo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es for fetching and storing argument values can be gene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statement (with parameter values) sent to DBMS when statement is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49402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 SQL  SELECT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:num_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:crs_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652-2451-4A9A-9802-9ECB736CDA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: Static vs. Dynamic SQ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ynamic SQ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SQL statement constructed at run time when symbol table is no longer pres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1:  Parameter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nown at compi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are named i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 i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ING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meters i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ement is compiled using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tch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re(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utines gene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1320" y="2595600"/>
            <a:ext cx="70574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cpy (tmp, “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?” 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PREPAR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tm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952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EXEC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num_enrolled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crs_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025-0F20-4B07-BB30-28B1D33213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meters  –  Dynamic SQL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se 1: parameters known at compile time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 and store routines are executed at client whe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executed to communicate argument values with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invoked multiple times with different values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amet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invocation uses same query execution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substituted for placeholders by DBMS (in order) at invocation time and statement is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81D-5D56-4659-B27E-3300A514DD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 in Dynamic SQ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parameters supplied at runtim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:  Parameter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nown at compil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atement input from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cannot parse statement and might not know schema, so it does not have any paramet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EC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 cannot name parameters in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O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AEE-1CC0-4AA9-932E-9CE461BF4E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meters in Dynamic SQL (cont’d)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se 2: parameters supplied at run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determines number and type of parameters after preparing 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stored by DBMS 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a data structure inside the DBMS, which record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each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QL provides directiv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SCRI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et information about parameters (e.g., number, name, type) from DBMS and to fetch value o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QL provides directiv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 DESCRIP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upply value to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258-5995-446D-98EE-B0CBB58883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2640" y="1143000"/>
            <a:ext cx="796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 = “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305’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27760" y="3429000"/>
            <a:ext cx="184140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594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6477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6668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562720" y="2666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924680" y="2666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35560" y="21747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48006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3526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4000" y="26668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41911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93360" y="35416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ET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93600" y="5241960"/>
            <a:ext cx="49309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Application uses GET DESCRIP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fetch name, type,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en gets value into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Then processes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32840" y="3505320"/>
            <a:ext cx="911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343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4724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5105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5486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77240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772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77240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7724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77240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772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32840" y="4724280"/>
            <a:ext cx="911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81280" y="2438280"/>
            <a:ext cx="1600200" cy="457200"/>
          </a:xfrm>
          <a:prstGeom prst="wedgeRoundRectCallout">
            <a:avLst>
              <a:gd name="adj1" fmla="val 89782"/>
              <a:gd name="adj2" fmla="val 154513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DED-4C84-4C5E-A024-EA27725126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QL Calls when Descriptor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2360" y="1398600"/>
            <a:ext cx="75186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ruct SQL statement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m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PRE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temp;                  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epar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ALLOCATE DESCRI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‘desc’;    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eate descri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DESCRIBE 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QL DESCRI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desc’;                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pul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th 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EXEC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O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ecute statement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QL DESCRIPTOR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desc’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values 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EC SQL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GET DESCRI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‘desc’ …;     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ilar strategy is used f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parame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D85-3110-4577-B4D7-3001A3BAE6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an SQL statement is executed, it must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epa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the DB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ndices can b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what order should tables be acc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onstraints should be check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are based on schema, table siz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uery execu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ation is a complex activity, usually done at run time,  justified by the complexity of query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A08B-8208-463E-8BF9-D6AFD84AC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Nothing Known at Compile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tf(my_sql_stm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%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) = 1”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);    //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host var; even the table is known only at run ti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PREPAR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RO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my_sql_stm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ALLOCATE DESCRI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‘st_output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DESCRIBE 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QL DESCRI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‘st_output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QL statement to execute is known only at ru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this point DBMS knows what the exact statement is (including the table name, the numbe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rameters, their typ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ove statement asks to create descriptors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_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all the (now known)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EXEC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st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O SQL DESCRIP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‘st_output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E77-9EBD-406D-BCDC-755456AEF6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Getting Meta-Information from a Descri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 Host v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cou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ets the number 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ameters in the SQL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described b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_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GET DESCRIP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st_output’  :colcount =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t  host va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ng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ith the type, length, and name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number’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parameter in the SQL statement described b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_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 SQL GET DESCRIPTOR  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_outp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VALU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l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l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   //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edefined integer constants, such 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SQL_CHAR, SQL_FLOAT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lleng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LENG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l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990033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93F-8C6D-432A-9074-C73C993F7F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Using Meta-Information to Extract Attribute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tr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24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QL_CH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GET DESCRIP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st_output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VALUE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lnumb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tr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QL_I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 SQL GET DESCRIP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st_output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VALUE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colnumber  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da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QL_FLO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1371600"/>
            <a:ext cx="2362320" cy="838080"/>
          </a:xfrm>
          <a:prstGeom prst="wedgeRoundRectCallout">
            <a:avLst>
              <a:gd name="adj1" fmla="val -50671"/>
              <a:gd name="adj2" fmla="val 134847"/>
              <a:gd name="adj3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ut the value of attribu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lnumb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nto the vari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38760" y="2960640"/>
            <a:ext cx="4005360" cy="773280"/>
          </a:xfrm>
          <a:custGeom>
            <a:avLst/>
            <a:gdLst/>
            <a:ahLst/>
            <a:rect l="l" t="t" r="r" b="b"/>
            <a:pathLst>
              <a:path w="2523" h="487">
                <a:moveTo>
                  <a:pt x="821" y="0"/>
                </a:moveTo>
                <a:cubicBezTo>
                  <a:pt x="411" y="7"/>
                  <a:pt x="418" y="6"/>
                  <a:pt x="141" y="30"/>
                </a:cubicBezTo>
                <a:cubicBezTo>
                  <a:pt x="118" y="36"/>
                  <a:pt x="91" y="43"/>
                  <a:pt x="68" y="49"/>
                </a:cubicBezTo>
                <a:cubicBezTo>
                  <a:pt x="55" y="52"/>
                  <a:pt x="31" y="59"/>
                  <a:pt x="31" y="59"/>
                </a:cubicBezTo>
                <a:cubicBezTo>
                  <a:pt x="0" y="95"/>
                  <a:pt x="24" y="141"/>
                  <a:pt x="8" y="183"/>
                </a:cubicBezTo>
                <a:cubicBezTo>
                  <a:pt x="12" y="218"/>
                  <a:pt x="13" y="258"/>
                  <a:pt x="20" y="293"/>
                </a:cubicBezTo>
                <a:cubicBezTo>
                  <a:pt x="31" y="351"/>
                  <a:pt x="115" y="411"/>
                  <a:pt x="179" y="428"/>
                </a:cubicBezTo>
                <a:cubicBezTo>
                  <a:pt x="245" y="465"/>
                  <a:pt x="325" y="467"/>
                  <a:pt x="401" y="487"/>
                </a:cubicBezTo>
                <a:cubicBezTo>
                  <a:pt x="983" y="481"/>
                  <a:pt x="1541" y="458"/>
                  <a:pt x="2119" y="449"/>
                </a:cubicBezTo>
                <a:cubicBezTo>
                  <a:pt x="2169" y="439"/>
                  <a:pt x="2218" y="429"/>
                  <a:pt x="2267" y="419"/>
                </a:cubicBezTo>
                <a:cubicBezTo>
                  <a:pt x="2293" y="413"/>
                  <a:pt x="2341" y="400"/>
                  <a:pt x="2341" y="400"/>
                </a:cubicBezTo>
                <a:cubicBezTo>
                  <a:pt x="2379" y="380"/>
                  <a:pt x="2440" y="412"/>
                  <a:pt x="2483" y="402"/>
                </a:cubicBezTo>
                <a:cubicBezTo>
                  <a:pt x="2523" y="355"/>
                  <a:pt x="2493" y="285"/>
                  <a:pt x="2515" y="234"/>
                </a:cubicBezTo>
                <a:cubicBezTo>
                  <a:pt x="2511" y="185"/>
                  <a:pt x="2520" y="134"/>
                  <a:pt x="2503" y="87"/>
                </a:cubicBezTo>
                <a:cubicBezTo>
                  <a:pt x="2498" y="77"/>
                  <a:pt x="2429" y="29"/>
                  <a:pt x="2402" y="19"/>
                </a:cubicBezTo>
                <a:cubicBezTo>
                  <a:pt x="2379" y="11"/>
                  <a:pt x="2329" y="0"/>
                  <a:pt x="2329" y="0"/>
                </a:cubicBezTo>
                <a:cubicBezTo>
                  <a:pt x="2158" y="7"/>
                  <a:pt x="1979" y="16"/>
                  <a:pt x="1811" y="49"/>
                </a:cubicBezTo>
                <a:cubicBezTo>
                  <a:pt x="1628" y="43"/>
                  <a:pt x="1458" y="34"/>
                  <a:pt x="1278" y="19"/>
                </a:cubicBezTo>
                <a:cubicBezTo>
                  <a:pt x="1188" y="12"/>
                  <a:pt x="1007" y="0"/>
                  <a:pt x="1007" y="0"/>
                </a:cubicBezTo>
                <a:cubicBezTo>
                  <a:pt x="846" y="11"/>
                  <a:pt x="906" y="21"/>
                  <a:pt x="821" y="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A28-C560-4A31-B315-93731C58733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-level interface (CLI) for executing SQL from a Java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tatement is constructed at run time as the value of a Java variable (as in dynamic 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passes SQL statements to the underlying DBMS.  Can be interfaced to any DBMS that has a JDBC d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SQL: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36D-A338-42AF-89AD-FEC0621B190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Run-Tim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5040" y="45370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3048120"/>
            <a:ext cx="17524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048120"/>
            <a:ext cx="1295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038480"/>
            <a:ext cx="12189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320040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QL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76920" y="236232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419720" y="2666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81680" y="441972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5880" y="4343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81680" y="3200400"/>
            <a:ext cx="1447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81680" y="190512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095880" y="2286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B92-1F20-4490-A8A4-E441240DD8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a Qu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1143000"/>
            <a:ext cx="838188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 java.sql.*;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ort all classes in pack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.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r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river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method of clas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ds specified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= DriverManager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tConn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rl, Id, Passw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ic method of cla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Manager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empts t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 to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uccessful, creates a connection objec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aging the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t = con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reate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s a statement obj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s ha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Query(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F8D-56FF-442D-86B5-3C119E9CBD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cuting a Query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1600200"/>
            <a:ext cx="8610480" cy="41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query = “SELECT 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RO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”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e305’ ”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2000’ 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esult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s = stat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xecute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quer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s a result set objec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s and executes the qu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res the result set produced by executio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nalogous to opening a curs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query string can be constructed at run time (as abo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put parameters are plugged into the query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ring is formed (as abo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12F-F864-4168-8920-5EF63294DD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57200" y="1447920"/>
            <a:ext cx="830592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query = “SELECT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”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pared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s = con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pareStat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query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s the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s a prepared statement objec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contain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d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hold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mark positions o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ramet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cial  API is provided to plug the actual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itions indicated by the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2666880"/>
            <a:ext cx="1676160" cy="381240"/>
          </a:xfrm>
          <a:prstGeom prst="wedgeRoundRectCallout">
            <a:avLst>
              <a:gd name="adj1" fmla="val 257953"/>
              <a:gd name="adj2" fmla="val -150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ing and Executing a Qu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48120" y="2666880"/>
            <a:ext cx="1676160" cy="381240"/>
          </a:xfrm>
          <a:prstGeom prst="wedgeRoundRectCallout">
            <a:avLst>
              <a:gd name="adj1" fmla="val 89962"/>
              <a:gd name="adj2" fmla="val -14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lac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534-C03A-451D-A99F-7177A529CCE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ing and Executing a Query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066680"/>
            <a:ext cx="8305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 crs_code, semes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t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 crs_code);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 value of fir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ra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.setString(2, semester);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 valu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et  res =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ps.executeQu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ates a result set objec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ecutes the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res the result set produced by executio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 ( res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  {                      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ance the cu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= res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t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etch output int-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s output valu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62B-0466-4A58-9717-CDE910BC468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 Sets and Curs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types of result sets in JDB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ward-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t sc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roll-inse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crollable; changes made to underlying tables after the creation of the result set are not visible through that result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roll-sensi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crollable; updates and deletes made to tuples in the underlying tables after the creation of the result set are visible through th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573-1E90-4002-9CD0-5BE3F3C7196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ing SQL Into the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tatements can be incorporated into an application program in two different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ement Level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LI):  Application program is a mixture of host language statements and SQL statements and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ll Level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CLI):  Application program is written entirely in host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statements are values of string variables that are passed as arguments to host language (library)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EF7-17E8-423E-95E5-E35FF3F3EE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result set type can be declar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d-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datable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NCUR_UPDA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suming SQL query satisfies the conditions for updatable vie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pda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urrent row of an updatable result set can be changed or deleted, or a new row can be inserted. Any such change causes changes to the underlying databas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97680" y="9144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stat = con.createStatement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et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TYPE_SCROLL_SEN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et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CONCUR_UPDA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280" y="4952880"/>
            <a:ext cx="87631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update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John” );    /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nge the attribute “Name”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 row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the row buff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update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);   //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tall changes to the current row buf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th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derlying databas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BCD-A9E8-4973-99D7-98699C59A2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/catch is the basic structure within which an SQL statement should be embed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exception is thrown, an exception objec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created and the catch clause is exec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ception object has methods to print an error message, retur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47960" y="1336680"/>
            <a:ext cx="415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va/JDBC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catch (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QLExce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ception handling code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486-4E3D-40F1-8DC3-94FEA9970D0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s in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 for a connection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each  SQL statement is a trans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roup several statements into a transaction use con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etAutoCom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fa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isolation level of the underlying DB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isolation level 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.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setTransactionIsolationLev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ACTION_SERIALIZ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utocommit of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is committed using con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omm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transaction is automatically initiated (chai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on each connection committ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AA1-A646-4D64-9A54-A814D482FCE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L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tement-level interface to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alect of embedded SQL designed specifically for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d by precompiler into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onstructs translated into calls to an SQLJ runtime package, which accesses database through calls to a JDBC dr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SQL: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56F-4927-4C64-A3BE-E038B13F6CD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L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of efficiencies of embedde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-time syntax and typ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 host languag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legant than embedded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ome of the advantages of JD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cess multiple DBMSs using d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J statements and JDBC calls can be included in the sam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AAE-F7AD-4CB8-9C7E-03BB1649C0C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J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SQL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 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:numEnro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:crs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:sem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4A1-4994-491F-AFFC-5391C111CF2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of SQLJ It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JDBC’s ResultSet; provides a cursor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QL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ter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GetEnrolledIter (int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tring 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EnrolledIter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t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QL  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ter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 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“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tud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 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: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 :sem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3124080"/>
            <a:ext cx="2362320" cy="1219320"/>
          </a:xfrm>
          <a:prstGeom prst="wedgeRoundRectCallout">
            <a:avLst>
              <a:gd name="adj1" fmla="val -92203"/>
              <a:gd name="adj2" fmla="val 5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thod names by which to access the attributes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udentI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nd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F00-07CC-4D5D-BDAB-8A11EB31CFF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erator Example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r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 ( iter1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  =  iter1.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e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= iter1.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tud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s the valu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1.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88A-6DF6-4F48-81D2-1789BF1AC96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level interface that is database in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SQL/CLI, part of SQL: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architecture similar to JDBC with driver manager and d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bject orien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level:  application must specifically allocate and deallocate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E77-3985-4073-8483-6CDAD42DC39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ce of Procedure Calls Needed for ODB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AllocEnv(&amp;henv);                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environment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AllocConnect(henv, &amp;hdbc);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connection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Connect(hdbc, db_name, userId, password);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AllocStmt(hdbc, &amp;hstmt);    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statement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Prepare(hstm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QL 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pare SQL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Execute(hstm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FreeStmt(hstmt);              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e up statemen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Disconnect(hdb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FreeEnv(henv);                     /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ee up environment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E0A-B552-4B3F-84FF-0814D7CF6EE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ment Level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tatements and directives in the application have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pecial synt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ets them off from host language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   </a:t>
            </a:r>
            <a:r>
              <a:rPr b="0" lang="en-US" sz="2400" spc="-1" strike="noStrike">
                <a:solidFill>
                  <a:srgbClr val="000000"/>
                </a:solidFill>
                <a:latin typeface="NewCenturySchlb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EC SQL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L_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ecompi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ans program and translates SQL statements into calls to host language library procedures that communicate with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st language compi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compile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5F3-4F98-4F4A-9336-07E689E9F1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BC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 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 example hstmt) is used as name of cur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DBC procedure is actually a function that returns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CODE retcode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code1 = SQLConnect (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ommitted or abor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Transact (henv, hdbc, SQL_COM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8CD-12E1-4A34-8B1E-167BCF08AB9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ment Level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constructs in an application take two 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SQL statement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mbed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): Useful when SQL portion of program is known at compile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e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ynam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):  Useful when SQL portion of program not known at compile time. Application constructs SQL statemen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run ti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values of host language variables that are manipulated by 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ompiler translates statements and directives into arguments of calls to library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4F6-B1E2-4E5F-8C8B-E34A0ABDAB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Level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program written entirely in host language (no precompil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JDBC, O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statements are values of string variables construc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run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ing host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dynamic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uses string variables as arguments of library routines that communicate with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   executeQuery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L query statemen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930-F8B2-472E-BF06-527695109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c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495288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on section for host/SQ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n convention for value (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result (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990720"/>
            <a:ext cx="580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cc99"/>
                </a:solidFill>
                <a:latin typeface="Century Gothic"/>
              </a:rPr>
              <a:t>BEGIN  DECLARE 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 long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_enrol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</a:t>
            </a: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crs_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QL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EXEC SQ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cc99"/>
                </a:solidFill>
                <a:latin typeface="Century Gothic"/>
              </a:rPr>
              <a:t>END  DECLARE  S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EXEC  SQ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m_en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cc3399"/>
                </a:solidFill>
                <a:latin typeface="Times New Roman"/>
              </a:rPr>
              <a:t>crs_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286000"/>
            <a:ext cx="1447920" cy="838080"/>
          </a:xfrm>
          <a:prstGeom prst="wedgeRoundRectCallout">
            <a:avLst>
              <a:gd name="adj1" fmla="val -176314"/>
              <a:gd name="adj2" fmla="val -73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Variables shared by host and S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581280"/>
            <a:ext cx="366840" cy="374760"/>
          </a:xfrm>
          <a:custGeom>
            <a:avLst/>
            <a:gdLst/>
            <a:ahLst/>
            <a:rect l="l" t="t" r="r" b="b"/>
            <a:pathLst>
              <a:path w="231" h="236">
                <a:moveTo>
                  <a:pt x="146" y="26"/>
                </a:moveTo>
                <a:cubicBezTo>
                  <a:pt x="33" y="35"/>
                  <a:pt x="18" y="8"/>
                  <a:pt x="0" y="99"/>
                </a:cubicBezTo>
                <a:cubicBezTo>
                  <a:pt x="3" y="130"/>
                  <a:pt x="4" y="161"/>
                  <a:pt x="9" y="191"/>
                </a:cubicBezTo>
                <a:cubicBezTo>
                  <a:pt x="10" y="200"/>
                  <a:pt x="11" y="212"/>
                  <a:pt x="18" y="218"/>
                </a:cubicBezTo>
                <a:cubicBezTo>
                  <a:pt x="35" y="232"/>
                  <a:pt x="61" y="229"/>
                  <a:pt x="82" y="236"/>
                </a:cubicBezTo>
                <a:cubicBezTo>
                  <a:pt x="106" y="233"/>
                  <a:pt x="131" y="232"/>
                  <a:pt x="155" y="227"/>
                </a:cubicBezTo>
                <a:cubicBezTo>
                  <a:pt x="174" y="223"/>
                  <a:pt x="210" y="209"/>
                  <a:pt x="210" y="209"/>
                </a:cubicBezTo>
                <a:cubicBezTo>
                  <a:pt x="220" y="166"/>
                  <a:pt x="231" y="140"/>
                  <a:pt x="210" y="90"/>
                </a:cubicBezTo>
                <a:cubicBezTo>
                  <a:pt x="202" y="72"/>
                  <a:pt x="95" y="0"/>
                  <a:pt x="146" y="26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343400"/>
            <a:ext cx="366480" cy="374760"/>
          </a:xfrm>
          <a:custGeom>
            <a:avLst/>
            <a:gdLst/>
            <a:ahLst/>
            <a:rect l="l" t="t" r="r" b="b"/>
            <a:pathLst>
              <a:path w="231" h="236">
                <a:moveTo>
                  <a:pt x="146" y="26"/>
                </a:moveTo>
                <a:cubicBezTo>
                  <a:pt x="33" y="35"/>
                  <a:pt x="18" y="8"/>
                  <a:pt x="0" y="99"/>
                </a:cubicBezTo>
                <a:cubicBezTo>
                  <a:pt x="3" y="130"/>
                  <a:pt x="4" y="161"/>
                  <a:pt x="9" y="191"/>
                </a:cubicBezTo>
                <a:cubicBezTo>
                  <a:pt x="10" y="200"/>
                  <a:pt x="11" y="212"/>
                  <a:pt x="18" y="218"/>
                </a:cubicBezTo>
                <a:cubicBezTo>
                  <a:pt x="35" y="232"/>
                  <a:pt x="61" y="229"/>
                  <a:pt x="82" y="236"/>
                </a:cubicBezTo>
                <a:cubicBezTo>
                  <a:pt x="106" y="233"/>
                  <a:pt x="131" y="232"/>
                  <a:pt x="155" y="227"/>
                </a:cubicBezTo>
                <a:cubicBezTo>
                  <a:pt x="174" y="223"/>
                  <a:pt x="210" y="209"/>
                  <a:pt x="210" y="209"/>
                </a:cubicBezTo>
                <a:cubicBezTo>
                  <a:pt x="220" y="166"/>
                  <a:pt x="231" y="140"/>
                  <a:pt x="210" y="90"/>
                </a:cubicBezTo>
                <a:cubicBezTo>
                  <a:pt x="202" y="72"/>
                  <a:pt x="95" y="0"/>
                  <a:pt x="146" y="26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657600"/>
            <a:ext cx="1905120" cy="609480"/>
          </a:xfrm>
          <a:prstGeom prst="wedgeRoundRectCallout">
            <a:avLst>
              <a:gd name="adj1" fmla="val -147916"/>
              <a:gd name="adj2" fmla="val 575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used to set off host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2CC-0604-43D7-9D70-0C7BC6F83F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5T03:39:14Z</dcterms:created>
  <dc:creator>ARTHUR  BERNSTEIN</dc:creator>
  <dc:description/>
  <dc:language>en-US</dc:language>
  <cp:lastModifiedBy>Pearson Education</cp:lastModifiedBy>
  <cp:lastPrinted>2000-09-05T13:17:08Z</cp:lastPrinted>
  <dcterms:modified xsi:type="dcterms:W3CDTF">2005-04-06T15:55:26Z</dcterms:modified>
  <cp:revision>211</cp:revision>
  <dc:subject/>
  <dc:title>SQL in the Real World</dc:title>
</cp:coreProperties>
</file>