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70D-3E14-44B5-9309-040A4264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28E-2EC9-4408-B78D-B60B1F6B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998-F7BA-4F6D-ABDB-E27F5F9A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F31-97B3-439F-B189-153D3DDA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CFD2-C760-4CE2-BDDD-58CC6D10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E2F9-8CCE-4659-80B9-7646604F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2031-0ACE-4E0B-8DD7-535F9CC4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2A42-4620-41D5-8134-B029CBEC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45A4-8D6E-4089-80FF-EEC20B05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8B6A-8244-422A-8BA5-389B6DCE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60D2-4ABB-4797-B383-FBBE698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9B7-EE49-4CC2-8820-E1DD0885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DEB2-5E3D-46EA-9E3D-0A3EC631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5F77-DC26-4032-95AF-7422FC7F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EDE5-E860-4935-831F-831F8D93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A777-E611-4A55-89CA-61B7C79E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861C-5F1D-4BDF-B4A5-3831CB05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F74-21F5-4063-8B41-1DB9FF5D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727-B719-4C2B-80DD-33171DCE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301-58A5-42A0-94B2-0B75F368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440-79CF-4FA1-BA89-14846034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061-B0C2-4706-A8FC-85A9DB5D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9E1-9BD8-454C-A856-E0485176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220-7F16-43E2-8552-97167883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1E7F-89BD-471F-A1AC-274A59C12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2520" y="914400"/>
            <a:ext cx="3505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FC0C-02D5-4944-B3E9-4049979F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2520" y="914400"/>
            <a:ext cx="3505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520" y="2590920"/>
            <a:ext cx="35053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s and Active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4169-BA49-49D0-A13A-24345AE21A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ter Trigger Exampl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ow granula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5200" y="1905120"/>
            <a:ext cx="630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SalaryRa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FTER UPDATE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FERENCING OLD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EW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O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.05 * O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05 *  O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O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5480" y="5562720"/>
            <a:ext cx="772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 action itself is a triggering event (but in this cas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 reaction is not pos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1371600"/>
            <a:ext cx="2057400" cy="609480"/>
          </a:xfrm>
          <a:prstGeom prst="wedgeRoundRectCallout">
            <a:avLst>
              <a:gd name="adj1" fmla="val -98458"/>
              <a:gd name="adj2" fmla="val 5260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No salary raises greater than 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BD1-1845-46DB-A7B2-64C29725EC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igger Exampl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tement granular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48920" y="2475000"/>
            <a:ext cx="574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RIG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New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FTER UPDAT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 EACH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SERT IN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ALUE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URRENT_D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AV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447920"/>
            <a:ext cx="2057400" cy="609480"/>
          </a:xfrm>
          <a:prstGeom prst="wedgeRoundRectCallout">
            <a:avLst>
              <a:gd name="adj1" fmla="val -57791"/>
              <a:gd name="adj2" fmla="val 16041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Keep track of salary averages in the 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A78-479D-43B2-980C-91C8EC0A70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ger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 of the databas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form: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quest to execute databas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ition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ate evaluated on databas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execution of procedure that might involve database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pdating maximum course enrollment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umber registered  &gt;  new max enrollment limit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register students using LIFO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0C9-6DFC-4F76-88F1-EBA7FFED55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ger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Occurrence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point, after activation,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i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evalu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ediate or deferred (when the transaction requests to com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fer to both the state before and the state af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FC3-079E-44CB-8647-C00A96896A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ger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oint at whi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deferred consideration, execution is also d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immediate consideration, execution can occur immediately after consideration or it can be d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xecution is immediate,  execution can occur before, after, or instead of triggering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triggers adapt naturally to maintaining integrity constraints:  violation  results in rejection of ev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149-0973-48DD-961B-E2359F69A4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ger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u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w-level granul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change of a single row is an event (a single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might result in multiple ev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ment-level granul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events are statements (a single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that changes multiple rows is a single ev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098-42BF-4CF7-A195-E62803C06A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ger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Trigg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hould multiple triggers activated by a single event  be hand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one condition at a time and if true immediately execute action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all conditio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execute actio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ecution of an ac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ffect the truth of a subsequently evaluated condition so the choice is signific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1335-5601-4627-B0AD-BAD5E6A9AD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gers in SQL: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SERT, DE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D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s or changes to individual rows caused by these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ything that is allowed in a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n individual SQL statement or a program written  in the language of Procedural Stored Modules (PSM) (which can contain embedded SQL state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C393-B2CA-42AE-955B-512DF1C68E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gers in SQL: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 can refer to both the state of the affected row or table befo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event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medi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can be before or after the execution of the triggering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of before trigger cannot modify the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nula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Bo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w-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ement-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D52-D4F4-424D-AFB5-33D0426607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fore Trigger Exampl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ow granula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87280" y="1828800"/>
            <a:ext cx="682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ax_Enroll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EFORE INSERT 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FERENCING NEW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-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w to be ad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(SELECT  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Enrol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BORT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1295280"/>
            <a:ext cx="1981440" cy="609840"/>
          </a:xfrm>
          <a:prstGeom prst="wedgeRoundRectCallout">
            <a:avLst>
              <a:gd name="adj1" fmla="val -78763"/>
              <a:gd name="adj2" fmla="val 73958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heck that enrollment  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≤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 li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B6B-6B1B-438A-85E9-DBBE3993F0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5T04:20:02Z</dcterms:created>
  <dc:creator>ARTHUR  BERNSTEIN</dc:creator>
  <dc:description/>
  <dc:language>en-US</dc:language>
  <cp:lastModifiedBy>Pearson Education</cp:lastModifiedBy>
  <dcterms:modified xsi:type="dcterms:W3CDTF">2005-04-06T15:55:49Z</dcterms:modified>
  <cp:revision>35</cp:revision>
  <dc:subject/>
  <dc:title>Triggers and Active Databases</dc:title>
</cp:coreProperties>
</file>