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86A-AF54-4B39-92CC-04EBAC47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631-A7B6-4E53-A574-FCAD95F2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9602-B00C-49F1-B5B5-84B47CEE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44B-2C17-4C84-B0F1-5A1A317E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1352-5E74-4018-A016-718BB785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1A67-C26C-4714-9005-6557AEE4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898A-922A-427A-ADF4-6BABD298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1E20-46A7-46E6-9E1F-64D92D1D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BE8C-B237-404B-89CD-F6D96E62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79AB-A459-437E-87BB-4462B2CC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106C-1853-4E7B-9700-10611FB2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BBB-6AA5-4CF2-90FC-496BFA04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03F9-CB54-4BBB-9F64-12F0E180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E90C-82FC-4329-82B0-42832A10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FBE2-2FD4-4802-A496-BBD11319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C4C2-74F3-4892-A606-4F695F12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C2EF-D8CC-4407-937C-7CEDA8F2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9CD-E80F-44CD-9282-1F9B55C4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7FA-420F-4403-8CE1-3EA2857A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830-9C1F-4C47-807A-3E0EA61D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6BA-8E36-4E9C-897F-0AF74A4D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D0D-CC25-4D67-90E9-F98950DD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A69-629C-44D8-AC7B-5698A3E0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E55-0960-4A02-846C-50E6AD7F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D14D-D933-420A-ADB5-F495786A2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05160" y="914400"/>
            <a:ext cx="3352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A1EF-3D7B-4E12-A5D2-D11EEECCA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05160" y="914400"/>
            <a:ext cx="3352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181480" y="2666520"/>
            <a:ext cx="3353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Normalization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97D7-3155-4052-857C-3538CDD621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Zip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y Brook’s ZIP is 117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tistNa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rth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asso was born in 18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utobr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anufactur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gin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ntiac is built by General Motors with gasoline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uthor, Tit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ubl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kespeare’s Hamlet published in 1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D3E-0252-4485-8C07-93BDD79D02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al Dependency -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brokerage firm that allows multiple clients to share an account, but each account is managed from a single office and a client can have no more than one account in an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Ac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tNum, ClientId, Offic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  ar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entId, Office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tNum, Clien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ent, OfficeI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cct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tNu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fic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attribute values need not depend only on key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38F-D85A-4DC1-8E34-D98878CF09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ailment, Closure, Equiva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et of FDs on schem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other FD 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ail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f every instanc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satisfi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FD 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satisf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{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, 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}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w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Zi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i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reaCod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ow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rea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not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et of all FDs entailed by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ail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tail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113-6013-4EAA-AD7E-53AA8DEE65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ailment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isfaction, entailment, and equivalence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man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cepts – defined in terms of the actual relations in the “real world.”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defin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these notions 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ow to comput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check if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or i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equivalent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the respective definitions for all possible rel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d id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ight be infinite number for infinite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for finite domains, we have to look at relation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find algorithmic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ntac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ys to compute these n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mport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The syntactic solution must be “correct” with respect to the semantic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ness has two aspec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undn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leten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see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DAA-2F33-41D4-BDC0-C077650256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mstrong’s Axioms for F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yntac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y of computing/testing the various properties of F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lexiv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Y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rivial F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, 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gment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Y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 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Y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w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Zi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wn, Na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Zip,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itiv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Y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Z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099E-E562-476A-9EE6-27119BA61B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n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iom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an F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derived from a set of FDs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using the axioms, then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holds in every relation that satisfies every FD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Given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 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atisfied in every relation where bo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satis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fore, we have derived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ion ru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FDs: we can take the union of the RHSs of FDs that have the same L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48800" y="3235320"/>
            <a:ext cx="41446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XY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gmentation by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YZ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ugmentation by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YZ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6FA-0E36-4F31-AC03-BCBF9AC3CF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iom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ail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derived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ing the axi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sequence of completeness is the following (naïve) algorithm to determining i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tail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se the axioms in all possible ways to generat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set of possible FD’s is finite so this can be done) and see i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E33-E701-4F91-8639-300A29E243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tion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undn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ten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nk the syntax (Armstrong’s axioms) with semantics (the definitions in terms of relational instan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precise way of saying that the algorithm for entailment based on the axioms is “correct” with respect to the 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585-5AF3-480C-A842-6857E05190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4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3080" y="1981080"/>
            <a:ext cx="8383320" cy="2654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CD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        A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D                                 A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CDE      A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           BC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C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657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29718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971800" y="34286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3276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800600" y="37335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2971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1896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52080" y="4952880"/>
            <a:ext cx="741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D, A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CD, A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CD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ll elements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74720" y="306216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3276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56160" y="34434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03480" y="4052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88620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31240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co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18A-906F-43AA-A3FC-59F8C942FE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 Clo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tribute clos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eads to a more efficient way of checking entai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tribute clos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et of attributes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respect to a set of functional dependencies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(denot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set of all attributes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ot necessarily the sam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tribute closure and entail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iven a set of FD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and only i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18A-3A02-4C56-BB4A-FB8A77AE69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ations of E-R De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a set of guidelines, does not result in a unique databas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provide a way of evaluating alternative sch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ation theory provides a mechanism for analyzing and refining the schema produced by an E-R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C54-4604-4239-B30F-9E42BB8159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- Computing Attribute Clo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18800" y="2133720"/>
            <a:ext cx="24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A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1760" y="1523880"/>
            <a:ext cx="382032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             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           {A, D, 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         {A, B, C, D, 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e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k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           {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           {D, 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133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14120" y="4724280"/>
            <a:ext cx="5157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ailed b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ailed b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us to determine FD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for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ntailed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917F-159F-4CCF-A899-00D28C63BF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ation of Attribute Closure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48520" y="1905120"/>
            <a:ext cx="758448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osure := X;               // sinc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ld := closur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re is an FD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tha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closu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cl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osure := closu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t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ld = clos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losu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ntailed b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638680" y="403848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DA3-CAD1-4E23-BA0B-C598E17F38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Computation of Attribute Clos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2590920"/>
            <a:ext cx="270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840" y="2057400"/>
            <a:ext cx="76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mpute the attribute closur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ect to the set of FD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7960" y="4572000"/>
            <a:ext cx="388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 = {AB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(a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 = {AB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(b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 = {ABC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(c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ure = {ABCD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99280" y="402912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D0C-62C8-49C0-A443-9B2DEDE5C0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rmal form is a set of conditions on a schema that guarantees certain properties (relating to redundancy and update anomal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ormal form (1NF) is the same as the definition of relational model (relations = sets of tuples; each tuple = sequence of atomic valu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normal form (2NF) – a research lab accident; has no practical or theoretical value – won’t disc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wo commonly used normal forms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3NF)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yce-Codd normal 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CN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BA7-38F9-4706-97A5-127CA21FDA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relation schem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BCNF if for every F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.e., the FD is trivial)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perkey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on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SN, Name, Addres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FD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ame,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ke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BC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A0F-4CA1-4706-A537-07693FD192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non) BCNF  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, Name, Address, Hob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ame, Addres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tisfy requirements of BCN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key i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SN, Hob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Ac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ctNum, ClientId, Office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tNu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fice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tisfy BCNF require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keys ar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entId, Office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tNum, Clien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t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76C-1701-4924-8B9D-E1D69DDD71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a F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, and A is not a superkey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instance has 2 rows with sam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have sam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=&gt; redundancy, if the 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eats tw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uperkey, there cannot be two rows with sam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, BCNF eliminates redund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2362320"/>
            <a:ext cx="54594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Name,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SN     Name     Address       Hob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11   Joe      123 Main   st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11   Joe      123 Main   co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289548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335268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2895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28954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62040" y="3236760"/>
            <a:ext cx="4476960" cy="1416240"/>
          </a:xfrm>
          <a:custGeom>
            <a:avLst/>
            <a:gdLst/>
            <a:ahLst/>
            <a:rect l="l" t="t" r="r" b="b"/>
            <a:pathLst>
              <a:path w="2820" h="892">
                <a:moveTo>
                  <a:pt x="2701" y="164"/>
                </a:moveTo>
                <a:cubicBezTo>
                  <a:pt x="2576" y="134"/>
                  <a:pt x="2445" y="120"/>
                  <a:pt x="2317" y="110"/>
                </a:cubicBezTo>
                <a:cubicBezTo>
                  <a:pt x="2191" y="65"/>
                  <a:pt x="1948" y="69"/>
                  <a:pt x="1823" y="64"/>
                </a:cubicBezTo>
                <a:cubicBezTo>
                  <a:pt x="1751" y="54"/>
                  <a:pt x="1686" y="43"/>
                  <a:pt x="1613" y="36"/>
                </a:cubicBezTo>
                <a:cubicBezTo>
                  <a:pt x="1523" y="18"/>
                  <a:pt x="1429" y="11"/>
                  <a:pt x="1338" y="0"/>
                </a:cubicBezTo>
                <a:cubicBezTo>
                  <a:pt x="1087" y="11"/>
                  <a:pt x="888" y="28"/>
                  <a:pt x="643" y="36"/>
                </a:cubicBezTo>
                <a:cubicBezTo>
                  <a:pt x="550" y="53"/>
                  <a:pt x="360" y="64"/>
                  <a:pt x="360" y="64"/>
                </a:cubicBezTo>
                <a:cubicBezTo>
                  <a:pt x="298" y="74"/>
                  <a:pt x="238" y="85"/>
                  <a:pt x="177" y="100"/>
                </a:cubicBezTo>
                <a:cubicBezTo>
                  <a:pt x="107" y="170"/>
                  <a:pt x="38" y="244"/>
                  <a:pt x="3" y="338"/>
                </a:cubicBezTo>
                <a:cubicBezTo>
                  <a:pt x="11" y="438"/>
                  <a:pt x="0" y="454"/>
                  <a:pt x="49" y="521"/>
                </a:cubicBezTo>
                <a:cubicBezTo>
                  <a:pt x="67" y="574"/>
                  <a:pt x="121" y="591"/>
                  <a:pt x="168" y="612"/>
                </a:cubicBezTo>
                <a:cubicBezTo>
                  <a:pt x="270" y="658"/>
                  <a:pt x="367" y="695"/>
                  <a:pt x="479" y="713"/>
                </a:cubicBezTo>
                <a:cubicBezTo>
                  <a:pt x="669" y="775"/>
                  <a:pt x="1066" y="756"/>
                  <a:pt x="1229" y="759"/>
                </a:cubicBezTo>
                <a:cubicBezTo>
                  <a:pt x="1699" y="876"/>
                  <a:pt x="2226" y="892"/>
                  <a:pt x="2673" y="704"/>
                </a:cubicBezTo>
                <a:cubicBezTo>
                  <a:pt x="2693" y="674"/>
                  <a:pt x="2707" y="660"/>
                  <a:pt x="2737" y="640"/>
                </a:cubicBezTo>
                <a:cubicBezTo>
                  <a:pt x="2740" y="631"/>
                  <a:pt x="2741" y="620"/>
                  <a:pt x="2746" y="612"/>
                </a:cubicBezTo>
                <a:cubicBezTo>
                  <a:pt x="2751" y="605"/>
                  <a:pt x="2762" y="602"/>
                  <a:pt x="2765" y="594"/>
                </a:cubicBezTo>
                <a:cubicBezTo>
                  <a:pt x="2772" y="574"/>
                  <a:pt x="2771" y="551"/>
                  <a:pt x="2774" y="530"/>
                </a:cubicBezTo>
                <a:cubicBezTo>
                  <a:pt x="2773" y="489"/>
                  <a:pt x="2820" y="208"/>
                  <a:pt x="2701" y="164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666880"/>
            <a:ext cx="1371600" cy="457200"/>
          </a:xfrm>
          <a:prstGeom prst="wedgeRoundRectCallout">
            <a:avLst>
              <a:gd name="adj1" fmla="val 46064"/>
              <a:gd name="adj2" fmla="val 16354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F3BD-EF59-4679-AF5F-2569FE25B3E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ational schem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3NF if for every FD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Y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ed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ith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.e., the FD is trivial);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uperkey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part of some key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NF is weaker than BCNF (every schema that is in BCNF is also in 3N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3360" y="2336760"/>
            <a:ext cx="6678720" cy="1247760"/>
          </a:xfrm>
          <a:custGeom>
            <a:avLst/>
            <a:gdLst/>
            <a:ahLst/>
            <a:rect l="l" t="t" r="r" b="b"/>
            <a:pathLst>
              <a:path w="4207" h="786">
                <a:moveTo>
                  <a:pt x="896" y="55"/>
                </a:moveTo>
                <a:cubicBezTo>
                  <a:pt x="849" y="54"/>
                  <a:pt x="325" y="35"/>
                  <a:pt x="192" y="55"/>
                </a:cubicBezTo>
                <a:cubicBezTo>
                  <a:pt x="162" y="59"/>
                  <a:pt x="118" y="111"/>
                  <a:pt x="92" y="128"/>
                </a:cubicBezTo>
                <a:cubicBezTo>
                  <a:pt x="68" y="161"/>
                  <a:pt x="56" y="199"/>
                  <a:pt x="28" y="229"/>
                </a:cubicBezTo>
                <a:cubicBezTo>
                  <a:pt x="16" y="265"/>
                  <a:pt x="7" y="301"/>
                  <a:pt x="0" y="338"/>
                </a:cubicBezTo>
                <a:cubicBezTo>
                  <a:pt x="3" y="396"/>
                  <a:pt x="1" y="455"/>
                  <a:pt x="9" y="512"/>
                </a:cubicBezTo>
                <a:cubicBezTo>
                  <a:pt x="12" y="533"/>
                  <a:pt x="110" y="597"/>
                  <a:pt x="128" y="603"/>
                </a:cubicBezTo>
                <a:cubicBezTo>
                  <a:pt x="282" y="656"/>
                  <a:pt x="353" y="683"/>
                  <a:pt x="503" y="695"/>
                </a:cubicBezTo>
                <a:cubicBezTo>
                  <a:pt x="809" y="755"/>
                  <a:pt x="1157" y="719"/>
                  <a:pt x="1445" y="722"/>
                </a:cubicBezTo>
                <a:cubicBezTo>
                  <a:pt x="1622" y="727"/>
                  <a:pt x="1769" y="739"/>
                  <a:pt x="1939" y="759"/>
                </a:cubicBezTo>
                <a:cubicBezTo>
                  <a:pt x="2018" y="768"/>
                  <a:pt x="2176" y="786"/>
                  <a:pt x="2176" y="786"/>
                </a:cubicBezTo>
                <a:cubicBezTo>
                  <a:pt x="2301" y="783"/>
                  <a:pt x="2426" y="782"/>
                  <a:pt x="2551" y="777"/>
                </a:cubicBezTo>
                <a:cubicBezTo>
                  <a:pt x="2651" y="773"/>
                  <a:pt x="2753" y="749"/>
                  <a:pt x="2853" y="741"/>
                </a:cubicBezTo>
                <a:cubicBezTo>
                  <a:pt x="3069" y="694"/>
                  <a:pt x="3300" y="702"/>
                  <a:pt x="3520" y="695"/>
                </a:cubicBezTo>
                <a:cubicBezTo>
                  <a:pt x="3597" y="687"/>
                  <a:pt x="3673" y="676"/>
                  <a:pt x="3749" y="667"/>
                </a:cubicBezTo>
                <a:cubicBezTo>
                  <a:pt x="3806" y="648"/>
                  <a:pt x="3871" y="645"/>
                  <a:pt x="3923" y="613"/>
                </a:cubicBezTo>
                <a:cubicBezTo>
                  <a:pt x="4052" y="535"/>
                  <a:pt x="4142" y="397"/>
                  <a:pt x="4206" y="265"/>
                </a:cubicBezTo>
                <a:cubicBezTo>
                  <a:pt x="4203" y="225"/>
                  <a:pt x="4207" y="185"/>
                  <a:pt x="4197" y="146"/>
                </a:cubicBezTo>
                <a:cubicBezTo>
                  <a:pt x="4194" y="135"/>
                  <a:pt x="4152" y="107"/>
                  <a:pt x="4142" y="101"/>
                </a:cubicBezTo>
                <a:cubicBezTo>
                  <a:pt x="4039" y="44"/>
                  <a:pt x="3929" y="16"/>
                  <a:pt x="3813" y="0"/>
                </a:cubicBezTo>
                <a:cubicBezTo>
                  <a:pt x="2823" y="4"/>
                  <a:pt x="1947" y="22"/>
                  <a:pt x="988" y="37"/>
                </a:cubicBezTo>
                <a:cubicBezTo>
                  <a:pt x="964" y="43"/>
                  <a:pt x="939" y="49"/>
                  <a:pt x="915" y="55"/>
                </a:cubicBezTo>
                <a:cubicBezTo>
                  <a:pt x="885" y="63"/>
                  <a:pt x="879" y="72"/>
                  <a:pt x="896" y="55"/>
                </a:cubicBezTo>
                <a:close/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3276720"/>
            <a:ext cx="1219320" cy="609480"/>
          </a:xfrm>
          <a:prstGeom prst="wedgeRoundRectCallout">
            <a:avLst>
              <a:gd name="adj1" fmla="val -98569"/>
              <a:gd name="adj2" fmla="val -12448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CNF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B77-4D59-4DF3-AF31-419E201EA8D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Ac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tNum, ClientId, Offic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en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fice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cct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 since LHS contains a 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t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Office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 since RHS is part of a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Ac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3NF but it might still contain redundant information du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tNum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fic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which is not allowed by BCN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54B-3336-44F6-B099-904BDD23CE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NF (Non)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, Name, Address, Hob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, Hob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the only k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violates 3NF conditions si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part of a key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a super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04B-E3E8-42DB-8669-13D506F4C08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cies between attributes cause redund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 All addresses in the same town have the same zip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6360" y="4038480"/>
            <a:ext cx="483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4     Joe       Stony Brook     117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21     Mary    Stony Brook     117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54     Tom     Stony Brook     117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…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441972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40384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4040" y="4422600"/>
            <a:ext cx="3286080" cy="1325880"/>
          </a:xfrm>
          <a:custGeom>
            <a:avLst/>
            <a:gdLst/>
            <a:ahLst/>
            <a:rect l="l" t="t" r="r" b="b"/>
            <a:pathLst>
              <a:path w="2070" h="835">
                <a:moveTo>
                  <a:pt x="1993" y="249"/>
                </a:moveTo>
                <a:cubicBezTo>
                  <a:pt x="1983" y="220"/>
                  <a:pt x="1977" y="151"/>
                  <a:pt x="1957" y="131"/>
                </a:cubicBezTo>
                <a:cubicBezTo>
                  <a:pt x="1933" y="107"/>
                  <a:pt x="1919" y="134"/>
                  <a:pt x="1893" y="112"/>
                </a:cubicBezTo>
                <a:cubicBezTo>
                  <a:pt x="1863" y="87"/>
                  <a:pt x="1889" y="62"/>
                  <a:pt x="1856" y="48"/>
                </a:cubicBezTo>
                <a:cubicBezTo>
                  <a:pt x="1822" y="33"/>
                  <a:pt x="1812" y="27"/>
                  <a:pt x="1774" y="21"/>
                </a:cubicBezTo>
                <a:cubicBezTo>
                  <a:pt x="1705" y="10"/>
                  <a:pt x="1605" y="38"/>
                  <a:pt x="1536" y="30"/>
                </a:cubicBezTo>
                <a:cubicBezTo>
                  <a:pt x="1451" y="33"/>
                  <a:pt x="1356" y="32"/>
                  <a:pt x="1271" y="39"/>
                </a:cubicBezTo>
                <a:cubicBezTo>
                  <a:pt x="1222" y="43"/>
                  <a:pt x="1154" y="59"/>
                  <a:pt x="1106" y="67"/>
                </a:cubicBezTo>
                <a:cubicBezTo>
                  <a:pt x="1031" y="80"/>
                  <a:pt x="971" y="31"/>
                  <a:pt x="896" y="39"/>
                </a:cubicBezTo>
                <a:cubicBezTo>
                  <a:pt x="695" y="30"/>
                  <a:pt x="468" y="0"/>
                  <a:pt x="256" y="30"/>
                </a:cubicBezTo>
                <a:cubicBezTo>
                  <a:pt x="185" y="53"/>
                  <a:pt x="118" y="75"/>
                  <a:pt x="46" y="94"/>
                </a:cubicBezTo>
                <a:cubicBezTo>
                  <a:pt x="0" y="162"/>
                  <a:pt x="13" y="127"/>
                  <a:pt x="0" y="195"/>
                </a:cubicBezTo>
                <a:cubicBezTo>
                  <a:pt x="2" y="245"/>
                  <a:pt x="4" y="387"/>
                  <a:pt x="18" y="460"/>
                </a:cubicBezTo>
                <a:cubicBezTo>
                  <a:pt x="40" y="578"/>
                  <a:pt x="122" y="679"/>
                  <a:pt x="220" y="743"/>
                </a:cubicBezTo>
                <a:cubicBezTo>
                  <a:pt x="240" y="756"/>
                  <a:pt x="296" y="765"/>
                  <a:pt x="320" y="771"/>
                </a:cubicBezTo>
                <a:cubicBezTo>
                  <a:pt x="378" y="786"/>
                  <a:pt x="435" y="804"/>
                  <a:pt x="494" y="816"/>
                </a:cubicBezTo>
                <a:cubicBezTo>
                  <a:pt x="917" y="811"/>
                  <a:pt x="1116" y="835"/>
                  <a:pt x="1445" y="789"/>
                </a:cubicBezTo>
                <a:cubicBezTo>
                  <a:pt x="1563" y="772"/>
                  <a:pt x="1676" y="750"/>
                  <a:pt x="1792" y="725"/>
                </a:cubicBezTo>
                <a:cubicBezTo>
                  <a:pt x="1828" y="717"/>
                  <a:pt x="1857" y="708"/>
                  <a:pt x="1893" y="697"/>
                </a:cubicBezTo>
                <a:cubicBezTo>
                  <a:pt x="1911" y="691"/>
                  <a:pt x="1948" y="679"/>
                  <a:pt x="1948" y="679"/>
                </a:cubicBezTo>
                <a:cubicBezTo>
                  <a:pt x="1954" y="670"/>
                  <a:pt x="1959" y="660"/>
                  <a:pt x="1966" y="652"/>
                </a:cubicBezTo>
                <a:cubicBezTo>
                  <a:pt x="1980" y="636"/>
                  <a:pt x="2012" y="606"/>
                  <a:pt x="2012" y="606"/>
                </a:cubicBezTo>
                <a:cubicBezTo>
                  <a:pt x="2018" y="588"/>
                  <a:pt x="2024" y="569"/>
                  <a:pt x="2030" y="551"/>
                </a:cubicBezTo>
                <a:cubicBezTo>
                  <a:pt x="2033" y="542"/>
                  <a:pt x="2039" y="524"/>
                  <a:pt x="2039" y="524"/>
                </a:cubicBezTo>
                <a:cubicBezTo>
                  <a:pt x="2034" y="393"/>
                  <a:pt x="2070" y="326"/>
                  <a:pt x="1993" y="24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4343400"/>
            <a:ext cx="1447920" cy="457200"/>
          </a:xfrm>
          <a:prstGeom prst="wedgeRoundRectCallout">
            <a:avLst>
              <a:gd name="adj1" fmla="val -106689"/>
              <a:gd name="adj2" fmla="val 75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B829-4C68-48FE-AE83-A78BE76852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Eliminate redundancy by decomposing a relation into several relations in a higher norm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tion must b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ssl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t must be possible to reconstruct the original relation from the relations in the de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see 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1A8-C55D-4F65-AD11-AAAE6229CE9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set a of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t of functional dependencies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key is described by a 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llection of schem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new attrib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t of functional dependences involving only attributes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ail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new F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composition of an 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et of rela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3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54D-955A-44A8-9F3F-E01D6A2C31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64760" y="1752480"/>
            <a:ext cx="655560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, 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, Name, Address, Hob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Name,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decomposed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, Name,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ame,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, Hob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6CE-C2BF-44E4-A660-316C16258BA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sless Schema 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omposition should not los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omposition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f a schema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ssles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very valid instance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reconstructed from its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each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27960" y="4438800"/>
            <a:ext cx="113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49280" y="441972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38760" y="443880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6800" y="44388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6483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46483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4648320"/>
            <a:ext cx="30456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6BD7-08A9-489D-A287-3FD30E865A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sy De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58760" y="1371600"/>
            <a:ext cx="129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57480" y="137160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20440" y="14479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00680" y="137160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9920" y="4089240"/>
            <a:ext cx="700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SN     Name       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SN   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     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1  Joe        1 Pine         1111 Joe         Joe        1 P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22  Alice     2 Oak         2222  Alice     Alice     2 O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33  Alice     3 Pine         3333 Alice     Alice     3 P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4114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4114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4495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1320" y="5638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72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4495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4495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5638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1400" y="2590920"/>
            <a:ext cx="129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3440" y="259092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76640" y="259092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6760" y="26668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38560" y="339552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67360" y="339552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63760" y="33955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32280" y="335268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114440" y="349416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3360" y="955800"/>
            <a:ext cx="60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is always the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Think why?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1120" y="21337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the following is not always 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680" y="3394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120" y="5867280"/>
            <a:ext cx="73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tup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(2222, Alice, 3 Pine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(3333, Alice, 2 Oak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e  in the joi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ut not in the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5029200"/>
            <a:ext cx="304920" cy="304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486400" y="5029200"/>
            <a:ext cx="380880" cy="380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2819520"/>
            <a:ext cx="30456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28195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2819520"/>
            <a:ext cx="30456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1600200"/>
            <a:ext cx="30456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33920" y="1600200"/>
            <a:ext cx="30456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60020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365760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4B6-5BEA-451E-A292-EFC6E479B5A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ssy Decompositions: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hat is Actually Lo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previous example, the tup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222, Alice, 3 Pine) and (3333, Alice, 2 Oak) w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i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t lost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 we say that the decomposition was loss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as lost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 2222 lives at  2 Oak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decomposition, 2222 can live at either 2 Oak or 3 P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 3333 lives at  3 Pine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decomposition, 3333 can live at either 2 Oak or 3 P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3314-465B-4D57-8CD5-363A080B948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for Lossless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(binary) decomposition of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lossles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f and only 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the 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n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the 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n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A82-29E5-47F5-8CD8-03E56438E93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74040" y="990720"/>
            <a:ext cx="669924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, 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, Name, Address, Hob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Name,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decomposed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, Name,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ame,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, Hob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SSN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tion is loss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474-159A-497D-86C0-D8716F35608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uition Behind the Test for Lossless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  Then a row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ombine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c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row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natural join (since in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 particular set of values for the attribu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es a unique ro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3760" y="4184640"/>
            <a:ext cx="465948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a               a   ……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……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    b   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……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             c   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……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209680" y="4648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46483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552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4648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209680" y="6095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4648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57913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4648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8640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67080" y="4800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267080" y="4876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267080" y="51811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267080" y="55627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FEF-AEB8-4C4F-BB2C-8D04EDD4A2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01240" y="2525760"/>
            <a:ext cx="38246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of of Lossless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1143000"/>
            <a:ext cx="177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88080" y="1143000"/>
            <a:ext cx="5307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rue for any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75840" y="2971800"/>
            <a:ext cx="2532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04840" y="4114800"/>
            <a:ext cx="779796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a projection of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ref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73880" y="5342040"/>
            <a:ext cx="23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52760" y="533412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1916280"/>
            <a:ext cx="1849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63680" y="190512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60680" y="3519360"/>
            <a:ext cx="7178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ince each row of  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joins with exactly one row of 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43200" y="5562720"/>
            <a:ext cx="395280" cy="242640"/>
          </a:xfrm>
          <a:custGeom>
            <a:avLst/>
            <a:gdLst/>
            <a:ahLst/>
            <a:rect l="l" t="t" r="r" b="b"/>
            <a:pathLst>
              <a:path w="249" h="153">
                <a:moveTo>
                  <a:pt x="0" y="16"/>
                </a:moveTo>
                <a:cubicBezTo>
                  <a:pt x="0" y="62"/>
                  <a:pt x="0" y="107"/>
                  <a:pt x="0" y="153"/>
                </a:cubicBezTo>
                <a:lnTo>
                  <a:pt x="249" y="0"/>
                </a:lnTo>
                <a:lnTo>
                  <a:pt x="249" y="144"/>
                </a:lnTo>
                <a:lnTo>
                  <a:pt x="0" y="1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00800" y="4800600"/>
            <a:ext cx="395280" cy="243000"/>
          </a:xfrm>
          <a:custGeom>
            <a:avLst/>
            <a:gdLst/>
            <a:ahLst/>
            <a:rect l="l" t="t" r="r" b="b"/>
            <a:pathLst>
              <a:path w="249" h="153">
                <a:moveTo>
                  <a:pt x="0" y="16"/>
                </a:moveTo>
                <a:cubicBezTo>
                  <a:pt x="0" y="62"/>
                  <a:pt x="0" y="107"/>
                  <a:pt x="0" y="153"/>
                </a:cubicBezTo>
                <a:lnTo>
                  <a:pt x="249" y="0"/>
                </a:lnTo>
                <a:lnTo>
                  <a:pt x="249" y="144"/>
                </a:lnTo>
                <a:lnTo>
                  <a:pt x="0" y="1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3200400"/>
            <a:ext cx="395280" cy="243000"/>
          </a:xfrm>
          <a:custGeom>
            <a:avLst/>
            <a:gdLst/>
            <a:ahLst/>
            <a:rect l="l" t="t" r="r" b="b"/>
            <a:pathLst>
              <a:path w="249" h="153">
                <a:moveTo>
                  <a:pt x="0" y="16"/>
                </a:moveTo>
                <a:cubicBezTo>
                  <a:pt x="0" y="62"/>
                  <a:pt x="0" y="107"/>
                  <a:pt x="0" y="153"/>
                </a:cubicBezTo>
                <a:lnTo>
                  <a:pt x="249" y="0"/>
                </a:lnTo>
                <a:lnTo>
                  <a:pt x="249" y="144"/>
                </a:lnTo>
                <a:lnTo>
                  <a:pt x="0" y="1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2133720"/>
            <a:ext cx="395280" cy="242640"/>
          </a:xfrm>
          <a:custGeom>
            <a:avLst/>
            <a:gdLst/>
            <a:ahLst/>
            <a:rect l="l" t="t" r="r" b="b"/>
            <a:pathLst>
              <a:path w="249" h="153">
                <a:moveTo>
                  <a:pt x="0" y="16"/>
                </a:moveTo>
                <a:cubicBezTo>
                  <a:pt x="0" y="62"/>
                  <a:pt x="0" y="107"/>
                  <a:pt x="0" y="153"/>
                </a:cubicBezTo>
                <a:lnTo>
                  <a:pt x="249" y="0"/>
                </a:lnTo>
                <a:lnTo>
                  <a:pt x="249" y="144"/>
                </a:lnTo>
                <a:lnTo>
                  <a:pt x="0" y="1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1371600"/>
            <a:ext cx="395280" cy="243000"/>
          </a:xfrm>
          <a:custGeom>
            <a:avLst/>
            <a:gdLst/>
            <a:ahLst/>
            <a:rect l="l" t="t" r="r" b="b"/>
            <a:pathLst>
              <a:path w="249" h="153">
                <a:moveTo>
                  <a:pt x="0" y="16"/>
                </a:moveTo>
                <a:cubicBezTo>
                  <a:pt x="0" y="62"/>
                  <a:pt x="0" y="107"/>
                  <a:pt x="0" y="153"/>
                </a:cubicBezTo>
                <a:lnTo>
                  <a:pt x="249" y="0"/>
                </a:lnTo>
                <a:lnTo>
                  <a:pt x="249" y="144"/>
                </a:lnTo>
                <a:lnTo>
                  <a:pt x="0" y="1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E432-2E6B-450A-BA5F-5B7580703B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ndancy and Other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valued attributes in the E-R diagram result in multiple rows in correspond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SN, Name, Address, Hobb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erson entity with multiple hobbies yields multiple rows in t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, the association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same person is stored redunda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key of entity set, but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SN, Hob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key of corresponding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’t describe people without hobb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CDF-3F5C-41E1-9462-601802321B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pendency Preser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a decomposition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(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F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f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FD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be in neithe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n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 ev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ing that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rue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(relatively)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ing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harder – requires a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ant to check FDs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locall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i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and have a guarantee that every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holds i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omposi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endency preser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f the se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equivalent: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checking all FDs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pdated, can  be done by check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33920" y="3657600"/>
            <a:ext cx="30456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44197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E13-E629-4B79-BA79-71C913D43C3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cy Pre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FD i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i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re are two possi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onstraints in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maintained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ill be maintained auto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an be checked only by first taking the joi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cos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4AD-254F-40CA-AE78-3EA9B9C5AAD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95400" y="1039680"/>
            <a:ext cx="67467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, Name, Address, Hob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Name,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decomposed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, Name,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ame,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, Hob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composition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cy preser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18F-A17C-46BB-9AA5-2C9F80DE972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: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C;  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, B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, C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mpos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 A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, 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u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ompositions is still dependency preser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DDE-56DE-45B1-A0BD-CB8A74E945F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Ac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tNum, ClientId, Office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t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fic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entId, Office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cct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tNum, Office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t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Office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t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en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 {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i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sles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t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t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Offic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C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endency preserving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Accoun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oes no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have BCNF decompositions that are both lossless and dependency preserv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Check, eg, by enumer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: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CNF+lossless+dependency preserving  decompositions are not always achieva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composi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676520"/>
            <a:ext cx="876312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o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om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t in BC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N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/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 isn’t a superkey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omp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Y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-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all FDs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ing only attributes of  X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all FDs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ing only attributes of  S - (Y -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turn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co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78040" y="564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480E-3FB2-4B9E-A10C-AB602D0DEB7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Ac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0348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7080" y="1954080"/>
            <a:ext cx="33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ClientId,  OfficeId,  Acct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449568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ClientId ,  Acct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NF (only trivial F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3352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e using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tNu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OfficeI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487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1520" y="441972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OfficeId,  Acct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85040" y="5029200"/>
            <a:ext cx="312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NF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t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tNum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ffic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14040" y="1981080"/>
            <a:ext cx="324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ien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ffice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Acct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tNu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Offic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CB5-C8F6-4BDC-993E-44D70F1922A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609480"/>
            <a:ext cx="87631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GH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{AB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,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E, BG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,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DH, B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G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1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FD that violates BC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ABH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all attrib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es BCNF 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not a superkey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2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E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GHK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, BG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,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H, B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1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 BC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2:  Decomposi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lossl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key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3:  FD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not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be derived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,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, decomposi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endency preser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3A6-9790-4F94-838E-4B55D7A0504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1295280"/>
            <a:ext cx="876312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: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GHK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, BG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,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H, B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1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FD that violates BC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G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K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key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AH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es BCNF 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not a superkey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p 2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AH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GK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1: Bo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 BC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2: The decomposition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ssl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key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3: FD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C, BG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, B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not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’t be derived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the decomposition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cy-preser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B908-8DD3-46B8-8804-9AA9322F409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of BCNF Decomposition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ate BCNF 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resulting decomposition.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ewer viol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BCNF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n there were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key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violate BCNF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since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oes not violate BCNF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violate BCNF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 not violate BCNF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ither 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uperkey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nce also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6B8-FB84-4557-82A8-0F561E8A86C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320" y="4545000"/>
            <a:ext cx="4451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SN      Name          Address          Hob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1    Joe        123 Main     bi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1    Joe        123 Main     hi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………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7880" y="2335320"/>
            <a:ext cx="560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SN     Name          Address              Hob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1    Joe        123 Main    {biking, hik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4600" y="18288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6560" y="407988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2209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26668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2209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2209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44956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4495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495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4876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4800600"/>
            <a:ext cx="3498840" cy="1038240"/>
          </a:xfrm>
          <a:custGeom>
            <a:avLst/>
            <a:gdLst/>
            <a:ahLst/>
            <a:rect l="l" t="t" r="r" b="b"/>
            <a:pathLst>
              <a:path w="2204" h="654">
                <a:moveTo>
                  <a:pt x="923" y="99"/>
                </a:moveTo>
                <a:cubicBezTo>
                  <a:pt x="810" y="90"/>
                  <a:pt x="696" y="89"/>
                  <a:pt x="584" y="71"/>
                </a:cubicBezTo>
                <a:cubicBezTo>
                  <a:pt x="482" y="73"/>
                  <a:pt x="162" y="0"/>
                  <a:pt x="36" y="126"/>
                </a:cubicBezTo>
                <a:cubicBezTo>
                  <a:pt x="8" y="211"/>
                  <a:pt x="0" y="301"/>
                  <a:pt x="54" y="382"/>
                </a:cubicBezTo>
                <a:cubicBezTo>
                  <a:pt x="67" y="421"/>
                  <a:pt x="79" y="420"/>
                  <a:pt x="109" y="446"/>
                </a:cubicBezTo>
                <a:cubicBezTo>
                  <a:pt x="125" y="460"/>
                  <a:pt x="140" y="477"/>
                  <a:pt x="155" y="492"/>
                </a:cubicBezTo>
                <a:cubicBezTo>
                  <a:pt x="226" y="563"/>
                  <a:pt x="364" y="566"/>
                  <a:pt x="456" y="574"/>
                </a:cubicBezTo>
                <a:cubicBezTo>
                  <a:pt x="654" y="613"/>
                  <a:pt x="861" y="598"/>
                  <a:pt x="1060" y="602"/>
                </a:cubicBezTo>
                <a:cubicBezTo>
                  <a:pt x="1193" y="617"/>
                  <a:pt x="1320" y="619"/>
                  <a:pt x="1453" y="611"/>
                </a:cubicBezTo>
                <a:cubicBezTo>
                  <a:pt x="1462" y="608"/>
                  <a:pt x="1471" y="604"/>
                  <a:pt x="1480" y="602"/>
                </a:cubicBezTo>
                <a:cubicBezTo>
                  <a:pt x="1519" y="594"/>
                  <a:pt x="1561" y="595"/>
                  <a:pt x="1599" y="583"/>
                </a:cubicBezTo>
                <a:cubicBezTo>
                  <a:pt x="1620" y="576"/>
                  <a:pt x="1639" y="654"/>
                  <a:pt x="1657" y="642"/>
                </a:cubicBezTo>
                <a:cubicBezTo>
                  <a:pt x="1666" y="636"/>
                  <a:pt x="1831" y="624"/>
                  <a:pt x="1831" y="624"/>
                </a:cubicBezTo>
                <a:cubicBezTo>
                  <a:pt x="1854" y="589"/>
                  <a:pt x="2161" y="584"/>
                  <a:pt x="2169" y="542"/>
                </a:cubicBezTo>
                <a:cubicBezTo>
                  <a:pt x="2166" y="490"/>
                  <a:pt x="2204" y="210"/>
                  <a:pt x="2197" y="158"/>
                </a:cubicBezTo>
                <a:cubicBezTo>
                  <a:pt x="2184" y="56"/>
                  <a:pt x="1850" y="70"/>
                  <a:pt x="1758" y="48"/>
                </a:cubicBezTo>
                <a:cubicBezTo>
                  <a:pt x="1546" y="64"/>
                  <a:pt x="1511" y="30"/>
                  <a:pt x="1118" y="94"/>
                </a:cubicBezTo>
                <a:cubicBezTo>
                  <a:pt x="1055" y="74"/>
                  <a:pt x="1042" y="119"/>
                  <a:pt x="923" y="99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5943600"/>
            <a:ext cx="1295280" cy="457200"/>
          </a:xfrm>
          <a:prstGeom prst="wedgeRoundRectCallout">
            <a:avLst>
              <a:gd name="adj1" fmla="val -141175"/>
              <a:gd name="adj2" fmla="val -8368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B94-815B-4D76-BF37-222D24AE9B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 of BCNF Decomposition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CNF decomposition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 necessari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pendency preserv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ssl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X,   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CNF+lossless+dependency preserving is sometimes unachievable (reca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Accou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358-156E-4A4C-A8E6-F8DBD23F5ED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Normal 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omise  –  Not all redundancy removed, but dependency preserving decompositions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way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ssible (and, of course, lossl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NF decomposition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nimal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D56E-EEEC-4D96-8FA2-D34856F9C57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al C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nimal co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set of dependencie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set of dependencie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quivalent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Ds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he for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ingl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possible to mak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maller (while preserving equivalence)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ing an 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ing an attribute from an FD  (either from LHS or R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s and attributes that can be deleted in this way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130-6329-4024-8B9D-E868D520DF1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Minimal C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K,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,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G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, 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D,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, B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ake RHS of each FD into a single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Use the decomposition inference rule for F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, 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K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AB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liminate redundant attributes from LH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F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ingle attribute)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ailed b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as unnecess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Can an attribute be deleted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AH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BH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C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entailed b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redundant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DA5-762C-409D-A242-FE34F8EE044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uting Minimal Cover (con’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elete redundant FDs fro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entail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f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n check if A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BG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ntail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,  B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 it is redu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The order of steps 2 and 3 cannot be interchanged!! See the textbook for a counter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0DB-62FA-40D8-892F-BFAB9CA9A90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hesizing a 3NF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mpute a minimal cover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composition is based o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sinc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ame functional dependencies will 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inimal cover for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K,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, 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, BG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, L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, B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, B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, 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, 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, L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, E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8080" y="1295280"/>
            <a:ext cx="57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with a schem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E16-CD14-410C-8D09-5C9A034691A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nthesizing a 3NF schema (con’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artitio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set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…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the LHS of all elements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, BH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AB5-32A9-4E14-99A8-29FADD929CC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nthesizing a 3NF schema (con’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ac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schem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set of all attributes mentioned i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FD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be in som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the decomposi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endency preser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HCK;  BH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, B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; 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; 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;  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L;  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B4C6-2092-49DB-9C3A-2EC89CBB874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nthesizing a 3NF schema (con’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f n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uperkey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 schem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})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key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GH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ght be needed when not all attributes are necessarily contained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ttribut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must be part of all key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ince it’s not in any FD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eriving a key constraint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olves the augmentation axi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ght be needed even if all attributes are accounted for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 decomposition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)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y! Need to add (AC; { }), for lossless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4 guarantees lossless de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3D9-9E39-4EC1-A487-6D5CC83AB55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NF Design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ulting decomposition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…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cy preserving (since every F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FD of some sche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less (although this is not obvio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3NF (although this is not obvio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for decomposing a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3NF decomposition first to get lossless, dependency preserving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y resulting schema is not in BCNF, split it using the BCNF algorithm (but this may yield a non-dependency preserving res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471-2DCF-4BE7-9E24-04604D138F2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cy leads to anomal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pdate anoma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chang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be made in several 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letion anoma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uppose a person gives up all hobbies.  Do w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Hobby attribute to null?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b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art of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the entire row?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ince we lose other information in the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ertion anoma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b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 must be supplied for any inserted row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b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art of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9C7-F916-43DB-AF65-41CF9BA8A3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ization Drawb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limiting redundancy, normalization  helps maintain consistency and saves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performance of querying can suffer because related information that was stored in a single relation is now distributed among sev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 join is required to get the names and grades of all students taking CS305 in S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5320" y="4495680"/>
            <a:ext cx="757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CS305’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S2002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BCD-85BB-4D85-998B-C326ED27992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orm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deo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udicious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roduce redundancy to improve performance of certain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dd attrib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is avo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queries are asked more frequently th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modified, added redundancy might  improve averag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 longer in BCNF since key i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Id, CrsCode, 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I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73160" y="2743200"/>
            <a:ext cx="75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CS305’ 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S200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B06-0F2D-4C6A-9BBF-B10BA2F11AD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th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4343400"/>
            <a:ext cx="83822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has redundant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it is in BCNF (since there are no non-trivial F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cy is due to set valued attributes (in the E-R sense), not because of the F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14600" y="1192320"/>
            <a:ext cx="41911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SN            PhoneN         ChildS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1111       123-4444        2222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1111       123-4444        3333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1111       321-5555        2222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1111       321-5555        3333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2222       987-6666        4444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2222       777-7777        4444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2222       987-6666        5555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2222       777-7777        5555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38280" y="5943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1430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38280" y="11430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438280" y="42670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29400" y="11430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8280" y="15238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2209680"/>
            <a:ext cx="1371600" cy="457200"/>
          </a:xfrm>
          <a:prstGeom prst="wedgeRoundRectCallout">
            <a:avLst>
              <a:gd name="adj1" fmla="val 88541"/>
              <a:gd name="adj2" fmla="val -4861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11720" y="190512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49640" y="1631880"/>
            <a:ext cx="2811240" cy="752400"/>
          </a:xfrm>
          <a:custGeom>
            <a:avLst/>
            <a:gdLst/>
            <a:ahLst/>
            <a:rect l="l" t="t" r="r" b="b"/>
            <a:pathLst>
              <a:path w="1771" h="474">
                <a:moveTo>
                  <a:pt x="537" y="44"/>
                </a:moveTo>
                <a:cubicBezTo>
                  <a:pt x="435" y="46"/>
                  <a:pt x="333" y="47"/>
                  <a:pt x="231" y="51"/>
                </a:cubicBezTo>
                <a:cubicBezTo>
                  <a:pt x="169" y="54"/>
                  <a:pt x="119" y="91"/>
                  <a:pt x="63" y="109"/>
                </a:cubicBezTo>
                <a:cubicBezTo>
                  <a:pt x="56" y="114"/>
                  <a:pt x="47" y="117"/>
                  <a:pt x="41" y="124"/>
                </a:cubicBezTo>
                <a:cubicBezTo>
                  <a:pt x="30" y="137"/>
                  <a:pt x="12" y="168"/>
                  <a:pt x="12" y="168"/>
                </a:cubicBezTo>
                <a:cubicBezTo>
                  <a:pt x="0" y="207"/>
                  <a:pt x="5" y="345"/>
                  <a:pt x="56" y="379"/>
                </a:cubicBezTo>
                <a:cubicBezTo>
                  <a:pt x="184" y="463"/>
                  <a:pt x="50" y="380"/>
                  <a:pt x="121" y="416"/>
                </a:cubicBezTo>
                <a:cubicBezTo>
                  <a:pt x="129" y="420"/>
                  <a:pt x="134" y="429"/>
                  <a:pt x="143" y="430"/>
                </a:cubicBezTo>
                <a:cubicBezTo>
                  <a:pt x="196" y="436"/>
                  <a:pt x="250" y="435"/>
                  <a:pt x="304" y="438"/>
                </a:cubicBezTo>
                <a:cubicBezTo>
                  <a:pt x="427" y="458"/>
                  <a:pt x="552" y="465"/>
                  <a:pt x="676" y="474"/>
                </a:cubicBezTo>
                <a:cubicBezTo>
                  <a:pt x="1045" y="470"/>
                  <a:pt x="1292" y="465"/>
                  <a:pt x="1623" y="452"/>
                </a:cubicBezTo>
                <a:cubicBezTo>
                  <a:pt x="1650" y="449"/>
                  <a:pt x="1683" y="455"/>
                  <a:pt x="1704" y="438"/>
                </a:cubicBezTo>
                <a:cubicBezTo>
                  <a:pt x="1740" y="409"/>
                  <a:pt x="1754" y="307"/>
                  <a:pt x="1769" y="263"/>
                </a:cubicBezTo>
                <a:cubicBezTo>
                  <a:pt x="1767" y="209"/>
                  <a:pt x="1771" y="155"/>
                  <a:pt x="1762" y="102"/>
                </a:cubicBezTo>
                <a:cubicBezTo>
                  <a:pt x="1760" y="89"/>
                  <a:pt x="1707" y="76"/>
                  <a:pt x="1696" y="73"/>
                </a:cubicBezTo>
                <a:cubicBezTo>
                  <a:pt x="1649" y="62"/>
                  <a:pt x="1620" y="63"/>
                  <a:pt x="1565" y="58"/>
                </a:cubicBezTo>
                <a:cubicBezTo>
                  <a:pt x="1323" y="0"/>
                  <a:pt x="1047" y="57"/>
                  <a:pt x="792" y="22"/>
                </a:cubicBezTo>
                <a:cubicBezTo>
                  <a:pt x="722" y="24"/>
                  <a:pt x="651" y="24"/>
                  <a:pt x="581" y="29"/>
                </a:cubicBezTo>
                <a:cubicBezTo>
                  <a:pt x="566" y="30"/>
                  <a:pt x="537" y="44"/>
                  <a:pt x="537" y="44"/>
                </a:cubicBezTo>
                <a:close/>
              </a:path>
            </a:pathLst>
          </a:custGeom>
          <a:noFill/>
          <a:ln w="936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92480" y="2357280"/>
            <a:ext cx="2779560" cy="784440"/>
          </a:xfrm>
          <a:custGeom>
            <a:avLst/>
            <a:gdLst/>
            <a:ahLst/>
            <a:rect l="l" t="t" r="r" b="b"/>
            <a:pathLst>
              <a:path w="1751" h="494">
                <a:moveTo>
                  <a:pt x="415" y="32"/>
                </a:moveTo>
                <a:cubicBezTo>
                  <a:pt x="308" y="36"/>
                  <a:pt x="191" y="35"/>
                  <a:pt x="87" y="68"/>
                </a:cubicBezTo>
                <a:cubicBezTo>
                  <a:pt x="37" y="101"/>
                  <a:pt x="60" y="91"/>
                  <a:pt x="22" y="104"/>
                </a:cubicBezTo>
                <a:cubicBezTo>
                  <a:pt x="14" y="126"/>
                  <a:pt x="0" y="170"/>
                  <a:pt x="0" y="170"/>
                </a:cubicBezTo>
                <a:cubicBezTo>
                  <a:pt x="6" y="248"/>
                  <a:pt x="0" y="298"/>
                  <a:pt x="80" y="323"/>
                </a:cubicBezTo>
                <a:cubicBezTo>
                  <a:pt x="109" y="343"/>
                  <a:pt x="126" y="343"/>
                  <a:pt x="160" y="352"/>
                </a:cubicBezTo>
                <a:cubicBezTo>
                  <a:pt x="239" y="373"/>
                  <a:pt x="236" y="381"/>
                  <a:pt x="328" y="389"/>
                </a:cubicBezTo>
                <a:cubicBezTo>
                  <a:pt x="882" y="386"/>
                  <a:pt x="1210" y="494"/>
                  <a:pt x="1633" y="360"/>
                </a:cubicBezTo>
                <a:cubicBezTo>
                  <a:pt x="1647" y="346"/>
                  <a:pt x="1664" y="337"/>
                  <a:pt x="1677" y="323"/>
                </a:cubicBezTo>
                <a:cubicBezTo>
                  <a:pt x="1722" y="277"/>
                  <a:pt x="1658" y="322"/>
                  <a:pt x="1713" y="287"/>
                </a:cubicBezTo>
                <a:cubicBezTo>
                  <a:pt x="1723" y="257"/>
                  <a:pt x="1739" y="230"/>
                  <a:pt x="1750" y="199"/>
                </a:cubicBezTo>
                <a:cubicBezTo>
                  <a:pt x="1747" y="167"/>
                  <a:pt x="1751" y="134"/>
                  <a:pt x="1742" y="104"/>
                </a:cubicBezTo>
                <a:cubicBezTo>
                  <a:pt x="1742" y="104"/>
                  <a:pt x="1689" y="81"/>
                  <a:pt x="1677" y="75"/>
                </a:cubicBezTo>
                <a:cubicBezTo>
                  <a:pt x="1587" y="29"/>
                  <a:pt x="1485" y="29"/>
                  <a:pt x="1385" y="24"/>
                </a:cubicBezTo>
                <a:cubicBezTo>
                  <a:pt x="1210" y="0"/>
                  <a:pt x="1040" y="36"/>
                  <a:pt x="867" y="53"/>
                </a:cubicBezTo>
                <a:cubicBezTo>
                  <a:pt x="692" y="49"/>
                  <a:pt x="574" y="45"/>
                  <a:pt x="415" y="32"/>
                </a:cubicBezTo>
                <a:close/>
              </a:path>
            </a:pathLst>
          </a:custGeom>
          <a:noFill/>
          <a:ln w="936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20840" y="3489480"/>
            <a:ext cx="4021200" cy="944280"/>
          </a:xfrm>
          <a:custGeom>
            <a:avLst/>
            <a:gdLst/>
            <a:ahLst/>
            <a:rect l="l" t="t" r="r" b="b"/>
            <a:pathLst>
              <a:path w="2533" h="595">
                <a:moveTo>
                  <a:pt x="869" y="281"/>
                </a:moveTo>
                <a:cubicBezTo>
                  <a:pt x="866" y="264"/>
                  <a:pt x="858" y="208"/>
                  <a:pt x="847" y="193"/>
                </a:cubicBezTo>
                <a:cubicBezTo>
                  <a:pt x="779" y="98"/>
                  <a:pt x="723" y="76"/>
                  <a:pt x="613" y="55"/>
                </a:cubicBezTo>
                <a:cubicBezTo>
                  <a:pt x="417" y="59"/>
                  <a:pt x="282" y="51"/>
                  <a:pt x="110" y="106"/>
                </a:cubicBezTo>
                <a:cubicBezTo>
                  <a:pt x="93" y="119"/>
                  <a:pt x="73" y="126"/>
                  <a:pt x="59" y="142"/>
                </a:cubicBezTo>
                <a:cubicBezTo>
                  <a:pt x="47" y="155"/>
                  <a:pt x="30" y="186"/>
                  <a:pt x="30" y="186"/>
                </a:cubicBezTo>
                <a:cubicBezTo>
                  <a:pt x="0" y="282"/>
                  <a:pt x="43" y="372"/>
                  <a:pt x="125" y="420"/>
                </a:cubicBezTo>
                <a:cubicBezTo>
                  <a:pt x="176" y="450"/>
                  <a:pt x="150" y="433"/>
                  <a:pt x="205" y="471"/>
                </a:cubicBezTo>
                <a:cubicBezTo>
                  <a:pt x="218" y="480"/>
                  <a:pt x="249" y="485"/>
                  <a:pt x="249" y="485"/>
                </a:cubicBezTo>
                <a:cubicBezTo>
                  <a:pt x="303" y="522"/>
                  <a:pt x="417" y="542"/>
                  <a:pt x="482" y="543"/>
                </a:cubicBezTo>
                <a:cubicBezTo>
                  <a:pt x="825" y="548"/>
                  <a:pt x="1167" y="548"/>
                  <a:pt x="1510" y="551"/>
                </a:cubicBezTo>
                <a:cubicBezTo>
                  <a:pt x="1639" y="561"/>
                  <a:pt x="1761" y="583"/>
                  <a:pt x="1889" y="595"/>
                </a:cubicBezTo>
                <a:cubicBezTo>
                  <a:pt x="2010" y="590"/>
                  <a:pt x="2127" y="583"/>
                  <a:pt x="2247" y="573"/>
                </a:cubicBezTo>
                <a:cubicBezTo>
                  <a:pt x="2300" y="558"/>
                  <a:pt x="2354" y="553"/>
                  <a:pt x="2407" y="536"/>
                </a:cubicBezTo>
                <a:cubicBezTo>
                  <a:pt x="2426" y="509"/>
                  <a:pt x="2444" y="512"/>
                  <a:pt x="2465" y="485"/>
                </a:cubicBezTo>
                <a:cubicBezTo>
                  <a:pt x="2489" y="453"/>
                  <a:pt x="2498" y="434"/>
                  <a:pt x="2509" y="398"/>
                </a:cubicBezTo>
                <a:cubicBezTo>
                  <a:pt x="2515" y="349"/>
                  <a:pt x="2525" y="308"/>
                  <a:pt x="2531" y="259"/>
                </a:cubicBezTo>
                <a:cubicBezTo>
                  <a:pt x="2529" y="220"/>
                  <a:pt x="2533" y="180"/>
                  <a:pt x="2524" y="142"/>
                </a:cubicBezTo>
                <a:cubicBezTo>
                  <a:pt x="2511" y="85"/>
                  <a:pt x="2433" y="56"/>
                  <a:pt x="2385" y="48"/>
                </a:cubicBezTo>
                <a:cubicBezTo>
                  <a:pt x="2254" y="0"/>
                  <a:pt x="2106" y="29"/>
                  <a:pt x="1970" y="55"/>
                </a:cubicBezTo>
                <a:cubicBezTo>
                  <a:pt x="1963" y="60"/>
                  <a:pt x="1956" y="66"/>
                  <a:pt x="1948" y="70"/>
                </a:cubicBezTo>
                <a:cubicBezTo>
                  <a:pt x="1941" y="73"/>
                  <a:pt x="1932" y="73"/>
                  <a:pt x="1926" y="77"/>
                </a:cubicBezTo>
                <a:cubicBezTo>
                  <a:pt x="1917" y="83"/>
                  <a:pt x="1912" y="92"/>
                  <a:pt x="1904" y="99"/>
                </a:cubicBezTo>
                <a:cubicBezTo>
                  <a:pt x="1897" y="105"/>
                  <a:pt x="1889" y="108"/>
                  <a:pt x="1882" y="113"/>
                </a:cubicBezTo>
                <a:cubicBezTo>
                  <a:pt x="1857" y="152"/>
                  <a:pt x="1842" y="190"/>
                  <a:pt x="1809" y="223"/>
                </a:cubicBezTo>
                <a:cubicBezTo>
                  <a:pt x="1795" y="266"/>
                  <a:pt x="1758" y="293"/>
                  <a:pt x="1722" y="317"/>
                </a:cubicBezTo>
                <a:cubicBezTo>
                  <a:pt x="1705" y="342"/>
                  <a:pt x="1692" y="352"/>
                  <a:pt x="1663" y="361"/>
                </a:cubicBezTo>
                <a:cubicBezTo>
                  <a:pt x="1619" y="391"/>
                  <a:pt x="1588" y="432"/>
                  <a:pt x="1532" y="441"/>
                </a:cubicBezTo>
                <a:cubicBezTo>
                  <a:pt x="1503" y="446"/>
                  <a:pt x="1474" y="446"/>
                  <a:pt x="1445" y="449"/>
                </a:cubicBezTo>
                <a:cubicBezTo>
                  <a:pt x="1273" y="489"/>
                  <a:pt x="1354" y="473"/>
                  <a:pt x="963" y="449"/>
                </a:cubicBezTo>
                <a:cubicBezTo>
                  <a:pt x="932" y="447"/>
                  <a:pt x="905" y="330"/>
                  <a:pt x="898" y="310"/>
                </a:cubicBezTo>
                <a:cubicBezTo>
                  <a:pt x="892" y="294"/>
                  <a:pt x="885" y="247"/>
                  <a:pt x="869" y="281"/>
                </a:cubicBezTo>
                <a:close/>
              </a:path>
            </a:pathLst>
          </a:custGeom>
          <a:noFill/>
          <a:ln w="936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138-5706-4854-9764-75A6584ED09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Valued Depend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ulti-valued (or binary join) 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f every instance of schem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(losslessly) decomposed using attribute set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such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53160" y="3048120"/>
            <a:ext cx="2900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43000" y="3809880"/>
            <a:ext cx="777240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lti-valued depend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5486400"/>
            <a:ext cx="784836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SN,Phon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SN,ChildSS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33920" y="3200400"/>
            <a:ext cx="30456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4419720"/>
            <a:ext cx="30456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5638680"/>
            <a:ext cx="30456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956-834D-4BF8-9493-740990FC4B0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th Normal Form (4NF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ma i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normal for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(4NF) if for every multi-valued dependenc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89280" y="2990880"/>
            <a:ext cx="24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= X      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35053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at schema, eith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X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rivial case);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superkey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.e.,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320040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5B6-2DFD-4297-B6F8-F6BC99F0D24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th Normal Form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u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R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re is a unique row in rela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valu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ence no redundancy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not uniquely determ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on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ildSS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in 4N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ecomp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tion is lossless – but not necessarily dependency preserving (since 4NF implies BCNF – n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689-2D44-490B-9D24-DB66D49BF01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NF Implies BC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4NF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F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1 = XY,  R2 = R –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lossless decomposition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R has the multi-valued dependen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19440" y="2819520"/>
            <a:ext cx="223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= 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86760" y="3733920"/>
            <a:ext cx="78966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4NF, one of the following must hold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–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 – Y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n impossibi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–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–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X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.e.,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= X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super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–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– Y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 is a supe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atisfies BCNF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38480" y="3048120"/>
            <a:ext cx="304920" cy="228600"/>
          </a:xfrm>
          <a:custGeom>
            <a:avLst/>
            <a:gdLst/>
            <a:ahLst/>
            <a:rect l="l" t="t" r="r" b="b"/>
            <a:pathLst>
              <a:path w="192" h="144">
                <a:moveTo>
                  <a:pt x="0" y="0"/>
                </a:moveTo>
                <a:lnTo>
                  <a:pt x="0" y="144"/>
                </a:lnTo>
                <a:lnTo>
                  <a:pt x="192" y="0"/>
                </a:lnTo>
                <a:lnTo>
                  <a:pt x="192" y="14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DC4-B0D0-417B-A571-49E461C538F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e two relations to sto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, Name,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bb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SN, Hob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composition is more general: people with hobbies can now be describ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update anomal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and address stored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obby  can  be separately supplied or de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A43-3820-4495-8A6C-CAB36D0577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izatio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of E-R analysis need further refi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priate decomposition can solv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derlying theory is referred to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rmalization the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s base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(and other kinds, lik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valued dependenc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6FE0-7AA3-4010-A037-6A62E52C37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ctional depend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D) on a relation schem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tr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subsets of attribute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n F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tisf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an instanc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of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f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ir of tupl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s: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ree on all attribut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y must agree on all attribut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constraint is a special kind of functional dependency:  all attributes of relation occur on the right-hand side of the F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S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SN, Name, 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4BE4-F1B1-4017-BB53-D0B5D887C4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4T08:46:52Z</dcterms:created>
  <dc:creator>ARTHUR  BERNSTEIN</dc:creator>
  <dc:description/>
  <dc:language>en-US</dc:language>
  <cp:lastModifiedBy>Pearson Education</cp:lastModifiedBy>
  <cp:lastPrinted>1980-01-05T03:26:22Z</cp:lastPrinted>
  <dcterms:modified xsi:type="dcterms:W3CDTF">2005-04-06T15:56:03Z</dcterms:modified>
  <cp:revision>148</cp:revision>
  <dc:subject/>
  <dc:title>Relational Normalization Theory</dc:title>
</cp:coreProperties>
</file>