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356-891B-4CB4-AC5A-99CCE517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6EC-7BCB-4567-80EF-D7DB6F89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E9C-D50B-4499-8BF7-88EA8D27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039-B098-454D-A2B2-89D6F6E2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74C-85A1-4274-A400-6CD22B3E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F5AB-0A66-4897-AA2C-56F3241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1E12-F576-49CF-A19D-4DBC9CD2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C9B8-DF54-4F6D-A7C0-B9616A08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727-09D2-4506-8843-32455BEF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3542-6B00-4D15-B9BE-696CD21B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27C-35CA-4292-B7F4-603590A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CED-7FBA-4850-B7D5-96359B5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B46E-2CAF-4DB6-A4FB-D6CB3F23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8973-0097-4184-9DDE-5C7F1643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D38F-A1F7-43C3-8656-4FFC3B73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58A-60E0-4001-850B-D0CC7D40C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A281-8DB0-4DFF-AAB2-2475946A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116-26C5-4534-A9D9-48621BC8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F02-114D-49FD-A561-AC82BCA2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475-99F2-42C6-9226-DBFE1C7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519-7C61-4C8E-B082-93EE2FF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35C-0371-443A-98E4-AA2E0E75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06D4-800B-499D-A627-200001D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E62-FF0A-4EAD-9294-546B391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85B8-F252-4392-8DB5-718CCC0E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7800" y="91440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952E-76DE-428B-8EB2-F996C2963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7800" y="91440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4120" y="27428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Algebra and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B270-F538-43B0-831A-A1927B4301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3440" y="27082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c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56   Mary  7 Lake Dr  h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76   Bart    5 Pine St 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2160" y="263196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  123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  7 Lake 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    5 Pine 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6668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666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666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42670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666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666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2666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7000" y="4952880"/>
            <a:ext cx="79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s a table (no duplicates); can have fewer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n the orig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22860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66240" y="22510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       Name     Address        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286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49280" y="230040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    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7696440" cy="11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,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942-3637-48B3-9D82-348B6AA3B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8040" y="312408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c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56   Mary  7 Lake Dr  h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76   Bart    5 Pine St 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24640" y="3089160"/>
            <a:ext cx="159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76  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1240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124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743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638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4960" y="2757600"/>
            <a:ext cx="64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      Name      Address      Hobby                       Id      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2120" y="4689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960" y="41148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752480"/>
            <a:ext cx="70772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d, 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Hobby=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’stamps’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Hobby=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’coins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79D-351D-4EEB-A31B-68AEB5FDE8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is a set of tuples, so set operations should apply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t differ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of combining two relations with a set operator is a relation =&gt; all its elements must be tuples having sam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, scope of set operations limited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 compatibl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39F-B1A1-470B-A82C-8420B9C59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on Compatible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elations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 compat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have same number of colum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attributes are the same in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with the same name in both relations have the sam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on compatible relations can be combined 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s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FC1-E78F-4418-8AC7-73626036C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9440" y="1447920"/>
            <a:ext cx="6316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SN, Name, Address, Hob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, Name, Office, Ph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on compa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657600"/>
            <a:ext cx="73152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on compatible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D76-3695-4127-A20F-7022506D0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tesian Pro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wo rel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concatenated tup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x,y&gt;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upl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ed not be unio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pensive to comp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of two in the size of each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atic in the number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120" y="4038480"/>
            <a:ext cx="5802480" cy="26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    B       C    D             A    B    C  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1   x2       y1   y2           x1  x2  y1  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3   x4       y3   y4           x1  x2  y3  y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3  x4  y1  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x3  x4  y3  y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495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62485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95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5410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A5D-391B-41CD-94C4-C423C80D12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expression evaluation is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of relation must have distinct names.  This is not guaranteed with Cartesian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uppose in previous examp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perator tidies this up.  To assign the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attribute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lumn relation produced by expres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1F9-CAC6-4527-BABB-5323F74742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relation with 4 attribu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sCode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rofId,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CrsC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684440"/>
            <a:ext cx="7696080" cy="33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d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sCod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mester, 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d,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sCod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tudId, </a:t>
            </a:r>
            <a:r>
              <a:rPr b="0" i="1" lang="en-US" sz="28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CrsCod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d,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sCode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rofId, </a:t>
            </a:r>
            <a:r>
              <a:rPr b="0" i="1" lang="en-US" sz="2800" spc="-1" strike="noStrike" baseline="-30000">
                <a:solidFill>
                  <a:srgbClr val="008000"/>
                </a:solidFill>
                <a:latin typeface="Times New Roman"/>
                <a:ea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d,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sCode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5B6-55C1-4413-95E3-98F614BA62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rived Operation: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066680"/>
            <a:ext cx="82296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o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expre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j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oper 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attribut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attribut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one of =, &lt;, &g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ning 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  <a:ea typeface="Times New Roman"/>
              </a:rPr>
              <a:t>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0" i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, except for possible renamings of attributes (n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901880" y="1671840"/>
            <a:ext cx="463320" cy="161280"/>
            <a:chOff x="1901880" y="1671840"/>
            <a:chExt cx="463320" cy="161280"/>
          </a:xfrm>
        </p:grpSpPr>
        <p:sp>
          <p:nvSpPr>
            <p:cNvPr id="206" name=""/>
            <p:cNvSpPr/>
            <p:nvPr/>
          </p:nvSpPr>
          <p:spPr>
            <a:xfrm rot="5532600">
              <a:off x="1942920" y="1638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332600">
              <a:off x="2171520" y="1638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A6F-517D-4DC5-9323-3F7E1CAD7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and Ren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have attributes with the same name – in which case the Cartesian product is not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attributes prior to forming the product and use new name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-condition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fy common attribute names with relation names (thereby disambiguating the names). For instan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olution is nice, but doesn’t always work: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oin_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484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how do we know which R is mean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40160" y="5329440"/>
            <a:ext cx="463320" cy="161280"/>
            <a:chOff x="4340160" y="5329440"/>
            <a:chExt cx="463320" cy="161280"/>
          </a:xfrm>
        </p:grpSpPr>
        <p:sp>
          <p:nvSpPr>
            <p:cNvPr id="211" name=""/>
            <p:cNvSpPr/>
            <p:nvPr/>
          </p:nvSpPr>
          <p:spPr>
            <a:xfrm rot="5532600">
              <a:off x="4381200" y="52956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332600">
              <a:off x="4609800" y="52956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A0E-FCCB-4E55-9ED2-24B5EB9BD4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Query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s for describing queries on a relational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ominant application-level quer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diate language used within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548-02B1-4089-9A55-5961B89F5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ta Join – Examp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990720"/>
            <a:ext cx="74566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,Id,MngrId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,Id,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 the names of all employees that 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an their mana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02112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.Nam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ngrId=Id 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Salary&gt;Sal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7080" y="4065480"/>
            <a:ext cx="81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in yields a table with attribu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730680" y="3272040"/>
            <a:ext cx="463320" cy="161280"/>
            <a:chOff x="3730680" y="3272040"/>
            <a:chExt cx="463320" cy="161280"/>
          </a:xfrm>
        </p:grpSpPr>
        <p:sp>
          <p:nvSpPr>
            <p:cNvPr id="218" name=""/>
            <p:cNvSpPr/>
            <p:nvPr/>
          </p:nvSpPr>
          <p:spPr>
            <a:xfrm rot="5532600">
              <a:off x="3771720" y="32382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332600">
              <a:off x="4000320" y="32382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389-91E1-4058-AF97-125FD457EB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join Join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 rot="10800000">
            <a:off x="304920" y="1599840"/>
            <a:ext cx="320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ame,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32800" y="1676520"/>
            <a:ext cx="420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d=StudId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rade=‘A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" y="2936880"/>
            <a:ext cx="37972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       Name     Addr    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  John      …..     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2  Mary     …..     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3  Bill        …..     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44  Joe         …..     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5200" y="2946240"/>
            <a:ext cx="433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      CrsCode   Sem   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      CSE305  S00  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2      CSE306  S99    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33      CSE304  F99    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895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2895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19720" y="2895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86800" y="28954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0292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352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20400" y="5324400"/>
            <a:ext cx="25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y    CSE3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      CSE3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5334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49880" y="4925880"/>
            <a:ext cx="364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he equijoin is used 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frequently since it comb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related data in different re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880" y="2362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5680" y="24382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440" y="990720"/>
            <a:ext cx="79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ijo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Join condition is a conj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502080" y="1824120"/>
            <a:ext cx="463320" cy="161280"/>
            <a:chOff x="3502080" y="1824120"/>
            <a:chExt cx="463320" cy="161280"/>
          </a:xfrm>
        </p:grpSpPr>
        <p:sp>
          <p:nvSpPr>
            <p:cNvPr id="245" name=""/>
            <p:cNvSpPr/>
            <p:nvPr/>
          </p:nvSpPr>
          <p:spPr>
            <a:xfrm rot="5532600">
              <a:off x="3543120" y="17902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332600">
              <a:off x="3771720" y="17902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3E4-7D6F-4874-8F75-9516475733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 of equijoi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condition equ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ose attributes with the same name (condition doesn’t have to be explicitly st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plicate columns eliminated from th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6600" y="3174840"/>
            <a:ext cx="5340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</a:rPr>
              <a:t>CrsCo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Se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, 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</a:rPr>
              <a:t>CrsCo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160" y="43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4267080"/>
            <a:ext cx="174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37800" y="4697280"/>
            <a:ext cx="4655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udId, Transcript.</a:t>
            </a:r>
            <a:r>
              <a:rPr b="0" i="1" lang="en-US" sz="2400" spc="-1" strike="noStrike" baseline="-25000">
                <a:solidFill>
                  <a:srgbClr val="990033"/>
                </a:solidFill>
                <a:latin typeface="Times New Roman"/>
              </a:rPr>
              <a:t>CrsC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, Transcript.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</a:rPr>
              <a:t>Se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, Grade, Prof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0640" y="5105520"/>
            <a:ext cx="45046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2400" spc="-1" strike="noStrike" baseline="-25000">
                <a:solidFill>
                  <a:srgbClr val="990033"/>
                </a:solidFill>
                <a:latin typeface="Times New Roman"/>
              </a:rPr>
              <a:t>CrsC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990033"/>
                </a:solidFill>
                <a:latin typeface="Times New Roman"/>
              </a:rPr>
              <a:t>CrsC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</a:rPr>
              <a:t>Se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 baseline="-25000">
                <a:solidFill>
                  <a:srgbClr val="008000"/>
                </a:solidFill>
                <a:latin typeface="Times New Roman"/>
              </a:rPr>
              <a:t>S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5720" y="556272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sCode, Sem, Grade, ProfI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197160" y="5329440"/>
            <a:ext cx="463320" cy="161280"/>
            <a:chOff x="3197160" y="5329440"/>
            <a:chExt cx="463320" cy="161280"/>
          </a:xfrm>
        </p:grpSpPr>
        <p:sp>
          <p:nvSpPr>
            <p:cNvPr id="256" name=""/>
            <p:cNvSpPr/>
            <p:nvPr/>
          </p:nvSpPr>
          <p:spPr>
            <a:xfrm rot="5532600">
              <a:off x="3238200" y="52956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332600">
              <a:off x="3466800" y="52956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901880" y="4491000"/>
            <a:ext cx="463320" cy="161280"/>
            <a:chOff x="1901880" y="4491000"/>
            <a:chExt cx="463320" cy="161280"/>
          </a:xfrm>
        </p:grpSpPr>
        <p:sp>
          <p:nvSpPr>
            <p:cNvPr id="259" name=""/>
            <p:cNvSpPr/>
            <p:nvPr/>
          </p:nvSpPr>
          <p:spPr>
            <a:xfrm rot="5532600">
              <a:off x="1942920" y="44571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6332600">
              <a:off x="2171520" y="44571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342-14DE-4A03-BA0C-8B2BB5CE58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3920" y="2133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50480" y="2133720"/>
            <a:ext cx="4717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ttr-li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join-con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×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9920" y="2819520"/>
            <a:ext cx="773676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-list = attribu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ibu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uplicates are eliminated) and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in-c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6440" y="2357640"/>
            <a:ext cx="463320" cy="161280"/>
            <a:chOff x="2206440" y="2357640"/>
            <a:chExt cx="463320" cy="161280"/>
          </a:xfrm>
        </p:grpSpPr>
        <p:sp>
          <p:nvSpPr>
            <p:cNvPr id="267" name=""/>
            <p:cNvSpPr/>
            <p:nvPr/>
          </p:nvSpPr>
          <p:spPr>
            <a:xfrm rot="5532600">
              <a:off x="2247480" y="23238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332600">
              <a:off x="2476080" y="23238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6E8-DA73-44A0-9FB6-776D9AF6BC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ural Joi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ll Ids of students who took at least two different cour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4240" y="3200400"/>
            <a:ext cx="38905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rsCode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CrsCode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03400" y="4191120"/>
            <a:ext cx="779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, CrsCode2, Sem2, Grade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on’t want to join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renam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39960" y="3957840"/>
            <a:ext cx="463320" cy="161280"/>
            <a:chOff x="2739960" y="3957840"/>
            <a:chExt cx="463320" cy="161280"/>
          </a:xfrm>
        </p:grpSpPr>
        <p:sp>
          <p:nvSpPr>
            <p:cNvPr id="274" name=""/>
            <p:cNvSpPr/>
            <p:nvPr/>
          </p:nvSpPr>
          <p:spPr>
            <a:xfrm rot="5532600">
              <a:off x="2781000" y="3924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332600">
              <a:off x="3009600" y="39240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253-D1FB-4D21-8BD8-A9FD1DFC4C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Produce the tuples in one relation, r, that mat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s in another relation,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(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th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s the set of all tup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a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for every tup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a,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expressed in terms of projection, set difference, and cross-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249-4254-424F-9186-326ACB76AA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114560"/>
            <a:ext cx="731520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F47-AF94-448B-8F94-0B36D59758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Ids of students who have passed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urses that were taught in spring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every course passed by every stu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udId, CrsCo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‘F’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 courses taught in spring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emester=‘S2000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umerator/denom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CB0-4823-4B42-B31C-38FD123726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hema for Student Registration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1320" y="2305080"/>
            <a:ext cx="7870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, Name, Addr, Stat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, Name, Dept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tId, CrsCode, CrsName, Desc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, CrsCode, Semester, Gr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fId, CrsCode, Semes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tId, 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2F8-00A2-41F0-B0E4-7EC95B712F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ry Sublanguage of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uple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 ranges over row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produces Cartesian product of listed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assigns rows to C in sequence and produces table containing only rows satisfying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retains listed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: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=‘CS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98160" y="1219320"/>
            <a:ext cx="44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‘C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C1E-0B48-44AF-B0B9-0ADB042507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lgebr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based on operators and a domain of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s map values taken from the domain into other domain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an expression involving operators and arguments produces a value in th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omain is a set of all relations (and the operators are as described later), we ge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fer to the expressio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value produced a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D2E-B4E4-4034-AFEE-4FFC2DF98A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in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CS courses taught in S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variables clarify mea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 condition “C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s facts to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condition “ 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‘S2000’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irrelevant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(using natural join)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89280" y="1057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990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‘S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57680" y="5334120"/>
            <a:ext cx="228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27920" y="5334120"/>
            <a:ext cx="37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emester=‘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2000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75320" y="5851440"/>
            <a:ext cx="648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Na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em=‘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2000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254560" y="6015240"/>
            <a:ext cx="463320" cy="161280"/>
            <a:chOff x="5254560" y="6015240"/>
            <a:chExt cx="463320" cy="161280"/>
          </a:xfrm>
        </p:grpSpPr>
        <p:sp>
          <p:nvSpPr>
            <p:cNvPr id="295" name=""/>
            <p:cNvSpPr/>
            <p:nvPr/>
          </p:nvSpPr>
          <p:spPr>
            <a:xfrm rot="5532600">
              <a:off x="5295600" y="59814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332600">
              <a:off x="5524200" y="59814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54360" y="5558040"/>
            <a:ext cx="463320" cy="161280"/>
            <a:chOff x="3654360" y="5558040"/>
            <a:chExt cx="463320" cy="161280"/>
          </a:xfrm>
        </p:grpSpPr>
        <p:sp>
          <p:nvSpPr>
            <p:cNvPr id="298" name=""/>
            <p:cNvSpPr/>
            <p:nvPr/>
          </p:nvSpPr>
          <p:spPr>
            <a:xfrm rot="5532600">
              <a:off x="3695400" y="55242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332600">
              <a:off x="3924000" y="552420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F17-5927-40F3-B0A3-CE954C9BA7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respondence Between SQL and Relational Algeb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200" y="1650960"/>
            <a:ext cx="800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C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‘S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520" y="297180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quivalen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84040" y="3429000"/>
            <a:ext cx="68252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Nam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_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rsCode=T_CrsCode AND Semester=‘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_CrsCode, DeptId, CrsName, De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, T_CrsCode, 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3960" y="5029200"/>
            <a:ext cx="769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simplest evaluation algorithm for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al algebra expressions are proced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of the two equivalent expressions is more easily evalua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1FC-A578-49CD-A79D-C78E8833DC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-join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1295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ds of all professors who taught at least two courses in the same semes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87440" y="2362320"/>
            <a:ext cx="485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1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1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2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2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1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gt; T2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3720" y="4419720"/>
            <a:ext cx="54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ple variables are essential in this quer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5160" y="5029200"/>
            <a:ext cx="868644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rof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1.CrsCod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2.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, T1.CrsCode, 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, T2.CrsCode, 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68560" y="6091200"/>
            <a:ext cx="463320" cy="161280"/>
            <a:chOff x="2968560" y="6091200"/>
            <a:chExt cx="463320" cy="161280"/>
          </a:xfrm>
        </p:grpSpPr>
        <p:sp>
          <p:nvSpPr>
            <p:cNvPr id="311" name=""/>
            <p:cNvSpPr/>
            <p:nvPr/>
          </p:nvSpPr>
          <p:spPr>
            <a:xfrm rot="5532600">
              <a:off x="3009600" y="60573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332600">
              <a:off x="3238200" y="60573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92D-E052-4AD7-B8A9-66E0B74A32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pli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rows not allowed in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uplicate elimination from query result is costly and not done by default; must be explicitly reques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9840" y="4405320"/>
            <a:ext cx="362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DISTINC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C690-6750-4070-9A92-5E42435213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ality and comparison operators apply to strings (based on lexical ord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391160" y="6248160"/>
            <a:ext cx="7596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72440" y="281448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 ‘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of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6320" y="33526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atenate operator applies to 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46960" y="3957480"/>
            <a:ext cx="59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‘--’ ||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0320" y="4572000"/>
            <a:ext cx="80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s can also be used in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72200" y="5181480"/>
            <a:ext cx="68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‘--’ || 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m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3D9-E3AF-4E33-8168-18AC531848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 provides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ON, 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et difference), and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S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union compatible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Find all professors in the CS Department and all professors that have taught CS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0920" y="3352680"/>
            <a:ext cx="817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CS%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SELE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CS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839-CD2D-4037-B41A-9C12E647D3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sted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2960" y="152388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ll courses that were not taught in S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0000" y="2176560"/>
            <a:ext cx="577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(SELECT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.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--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T.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Se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= ‘S2000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5029200"/>
            <a:ext cx="753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strategy:  subquery evaluated on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set of courses  taught in S2000.  Each 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C) tested against th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CD8-27AC-4F5B-8608-2A9D5FF54B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Nested Quer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4800" y="1295280"/>
            <a:ext cx="82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a row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, d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has taught a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50680" y="4114800"/>
            <a:ext cx="603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(SELE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.ProfId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,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.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259092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-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er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,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t of  all ProfId’s who have taught a course in D.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D0D-01FE-4955-896C-5070CB3CDEE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ted Nested Queri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variables T and C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ple variables P and D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ubquery  uses a global variable,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D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arameterizes an evaluation of the sub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query must (at least) be  re-evaluated for each distinct value of D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lated queries can be expensive to 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661-72B0-4E26-B410-820FD6F778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ind the subset of items in one set that are relat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ems in another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Find professors who taught cour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does this involve divi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3657600"/>
            <a:ext cx="2133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3200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36576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86040" y="3200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25800" y="35812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epartment 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4440" y="3505320"/>
            <a:ext cx="2021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if 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ugh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657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4495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55272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48480" y="5715000"/>
            <a:ext cx="714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rofId,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aching       Course)  /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263840" y="5864040"/>
            <a:ext cx="310680" cy="158400"/>
            <a:chOff x="4263840" y="5864040"/>
            <a:chExt cx="310680" cy="158400"/>
          </a:xfrm>
        </p:grpSpPr>
        <p:sp>
          <p:nvSpPr>
            <p:cNvPr id="350" name=""/>
            <p:cNvSpPr/>
            <p:nvPr/>
          </p:nvSpPr>
          <p:spPr>
            <a:xfrm rot="5532600">
              <a:off x="4266720" y="58669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332600">
              <a:off x="4419000" y="586692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FF1-CE04-436D-81AC-A2188DB36F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Alg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 of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c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tes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rived opera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nter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lational expression specifies query by describing an algorithm (the sequence in which operators are applied) for determining the result of an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E57-72FC-4B9F-B2C4-9B13BE428E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trategy for implementing division in SQ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et, A, of all departments in which a particular profess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has taught a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et, B, of all depart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, or, equivalently, if B–A i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C9B6-5CD5-46B7-8845-CC79EB713F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– SQL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6000" y="1498680"/>
            <a:ext cx="754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.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NO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D.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 B of all dept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FROM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990033"/>
                </a:solidFill>
                <a:latin typeface="Century Gothic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C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 A of dept Ids of dep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which P taught a 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.</a:t>
            </a:r>
            <a:r>
              <a:rPr b="0" i="1" lang="en-US" sz="2400" spc="-1" strike="noStrike">
                <a:solidFill>
                  <a:srgbClr val="660066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lobal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C.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9C0-2EB2-4436-9309-67B5B9F656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hat operate on s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UNT, SUM, AVG, MAX,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numbers (not 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art of relational algebra (but not hard to a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1120" y="4800600"/>
            <a:ext cx="35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COUNT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45320" y="4813200"/>
            <a:ext cx="396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987-0284-497E-B5B9-63E58BFFFE5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e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0360" y="2259000"/>
            <a:ext cx="469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COUNT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S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10480" y="4849920"/>
            <a:ext cx="625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COUNT (DISTIN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S2000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0600" y="160020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the number of courses taught in S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880" y="3733920"/>
            <a:ext cx="66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f multiple sections of same co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aught, u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DB2-E311-4C3A-B120-C863FF16AE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how do we compute the number of courses taught in S200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profes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1:  Fire off a separate query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fess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   COUN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‘S2000’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23456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f the number of professors changes?  Add another que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2:  define a spec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ouping 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,  COUNT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OM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ERE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‘S200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T.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ro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A4F-337B-4790-B721-511E007E06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5105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GROUP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380880" y="1276200"/>
            <a:ext cx="8153640" cy="496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943-AC2F-4E02-B53B-131A4B2E9DF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057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5181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441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3372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276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0040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9568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5120" y="22860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819520"/>
            <a:ext cx="1295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905120" y="373356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905120" y="34286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3160" y="5334120"/>
            <a:ext cx="59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AVG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, COUNT 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0560" y="157176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62520" y="2276640"/>
            <a:ext cx="325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’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g 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1200" y="32004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  3.3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2240" y="3138480"/>
            <a:ext cx="69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792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492-ED1D-4B92-BA33-16BD854017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AV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unwanted groups (analogous to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use, but works on groups instead of individual tuple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is constructed from attributes of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 and aggregates on attributes not in that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76000" y="3581280"/>
            <a:ext cx="506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m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UNT (*)  A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mC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LIK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CS%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AV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B85-9DC1-4AE2-8862-5B5AE8EEFD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GroupBy with Ha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135080" y="1066680"/>
            <a:ext cx="6637320" cy="53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24C-D3CF-4EBB-9641-202B94B4211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the name and address of all seniors on the Dean’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2000" y="2743200"/>
            <a:ext cx="762660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enio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ING 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3.5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  S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55920" y="4002120"/>
            <a:ext cx="30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25520" y="4230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25520" y="44593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2200" y="4038480"/>
            <a:ext cx="2819520" cy="1219320"/>
          </a:xfrm>
          <a:prstGeom prst="wedgeRoundRectCallout">
            <a:avLst>
              <a:gd name="adj1" fmla="val -75731"/>
              <a:gd name="adj2" fmla="val -27212"/>
              <a:gd name="adj3" fmla="val 16667"/>
            </a:avLst>
          </a:prstGeom>
          <a:noFill/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very attribute that occurs i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LEC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clause must also occur i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ROUP BY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or it must be an aggregate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Name does n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230-E6DA-4D73-AF50-7BABF8E0B9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ole of Relational Algebra in a 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82760" y="990720"/>
            <a:ext cx="6377040" cy="549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6600" y="2220840"/>
            <a:ext cx="4694040" cy="2997360"/>
          </a:xfrm>
          <a:custGeom>
            <a:avLst/>
            <a:gdLst/>
            <a:ahLst/>
            <a:rect l="l" t="t" r="r" b="b"/>
            <a:pathLst>
              <a:path w="2957" h="1888">
                <a:moveTo>
                  <a:pt x="2077" y="27"/>
                </a:moveTo>
                <a:cubicBezTo>
                  <a:pt x="1848" y="21"/>
                  <a:pt x="1709" y="119"/>
                  <a:pt x="1483" y="82"/>
                </a:cubicBezTo>
                <a:cubicBezTo>
                  <a:pt x="1115" y="87"/>
                  <a:pt x="795" y="96"/>
                  <a:pt x="441" y="146"/>
                </a:cubicBezTo>
                <a:cubicBezTo>
                  <a:pt x="359" y="178"/>
                  <a:pt x="393" y="166"/>
                  <a:pt x="340" y="183"/>
                </a:cubicBezTo>
                <a:cubicBezTo>
                  <a:pt x="317" y="206"/>
                  <a:pt x="288" y="222"/>
                  <a:pt x="267" y="247"/>
                </a:cubicBezTo>
                <a:cubicBezTo>
                  <a:pt x="229" y="293"/>
                  <a:pt x="191" y="343"/>
                  <a:pt x="148" y="384"/>
                </a:cubicBezTo>
                <a:cubicBezTo>
                  <a:pt x="133" y="430"/>
                  <a:pt x="111" y="472"/>
                  <a:pt x="84" y="512"/>
                </a:cubicBezTo>
                <a:cubicBezTo>
                  <a:pt x="70" y="582"/>
                  <a:pt x="54" y="654"/>
                  <a:pt x="29" y="722"/>
                </a:cubicBezTo>
                <a:cubicBezTo>
                  <a:pt x="10" y="868"/>
                  <a:pt x="0" y="1001"/>
                  <a:pt x="48" y="1143"/>
                </a:cubicBezTo>
                <a:cubicBezTo>
                  <a:pt x="55" y="1165"/>
                  <a:pt x="64" y="1187"/>
                  <a:pt x="75" y="1207"/>
                </a:cubicBezTo>
                <a:cubicBezTo>
                  <a:pt x="95" y="1241"/>
                  <a:pt x="139" y="1307"/>
                  <a:pt x="139" y="1307"/>
                </a:cubicBezTo>
                <a:cubicBezTo>
                  <a:pt x="160" y="1374"/>
                  <a:pt x="132" y="1301"/>
                  <a:pt x="167" y="1353"/>
                </a:cubicBezTo>
                <a:cubicBezTo>
                  <a:pt x="196" y="1396"/>
                  <a:pt x="204" y="1445"/>
                  <a:pt x="258" y="1463"/>
                </a:cubicBezTo>
                <a:cubicBezTo>
                  <a:pt x="325" y="1562"/>
                  <a:pt x="340" y="1600"/>
                  <a:pt x="505" y="1655"/>
                </a:cubicBezTo>
                <a:cubicBezTo>
                  <a:pt x="670" y="1710"/>
                  <a:pt x="834" y="1764"/>
                  <a:pt x="999" y="1819"/>
                </a:cubicBezTo>
                <a:cubicBezTo>
                  <a:pt x="1008" y="1822"/>
                  <a:pt x="1026" y="1828"/>
                  <a:pt x="1026" y="1828"/>
                </a:cubicBezTo>
                <a:cubicBezTo>
                  <a:pt x="1112" y="1888"/>
                  <a:pt x="1317" y="1856"/>
                  <a:pt x="1419" y="1865"/>
                </a:cubicBezTo>
                <a:cubicBezTo>
                  <a:pt x="1705" y="1862"/>
                  <a:pt x="1983" y="1825"/>
                  <a:pt x="2269" y="1819"/>
                </a:cubicBezTo>
                <a:cubicBezTo>
                  <a:pt x="2329" y="1818"/>
                  <a:pt x="2348" y="1797"/>
                  <a:pt x="2407" y="1783"/>
                </a:cubicBezTo>
                <a:cubicBezTo>
                  <a:pt x="2413" y="1777"/>
                  <a:pt x="2645" y="1723"/>
                  <a:pt x="2653" y="1719"/>
                </a:cubicBezTo>
                <a:cubicBezTo>
                  <a:pt x="2670" y="1710"/>
                  <a:pt x="2653" y="1728"/>
                  <a:pt x="2653" y="1728"/>
                </a:cubicBezTo>
                <a:cubicBezTo>
                  <a:pt x="2728" y="1678"/>
                  <a:pt x="2668" y="1711"/>
                  <a:pt x="2754" y="1682"/>
                </a:cubicBezTo>
                <a:cubicBezTo>
                  <a:pt x="2826" y="1630"/>
                  <a:pt x="2793" y="1644"/>
                  <a:pt x="2845" y="1627"/>
                </a:cubicBezTo>
                <a:cubicBezTo>
                  <a:pt x="2917" y="1555"/>
                  <a:pt x="2899" y="1563"/>
                  <a:pt x="2946" y="1463"/>
                </a:cubicBezTo>
                <a:cubicBezTo>
                  <a:pt x="2957" y="1439"/>
                  <a:pt x="2937" y="1371"/>
                  <a:pt x="2937" y="1371"/>
                </a:cubicBezTo>
                <a:cubicBezTo>
                  <a:pt x="2940" y="1350"/>
                  <a:pt x="2893" y="1319"/>
                  <a:pt x="2891" y="1298"/>
                </a:cubicBezTo>
                <a:cubicBezTo>
                  <a:pt x="2882" y="1203"/>
                  <a:pt x="2804" y="990"/>
                  <a:pt x="2781" y="896"/>
                </a:cubicBezTo>
                <a:cubicBezTo>
                  <a:pt x="2763" y="607"/>
                  <a:pt x="2827" y="412"/>
                  <a:pt x="2681" y="164"/>
                </a:cubicBezTo>
                <a:cubicBezTo>
                  <a:pt x="2633" y="83"/>
                  <a:pt x="2576" y="83"/>
                  <a:pt x="2498" y="73"/>
                </a:cubicBezTo>
                <a:cubicBezTo>
                  <a:pt x="2402" y="42"/>
                  <a:pt x="2462" y="54"/>
                  <a:pt x="2315" y="64"/>
                </a:cubicBezTo>
                <a:cubicBezTo>
                  <a:pt x="2271" y="75"/>
                  <a:pt x="2289" y="14"/>
                  <a:pt x="2251" y="46"/>
                </a:cubicBezTo>
                <a:cubicBezTo>
                  <a:pt x="2123" y="0"/>
                  <a:pt x="2117" y="47"/>
                  <a:pt x="2077" y="27"/>
                </a:cubicBezTo>
                <a:close/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869-9C10-4C68-8371-5D44059811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s: Proper and Improper U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2200" y="1828800"/>
            <a:ext cx="692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kes no sense (in the absenc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32920" y="3429000"/>
            <a:ext cx="564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COU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AV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t this is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17800" y="4800600"/>
            <a:ext cx="76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&gt; COUNT (SELECT 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gregate cannot be applied to resul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CE8-C096-40D7-ACA5-C659CC2F5B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RDER B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rows to be output in a specifie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39600" y="2209680"/>
            <a:ext cx="6693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COUNT (*)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mC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LIK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CS%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OUP B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ING  AV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 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ORDER B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Century Gothic"/>
              </a:rPr>
              <a:t>DESC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m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800" spc="-1" strike="noStrike">
                <a:solidFill>
                  <a:srgbClr val="008000"/>
                </a:solidFill>
                <a:latin typeface="Century Gothic"/>
              </a:rPr>
              <a:t>AS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23880" y="5791320"/>
            <a:ext cx="1371600" cy="380880"/>
          </a:xfrm>
          <a:prstGeom prst="wedgeRoundRectCallout">
            <a:avLst>
              <a:gd name="adj1" fmla="val 98611"/>
              <a:gd name="adj2" fmla="val -1887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Desc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7120" y="5867280"/>
            <a:ext cx="1371600" cy="381240"/>
          </a:xfrm>
          <a:prstGeom prst="wedgeRoundRectCallout">
            <a:avLst>
              <a:gd name="adj1" fmla="val -83680"/>
              <a:gd name="adj2" fmla="val -21000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Times New Roman"/>
              </a:rPr>
              <a:t>Asce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6E8-0408-482C-A9E8-EF12573E55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Evaluation with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A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ces Cartesian product, A, of tables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ces table, B, consisting  of rows of A that satisf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artitions B into groups that agree on attribute values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iminates groups in B that do not satisfy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duces table C containing a row for each group. Attributes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limited to those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and aggregates ov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aluate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ORDER BY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 orders rows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1447920"/>
            <a:ext cx="304560" cy="3809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-610200" y="320184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   b e f o 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DF6-90C4-493A-ABCD-7BEFD4D8E78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s a relation, but rows are not physically sto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ents of a view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is used within an SQL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s the result of a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over other views and base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ed in an SQL statement, the view definition is substituted for the view name in 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 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 nested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CD2-0DC0-4D8E-B8BC-4543BB029FF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-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5400" y="1974960"/>
            <a:ext cx="7394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umG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990033"/>
                </a:solidFill>
                <a:latin typeface="Century Gothic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V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ROUP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8840" y="4413240"/>
            <a:ext cx="819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umG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,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 3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CF1-0CCC-4233-8D0E-8D0FA0B630D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Users not granted access to base tables.  Instead they are granted access to the view of the database appropriate to their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mposed of vie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llows owner to provide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to a subset of columns (analogous to provid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P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to a subset of colum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6A2-B331-405A-9111-8DE6E3023B9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– Limiting Vi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" y="1523880"/>
            <a:ext cx="844056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Of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 colum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S2000’                     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permissions to access data through 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NT  SELECT 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Of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 have been analogou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NT  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CrsCode,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gular tabl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QL allowed attribute lists i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RANT  SEL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38880" y="990720"/>
            <a:ext cx="1752840" cy="380880"/>
          </a:xfrm>
          <a:prstGeom prst="wedgeRoundRectCallout">
            <a:avLst>
              <a:gd name="adj1" fmla="val -84240"/>
              <a:gd name="adj2" fmla="val 41666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ojected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6438600" y="-38160"/>
            <a:ext cx="152280" cy="3124440"/>
          </a:xfrm>
          <a:custGeom>
            <a:avLst/>
            <a:gdLst>
              <a:gd name="textAreaLeft" fmla="*/ 97200 w 152280"/>
              <a:gd name="textAreaRight" fmla="*/ 152640 w 1522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4"/>
                </a:lnTo>
                <a:cubicBezTo>
                  <a:pt x="10800" y="9834"/>
                  <a:pt x="5400" y="10734"/>
                  <a:pt x="0" y="10734"/>
                </a:cubicBezTo>
                <a:cubicBezTo>
                  <a:pt x="5400" y="10734"/>
                  <a:pt x="10800" y="11634"/>
                  <a:pt x="10800" y="1253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38E-F6B7-4707-B59D-E879909948B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 Benefit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rs need not see full complexity of database.  View creates the illusion of a simpler database customized to the needs of a particular category of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view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ilar in many ways to a subrout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standard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reused in multiple qu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DFC-2E31-4344-994F-6B1A59900FA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op 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&lt;, &gt;, &lt;&gt;, =, etc.) has val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when either x or y is 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ithmetic ex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 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+, –, *, etc.) has valu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x or y is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nts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like any other value; other aggregates ignor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97000" y="4948200"/>
            <a:ext cx="61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 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V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1234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671-3F0F-47E3-A8BE-469A9407989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use us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ree-valued logic – T, F, U(ndefined) 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filter rows.  Portion of truth t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ws are discarded if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dition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al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U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kn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CS305’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22520" y="2112840"/>
            <a:ext cx="4353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1   C2    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2    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    U          U           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    U          F                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   U          U                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51460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2286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458-B9D7-4AB3-82EB-58D20EDF172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 table containing subset of rows of argument table satisfying con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ondi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=‘stamps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4120" y="4697280"/>
            <a:ext cx="395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3     John     123 Main      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3     John     123 Main       c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56     Mary    7 Lake Dr      hi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76     Bart      5 Pine St      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7242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248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724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4724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38600" y="4697280"/>
            <a:ext cx="39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23     John      123 Main     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76     Bart       5 Pine St      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7242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54100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343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760" y="4210200"/>
            <a:ext cx="38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     Name     Address        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43434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390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9800" y="4357800"/>
            <a:ext cx="38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        Name    Address        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C0C-9CCB-41D4-84F5-4C92F26DE8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ables – Ins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ng a single row into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 list can be omitted if it is the same as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ut do not omit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s can b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4648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2345, ‘CSE305’, ‘S2000’,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C3D-9AFF-4A88-913A-DC8BEDD60A7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lk 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the rows output by a SE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39625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SERT INTO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ns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edits, Cum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 *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OUNT (*),  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AVING  AV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gt; 3.5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D  COUNT(*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9040" y="1650960"/>
            <a:ext cx="414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ns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m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LOA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MARY KEY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703-56EB-4B49-B4DC-D7CBB0D2D3E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ables – Dele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ject list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artesian product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(only 1 table 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ws satisfying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 (general  form, including subqueries, allowed) are deleted instead of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44686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S NULL  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&gt; ‘S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B0D-4DE7-428C-B4F9-FAD9A5AAB3D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Data -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s rows in a singl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ows satisfying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use (general form, including subqueries, allowed) are upd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91840" y="1947960"/>
            <a:ext cx="556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UPDAT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1.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‘R&amp;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318-D1CF-404D-8A58-9E47150BA30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 Since views look like tables to users, can they be up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 Yes – a view update changes the underlying base table to produce the requested change to the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7800" y="3962520"/>
            <a:ext cx="809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CS%’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‘S2000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971-A9D9-475B-A415-27FE56E9245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 - Problem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What value should be placed in attributes of underlying table that have been projected out (e.g.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ssuming null allowed in the missing attribute) or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9360" y="2106720"/>
            <a:ext cx="753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SERT 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R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111, ‘CSE305’, ‘S2000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733-F667-44EF-A9A2-521CA7FEE90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 - Probl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ew tuple not in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llow insertion (assuming th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ITH CHECK OP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lause has not been appended to th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REATE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3520" y="1738440"/>
            <a:ext cx="753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SERT I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R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, CrsCode, 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111, ‘ECO105’, ‘S2000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3D8-394B-4C49-9C20-DDA36D42B9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 - Probl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a view migh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iquel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change to the base table(s) that results in the desired modification of the view (ambigu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9040" y="4005360"/>
            <a:ext cx="7497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REATE 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D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Name, D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D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B8A-E1BC-4D76-9B0C-51F952B03D4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pdating Views - Problem 3 (cont’d)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ple &lt;Smith, CS&gt; can be deleted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De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row for Smith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ut this is inappropriate if he is still at the Univer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ng row for CS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ot what is inten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ing row for Smith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set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null (seems like a good idea, but how would the computer know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B6B-07A3-4C65-B9DE-01C4DCCBBBD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ing Views - Restr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able views are restricted to those in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artesian product in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ggregates,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BY,  H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2971800"/>
            <a:ext cx="6889680" cy="33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if we allow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 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, Avg_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OUP 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how do  we hand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PDA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Sa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.1 *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C99-1B37-417A-9C51-D07CCAAA68A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: 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gt;, =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selection cond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CD6-3B16-431D-A4B1-C1F72C94B7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on Condition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d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000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Hobby=‘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iking’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d&g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000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 Id &lt;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999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obby=‘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iking’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hiking’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B5AB-8491-41DC-A444-4FA72DE09D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table containing subset of columns of argument 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ttribute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ame,Hob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4572000"/>
            <a:ext cx="41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John   123 Main   c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56   Mary  7 Lake Dr  h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876   Bart    5 Pine St 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172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27400" y="4537080"/>
            <a:ext cx="186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  c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y  hi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    st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6172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58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0384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292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94360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848720" y="4038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943600" y="4038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4200" y="400356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b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143-54F1-4BA4-A6AF-438922377D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6:48:56Z</dcterms:created>
  <dc:creator>ARTHUR  BERNSTEIN</dc:creator>
  <dc:description/>
  <dc:language>en-US</dc:language>
  <cp:lastModifiedBy>Pearson Education</cp:lastModifiedBy>
  <cp:lastPrinted>1980-01-05T02:56:28Z</cp:lastPrinted>
  <dcterms:modified xsi:type="dcterms:W3CDTF">2005-04-06T15:56:35Z</dcterms:modified>
  <cp:revision>213</cp:revision>
  <dc:subject/>
  <dc:title>Relational Algebra and SQL</dc:title>
</cp:coreProperties>
</file>