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F37-67C8-4F6B-B7F7-FFCB09D0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8C7-2872-49F3-B6E6-E281325D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FD1-876A-4D80-B412-BE1EEAE8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71F-9D34-445A-95E8-8939295E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302-C801-47BD-B07B-4A1D5214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9F6E-CD50-4D90-8D68-753172D3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ACF6-389F-4A4B-BEC3-EE4E3C9B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D86B-4BA2-4746-B789-AEADBF72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8DE-C91C-4EF4-A11F-4DEBA70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0C78-5BF9-439B-AC57-481AB0F1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3C4C-663F-43D1-B7B3-C2AB5EA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878-11F3-4FF2-9752-199BC563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14AE-D69B-4BD2-9674-348D0C42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4967-C961-4969-B411-C02C071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27FE-1393-4C74-85C2-FA76F80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CD43-9300-4A54-A05C-9C1217A0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24F1-DE5D-44C6-AA50-A74DDC2D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13E-CE30-43EA-BC28-94CD1C9D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5DA-CE90-4D7C-82DA-A53493E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083-7824-4A80-9F9E-EE884D3D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507-A28B-45F4-83A5-BCB79047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FA8-8ACA-4EB1-AC97-341F460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669-9808-4B15-9A7B-48B9B1D3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EA2-9468-4D18-8C10-9BE262CD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79FE-D6CF-48D8-A5C5-F14C9DF1F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16680" y="937800"/>
            <a:ext cx="33415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53A-8EFF-45A3-9443-656A36B9E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04920" y="937800"/>
            <a:ext cx="365292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77920" y="2692440"/>
            <a:ext cx="417060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Design I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Entity-Relationship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2BBF-13A3-4866-870D-DA632D75A0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ole name of relationship type need not be same as name of entity type from which participants are 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rol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ordi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ttrib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ordi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ervi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th drawn from entity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40E3-F674-4AEE-8916-B5B4BB7589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a of a Relationship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e na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ir corresponding entity sets. Roles must be single valued (number of roles = degree of relation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 na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ir corresponding domains. Attributes may be set val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inimum set of roles and attributes that uniquely identify a relation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&lt;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 …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ntity, a valu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entity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et of attribute values with elements from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46B-31B6-4C88-86DB-99BAEB754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 are edges labeled with role names (omitted if role name = name of entity set). Most attributes have been omit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4B0-0D27-4264-9B60-C68D088C79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role 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, for a particular participant entity type, each entity particip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relationship, corresponding role is a key of relationshi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le is unique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in E-R diagram: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5334120"/>
            <a:ext cx="1828800" cy="9144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4864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832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3200" y="55627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5791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5791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D59-4B9A-4B75-83FD-038D4BDC7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Type Hierarch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entity type might be subtype of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typ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lationship exists between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and the correspo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Freshman John is related to Student Jo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relationship i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entities related by IsA are always descriptions of the same real-worl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16D-04BF-43C2-A125-F5DE364468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05320" y="1905120"/>
            <a:ext cx="16761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495680"/>
            <a:ext cx="16765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495680"/>
            <a:ext cx="16761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800" y="45720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920" y="4572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7640" y="4572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6440" y="45720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4280" y="1981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048120"/>
            <a:ext cx="1067040" cy="761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32767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2320" y="2819520"/>
            <a:ext cx="23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23880" y="38098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428640" y="38098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80988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0988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05160" y="33526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878-CF4C-45C4-A14D-D61B378496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ies of 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ttributes of supertype apply to sub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tribut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lies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yp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her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attributes of super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of supertype is key of sub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nsitiv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Hierarchy of 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typ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typ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eshm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a subtyp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706-FCFA-474B-8AF3-9E4CFB9674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reate a more concise and readable E-R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common to different entity sets need not be rep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be grouped in one place as attributes of super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 of (sibling) subtypes can be diffe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2C87-A3FD-4576-8416-9CE29C5843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2760" y="23184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A Hierarchy -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03240" y="971640"/>
            <a:ext cx="7423200" cy="55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03AE-9779-496D-BB29-9E3ABEA048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on Type Hierarch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ht have associated constrai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vering constr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nion of subtype entities is equal to set of supertyp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is either a secretary or a technician  (or b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jointness constr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s of subtype entities are disjoint from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o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isjoin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12A-DDAA-44BA-9093-A6CCEF7D0E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pecification of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thod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R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t a high-level graphical view of essential components of enterprise and how they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E-R diagram to D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-R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terprise is viewed as a se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D71-790B-4E19-B9A8-D9313256D9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tion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entity particip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relationship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ticipation constra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l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cipation constraint of entity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ing ro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relationship typ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s tha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re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every professor work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86728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586728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5810400"/>
            <a:ext cx="1976400" cy="6858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6172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19160" y="6172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6360" y="59436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1480" y="59436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02120" y="4788000"/>
            <a:ext cx="2514600" cy="457200"/>
          </a:xfrm>
          <a:prstGeom prst="wedgeRoundRectCallout">
            <a:avLst>
              <a:gd name="adj1" fmla="val -50189"/>
              <a:gd name="adj2" fmla="val 22118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Reprsentation in E-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E9A8-00A4-4809-B710-93B0D6DB9F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tio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entity particip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e relationship, both a participation  and a key constraint ho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every professor work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ctly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10552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51055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983120"/>
            <a:ext cx="1976400" cy="6858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5334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96360" y="51134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7800" y="51814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5329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41640" y="3716280"/>
            <a:ext cx="3729240" cy="533520"/>
          </a:xfrm>
          <a:prstGeom prst="wedgeRoundRectCallout">
            <a:avLst>
              <a:gd name="adj1" fmla="val -69837"/>
              <a:gd name="adj2" fmla="val 227976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E-R representation: thick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439-6808-4CDC-AD82-BFA8C4446A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42800" y="1219320"/>
            <a:ext cx="8307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type corresponds to a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’s attributes = entity type’s attrib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ntity type can have set valued attributes, e.g.,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bb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Use several rows to represent a single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11111, John, 123 Main St, sta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11111, John, 123 Main St, co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ith this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of entity type (Id) not key of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, the resulting relation must be further transformed (Chapter 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ation of Entity Types in the Relation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4240" y="3541680"/>
            <a:ext cx="1139760" cy="944640"/>
          </a:xfrm>
          <a:custGeom>
            <a:avLst/>
            <a:gdLst/>
            <a:ahLst/>
            <a:rect l="l" t="t" r="r" b="b"/>
            <a:pathLst>
              <a:path w="718" h="595">
                <a:moveTo>
                  <a:pt x="481" y="0"/>
                </a:moveTo>
                <a:cubicBezTo>
                  <a:pt x="340" y="4"/>
                  <a:pt x="286" y="0"/>
                  <a:pt x="175" y="22"/>
                </a:cubicBezTo>
                <a:cubicBezTo>
                  <a:pt x="148" y="35"/>
                  <a:pt x="121" y="45"/>
                  <a:pt x="94" y="58"/>
                </a:cubicBezTo>
                <a:cubicBezTo>
                  <a:pt x="44" y="109"/>
                  <a:pt x="14" y="147"/>
                  <a:pt x="0" y="219"/>
                </a:cubicBezTo>
                <a:cubicBezTo>
                  <a:pt x="2" y="297"/>
                  <a:pt x="3" y="374"/>
                  <a:pt x="7" y="452"/>
                </a:cubicBezTo>
                <a:cubicBezTo>
                  <a:pt x="7" y="456"/>
                  <a:pt x="17" y="497"/>
                  <a:pt x="22" y="503"/>
                </a:cubicBezTo>
                <a:cubicBezTo>
                  <a:pt x="53" y="542"/>
                  <a:pt x="127" y="574"/>
                  <a:pt x="175" y="583"/>
                </a:cubicBezTo>
                <a:cubicBezTo>
                  <a:pt x="303" y="580"/>
                  <a:pt x="461" y="595"/>
                  <a:pt x="583" y="532"/>
                </a:cubicBezTo>
                <a:cubicBezTo>
                  <a:pt x="588" y="525"/>
                  <a:pt x="592" y="516"/>
                  <a:pt x="598" y="510"/>
                </a:cubicBezTo>
                <a:cubicBezTo>
                  <a:pt x="604" y="504"/>
                  <a:pt x="614" y="503"/>
                  <a:pt x="619" y="496"/>
                </a:cubicBezTo>
                <a:cubicBezTo>
                  <a:pt x="624" y="490"/>
                  <a:pt x="623" y="481"/>
                  <a:pt x="627" y="474"/>
                </a:cubicBezTo>
                <a:cubicBezTo>
                  <a:pt x="636" y="459"/>
                  <a:pt x="656" y="430"/>
                  <a:pt x="656" y="430"/>
                </a:cubicBezTo>
                <a:cubicBezTo>
                  <a:pt x="707" y="269"/>
                  <a:pt x="718" y="37"/>
                  <a:pt x="517" y="3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38640" y="3506760"/>
            <a:ext cx="1297080" cy="996840"/>
          </a:xfrm>
          <a:custGeom>
            <a:avLst/>
            <a:gdLst/>
            <a:ahLst/>
            <a:rect l="l" t="t" r="r" b="b"/>
            <a:pathLst>
              <a:path w="817" h="628">
                <a:moveTo>
                  <a:pt x="445" y="0"/>
                </a:moveTo>
                <a:cubicBezTo>
                  <a:pt x="406" y="3"/>
                  <a:pt x="367" y="3"/>
                  <a:pt x="328" y="8"/>
                </a:cubicBezTo>
                <a:cubicBezTo>
                  <a:pt x="290" y="13"/>
                  <a:pt x="241" y="34"/>
                  <a:pt x="204" y="44"/>
                </a:cubicBezTo>
                <a:cubicBezTo>
                  <a:pt x="162" y="55"/>
                  <a:pt x="149" y="62"/>
                  <a:pt x="110" y="88"/>
                </a:cubicBezTo>
                <a:cubicBezTo>
                  <a:pt x="103" y="93"/>
                  <a:pt x="88" y="102"/>
                  <a:pt x="88" y="102"/>
                </a:cubicBezTo>
                <a:cubicBezTo>
                  <a:pt x="54" y="153"/>
                  <a:pt x="74" y="136"/>
                  <a:pt x="37" y="161"/>
                </a:cubicBezTo>
                <a:cubicBezTo>
                  <a:pt x="25" y="194"/>
                  <a:pt x="9" y="221"/>
                  <a:pt x="0" y="255"/>
                </a:cubicBezTo>
                <a:cubicBezTo>
                  <a:pt x="3" y="306"/>
                  <a:pt x="4" y="358"/>
                  <a:pt x="8" y="409"/>
                </a:cubicBezTo>
                <a:cubicBezTo>
                  <a:pt x="11" y="444"/>
                  <a:pt x="23" y="512"/>
                  <a:pt x="51" y="540"/>
                </a:cubicBezTo>
                <a:cubicBezTo>
                  <a:pt x="82" y="571"/>
                  <a:pt x="199" y="592"/>
                  <a:pt x="241" y="598"/>
                </a:cubicBezTo>
                <a:cubicBezTo>
                  <a:pt x="401" y="594"/>
                  <a:pt x="649" y="628"/>
                  <a:pt x="766" y="474"/>
                </a:cubicBezTo>
                <a:cubicBezTo>
                  <a:pt x="790" y="351"/>
                  <a:pt x="817" y="174"/>
                  <a:pt x="700" y="95"/>
                </a:cubicBezTo>
                <a:cubicBezTo>
                  <a:pt x="674" y="55"/>
                  <a:pt x="701" y="86"/>
                  <a:pt x="664" y="66"/>
                </a:cubicBezTo>
                <a:cubicBezTo>
                  <a:pt x="633" y="49"/>
                  <a:pt x="612" y="27"/>
                  <a:pt x="576" y="22"/>
                </a:cubicBezTo>
                <a:cubicBezTo>
                  <a:pt x="447" y="4"/>
                  <a:pt x="542" y="29"/>
                  <a:pt x="445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3506760"/>
            <a:ext cx="806400" cy="879480"/>
          </a:xfrm>
          <a:custGeom>
            <a:avLst/>
            <a:gdLst/>
            <a:ahLst/>
            <a:rect l="l" t="t" r="r" b="b"/>
            <a:pathLst>
              <a:path w="661" h="663">
                <a:moveTo>
                  <a:pt x="623" y="65"/>
                </a:moveTo>
                <a:cubicBezTo>
                  <a:pt x="560" y="25"/>
                  <a:pt x="500" y="21"/>
                  <a:pt x="426" y="14"/>
                </a:cubicBezTo>
                <a:cubicBezTo>
                  <a:pt x="382" y="16"/>
                  <a:pt x="193" y="0"/>
                  <a:pt x="127" y="58"/>
                </a:cubicBezTo>
                <a:cubicBezTo>
                  <a:pt x="94" y="87"/>
                  <a:pt x="77" y="116"/>
                  <a:pt x="47" y="146"/>
                </a:cubicBezTo>
                <a:cubicBezTo>
                  <a:pt x="32" y="191"/>
                  <a:pt x="27" y="237"/>
                  <a:pt x="18" y="284"/>
                </a:cubicBezTo>
                <a:cubicBezTo>
                  <a:pt x="22" y="402"/>
                  <a:pt x="0" y="485"/>
                  <a:pt x="62" y="576"/>
                </a:cubicBezTo>
                <a:cubicBezTo>
                  <a:pt x="75" y="618"/>
                  <a:pt x="113" y="640"/>
                  <a:pt x="149" y="663"/>
                </a:cubicBezTo>
                <a:cubicBezTo>
                  <a:pt x="215" y="661"/>
                  <a:pt x="281" y="663"/>
                  <a:pt x="346" y="656"/>
                </a:cubicBezTo>
                <a:cubicBezTo>
                  <a:pt x="383" y="652"/>
                  <a:pt x="418" y="633"/>
                  <a:pt x="455" y="627"/>
                </a:cubicBezTo>
                <a:cubicBezTo>
                  <a:pt x="572" y="580"/>
                  <a:pt x="639" y="497"/>
                  <a:pt x="659" y="372"/>
                </a:cubicBezTo>
                <a:cubicBezTo>
                  <a:pt x="657" y="277"/>
                  <a:pt x="661" y="182"/>
                  <a:pt x="652" y="87"/>
                </a:cubicBezTo>
                <a:cubicBezTo>
                  <a:pt x="651" y="79"/>
                  <a:pt x="636" y="85"/>
                  <a:pt x="630" y="80"/>
                </a:cubicBezTo>
                <a:cubicBezTo>
                  <a:pt x="626" y="77"/>
                  <a:pt x="625" y="70"/>
                  <a:pt x="623" y="65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D68-AB6E-460E-BF77-D17459493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on of Relationship Types in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000" y="1206360"/>
            <a:ext cx="86104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, a relationship becomes a relation in the rela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of the corresponding relation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s of relationship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role, the primary key of the entity type associated with tha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000Cour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rsCo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N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Enro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tId,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rsCo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N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Id, RoomNo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03848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22360" y="4011480"/>
            <a:ext cx="1790640" cy="5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315200" y="3699000"/>
            <a:ext cx="30960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3160" y="3699000"/>
            <a:ext cx="24624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3733920"/>
            <a:ext cx="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006360" y="3760920"/>
            <a:ext cx="20628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49640" y="3760920"/>
            <a:ext cx="0" cy="25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22360" y="3824280"/>
            <a:ext cx="20628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2040" y="3948120"/>
            <a:ext cx="1585800" cy="7491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5400" y="41148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2000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9000" y="41148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13000" y="43228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7840" y="432288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6240" y="3200400"/>
            <a:ext cx="137808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04160" y="3200400"/>
            <a:ext cx="137772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71880" y="3200400"/>
            <a:ext cx="137808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o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7040" y="3262320"/>
            <a:ext cx="103356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00440" y="3262320"/>
            <a:ext cx="103320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r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3325680"/>
            <a:ext cx="1171440" cy="560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21400" y="4759200"/>
            <a:ext cx="1033560" cy="49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04160" y="457200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67280" y="4809960"/>
            <a:ext cx="1041480" cy="3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88080" y="4740120"/>
            <a:ext cx="1168200" cy="46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6680" y="4502160"/>
            <a:ext cx="68040" cy="150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46840" y="4548240"/>
            <a:ext cx="172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C6C-1750-4F48-BCCF-1646122B2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ation of Relationship Types in the Relation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226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didate key of corresponding table = candidate key of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when there are set  valued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, SectNo, Id, RoomNo, T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of relationship type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, Sect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of relation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, SectNo, T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6560" y="4773600"/>
            <a:ext cx="5438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     SectNo       Id        RoomNo         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E305       1        1234   Hum 22      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E305       1        1234   Hum 22      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47242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4724280"/>
            <a:ext cx="0" cy="134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4724280"/>
            <a:ext cx="0" cy="13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5105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78760" y="4548240"/>
            <a:ext cx="914400" cy="609480"/>
          </a:xfrm>
          <a:prstGeom prst="wedgeRoundRectCallout">
            <a:avLst>
              <a:gd name="adj1" fmla="val -36111"/>
              <a:gd name="adj2" fmla="val -184375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t val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59A-910A-4173-B37D-0C8886BB18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le of relationship type produces a foreign key in corresponding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 references table corresponding to entity type from which role values are dra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E8B-AE82-41A3-953E-2DE158BD21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1828800"/>
            <a:ext cx="2509920" cy="129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50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20574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05740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1523880"/>
            <a:ext cx="15242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1523880"/>
            <a:ext cx="152424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8564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81480" y="1981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1905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3352680"/>
            <a:ext cx="872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E,         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HAR (10),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TEGER,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 (key o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CHAR (4), 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le (key o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 a professor works in at most on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37D-9E80-4DF5-AB4E-FDC550F9E8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295280"/>
            <a:ext cx="2509920" cy="1290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750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6765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676520"/>
            <a:ext cx="1752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10666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1066680"/>
            <a:ext cx="152388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5760" y="3452760"/>
            <a:ext cx="6340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TABL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NTEGER,  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DATE,         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NTEGER,      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upplier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NTEGER,   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NTEGER,        --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Id, SupplierId, PartNumber, D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upplier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28195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285640" y="1905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1523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333760" y="1523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60F-78D6-4CA5-A9AD-7F8A860E5F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 of Single Role Key Constrai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905040"/>
            <a:ext cx="838224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al model repres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key of the relation corresponding to the entity type is key of the relation corresponding to the relationship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imary key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ey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Professor 4100 does not participate in th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not use foreign key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fer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some professors may not work in any dept. (Bu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oreign key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fers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3040" y="509580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3800" y="5324400"/>
            <a:ext cx="228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        C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6          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15960" y="5172120"/>
            <a:ext cx="21337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1280" y="5324400"/>
            <a:ext cx="2362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1600" y="517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25800" y="5172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59360" y="5324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45160" y="5324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15600" y="5857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515600" y="54770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1280" y="570564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649680" y="58575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9440" y="62294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02880" y="61628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4560" y="47642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44960" y="491004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49680" y="53244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76440" y="4038480"/>
            <a:ext cx="1828800" cy="9144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5880" y="41911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24560" y="4191120"/>
            <a:ext cx="1676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82080" y="4267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6960" y="42670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0088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8116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0524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74000" y="4919760"/>
            <a:ext cx="914400" cy="390600"/>
          </a:xfrm>
          <a:prstGeom prst="wedgeRoundRectCallout">
            <a:avLst>
              <a:gd name="adj1" fmla="val -260069"/>
              <a:gd name="adj2" fmla="val -2032"/>
              <a:gd name="adj3" fmla="val 16667"/>
            </a:avLst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4EF-F353-41B7-A1CF-197D35701C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Type Hierarchies in the Relation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types and subtypes can be realized as separat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way of identifying subtype entity with its (unique) related supertype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oose a candidate key and make it an attribute of all entity types in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B7C-B15A-48BA-AE84-AE59B7D517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n object that is involved in th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John, CSE3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t of similar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scribes one aspect of an ent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71E-240D-425C-8B2E-2D6872141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880" y="30924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Hierarchies and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2160" y="400680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3816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78840" y="3625920"/>
            <a:ext cx="69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s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s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s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s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20960" y="400680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9760" y="4006800"/>
            <a:ext cx="1523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2240" y="4006800"/>
            <a:ext cx="1524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49360" y="4006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8160" y="4006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06960" y="4006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5760" y="4006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82680" y="2279520"/>
            <a:ext cx="1524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639880" y="2290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60440" y="1874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tribs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4560" y="24224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31760" y="5203800"/>
            <a:ext cx="65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sh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4880" y="996840"/>
            <a:ext cx="7549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d by adding the primary key of supertype to 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745480"/>
                <a:tab algn="l" pos="8802720"/>
                <a:tab algn="l" pos="88614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ypes. Plus foreign key from subtypes to the super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60640" y="5765760"/>
            <a:ext cx="497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 Freshman, Sophomore, Sunior, Sen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927-28A8-4128-8ADB-F1FB2E2F59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Hierarchies and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eliminated if IsA is not disj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dividuals who are both employees and students, Name and DOB are stored on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2600" y="4419720"/>
            <a:ext cx="83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S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rt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0     1234    Accounting     35000      1234    3.5      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6019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44197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4419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48006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72200" y="6019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76312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8006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5480" y="60199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800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8120" y="380988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79840" y="380988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CBF-6780-486F-9B1B-1321D37DE60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Hierarchies and the Relation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representations are possible in special cases, such as when all subtypes are disj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in the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6390-F856-4F08-A995-765F82834C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127080"/>
            <a:ext cx="8458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ing Participation Constrai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Relation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1000" y="1723680"/>
            <a:ext cx="8842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lusion depend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Every professor work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e dep’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relational model:  (eas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SQ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case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 is a key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every professor work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actly 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artment) then it is eas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KEY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REFERENC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case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key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o can’t use foreign key constraint  (not so eas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9520" y="4805280"/>
            <a:ext cx="3458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SSERTION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sInDep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( NOT EXISTS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 *  FROM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NOT EXISTS 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 *  FROM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  P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W.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) 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85680" y="107640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1200" y="10764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36920" y="1019160"/>
            <a:ext cx="1976400" cy="6858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05400" y="13809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38160" y="138096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5360" y="115236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0480" y="115236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09A-34DE-4210-8C32-94C3D4439D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1640" y="331560"/>
            <a:ext cx="835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Participation Constraint  in the Relation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can’t use foreign key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 if ProfId is not a candidate key in Work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2720" y="3581280"/>
            <a:ext cx="79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32080" y="3429000"/>
            <a:ext cx="236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         C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        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00            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6           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657600"/>
            <a:ext cx="2286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2880" y="3505320"/>
            <a:ext cx="236232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505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066680" y="3962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66680" y="43434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886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4191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36572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80988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41911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44956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9000" y="48769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7120" y="51055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51400" y="3138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60720" y="29862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80200" y="5791320"/>
            <a:ext cx="18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95680" y="50292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D5F-A704-493B-96C3-ED3BBE0ACE2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Particip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ey Constrai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82480" y="14479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participation and key constraints apply, use foreign key constraint in entity table (but beware: if candidate key in entity table is not primary, presence of nulls violates participation constrai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3425760"/>
            <a:ext cx="861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INTEG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KE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 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 can’t be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l professors particip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5791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791320"/>
            <a:ext cx="1600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0400" y="5638680"/>
            <a:ext cx="2133720" cy="7621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6019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0" y="60199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200" y="5791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2000" y="57913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79320" y="57564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037-099C-4F7F-8BCA-4DA76E335D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cipa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Key Constraint  in the Relation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88560" y="27846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xxx   1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yyyy   4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zzzzzz   3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6640" y="2819520"/>
            <a:ext cx="20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23        C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100        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16       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819520"/>
            <a:ext cx="190476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2819520"/>
            <a:ext cx="2057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200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5120" y="3581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412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3048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9880" y="34290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3809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2819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94920" y="407988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7080" y="24382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5744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0120" y="4141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8B9-21FE-4BE0-ABFC-18D3778CBE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icipa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Key Constraint in Relational Model (agai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solution if both key and participation constraints apply: merge the tables representing the entity and relationship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re is a 1-1 and onto relationship between the rows of the entity set and the relationship sets, might as well put all the attributes in one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640-58FD-44AE-9CC9-A34428638E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ticipa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Key Constraint  in Relation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01720" y="34639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xxxxxx        1123         C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yyyyyy        4100         E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zzzzzzz        3216         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17560" y="3497400"/>
            <a:ext cx="3810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00520" y="3508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03720" y="3498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29000" y="3510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38671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2480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23160" y="473544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_Work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15840" y="2951280"/>
            <a:ext cx="3740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ame                    Id                  Dept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A2F-E417-43B4-9AF5-15DB2D0ED1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or Attribu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information can be represented as either an entity or an attrib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71600" y="32767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32767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41911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00400" y="3048120"/>
            <a:ext cx="1828800" cy="909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38098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905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71600" y="5340240"/>
            <a:ext cx="111456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92640" y="6089760"/>
            <a:ext cx="1114200" cy="31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12920" y="5154480"/>
            <a:ext cx="1671840" cy="7430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84760" y="5653080"/>
            <a:ext cx="1046160" cy="43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4876920"/>
            <a:ext cx="1393920" cy="49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49560" y="5902200"/>
            <a:ext cx="0" cy="1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485800" y="5527800"/>
            <a:ext cx="62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64796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343400" y="5181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4495320" y="5638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2233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4800600"/>
            <a:ext cx="2362320" cy="855720"/>
          </a:xfrm>
          <a:prstGeom prst="wedgeRoundRectCallout">
            <a:avLst>
              <a:gd name="adj1" fmla="val -63643"/>
              <a:gd name="adj2" fmla="val -171893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ropriate if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meste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has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next sli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1EA-1D15-4C6C-96AC-E59F5088AB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type described by set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b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ssible values of an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an be a set (in contrast to relational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11111, John, 123 Main St, {stamps, coins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imum set of attributes that uniquely identifies an entity (candidate k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tity type name, attributes (and associated domain), key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26F-9A1D-4A15-98BD-41D4FB505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11120" y="1481040"/>
            <a:ext cx="8305920" cy="41720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or Relation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75FF-47A5-478B-B803-3093514C6EE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Non-) Equivalence of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tions between binary and ternary relationshi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708400">
            <a:off x="4207680" y="2230560"/>
            <a:ext cx="728640" cy="7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46920" y="24066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38280" y="2359080"/>
            <a:ext cx="110340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88280" y="1844640"/>
            <a:ext cx="110304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04120" y="2917800"/>
            <a:ext cx="110304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41680" y="2590920"/>
            <a:ext cx="142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862520" y="2075040"/>
            <a:ext cx="16257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62520" y="2830680"/>
            <a:ext cx="166860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47840" y="1989000"/>
            <a:ext cx="784440" cy="3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49640" y="2932200"/>
            <a:ext cx="784080" cy="3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48120" y="2133720"/>
            <a:ext cx="3776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33720" y="28591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12920" y="3855960"/>
            <a:ext cx="828648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A67-C794-4F22-A22F-E1E7E26804B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tity Type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Representation in E-R 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7696080" cy="1933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588000" y="5438880"/>
            <a:ext cx="1641600" cy="609480"/>
          </a:xfrm>
          <a:prstGeom prst="wedgeEllipseCallout">
            <a:avLst>
              <a:gd name="adj1" fmla="val 6865"/>
              <a:gd name="adj2" fmla="val -189842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t val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069-882E-449E-A988-81BABCC83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lates two or more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jors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 of simila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ntity type) related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ntity type)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lationship typ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elational model) - set of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-R Model) – describes relationship between entities of an enterp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entity types and relationship types (E-R model) may be represented as relations (in the relational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A4A-8564-42C8-A20E-CDA670EF12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tes and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lationship type describes the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John majors in C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and CS ar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 describes relationship - value of  SINC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s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lationship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lationship type names one of the related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John is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, CS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John, CS; 2000) describes a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4B7-C3B0-4324-9B16-A75050C82C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d by set of attributes and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we have used as the role nam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he name of the entity typ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f the participant in the relationship, bu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B9A-3B9B-4280-B531-3493CC1B9F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lationship can relate elements of same entity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orts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ationship type relates two elements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typ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reports to Mary since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 not have distinct names for the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clear who reports to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A902-4282-4C6E-86B2-BB41B7068D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4:16:55Z</dcterms:created>
  <dc:creator>ARTHUR  BERNSTEIN</dc:creator>
  <dc:description/>
  <dc:language>en-US</dc:language>
  <cp:lastModifiedBy>Pearson Education</cp:lastModifiedBy>
  <dcterms:modified xsi:type="dcterms:W3CDTF">2005-04-06T15:56:45Z</dcterms:modified>
  <cp:revision>97</cp:revision>
  <dc:subject/>
  <dc:title>Database Design I:  The Entity-Relationship Model</dc:title>
</cp:coreProperties>
</file>