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013-FE18-4DC7-9495-E4A03F31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AD7-CB13-4E0E-99E5-E3E3A770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EB5-134A-45F4-A0D2-43B80EBB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82E-B5E3-4AAE-AFD1-D207DFE2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4FF5-7491-45E2-8176-5CDC7C61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199B-0189-42F3-A135-612EED87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1C96-B443-48F1-B657-94BB61FD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E0E-0149-438C-AE61-9901D1CD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8988-51B0-494A-81F9-6E245FB7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34AA-A764-4BDD-801E-063C778E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58B-9506-420B-9265-F978015F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A900-9D52-4ADE-906C-2D8C99E4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8AEA-A8D9-4155-84A4-7E78FB6F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3186-B652-43BB-9272-378D0B76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591F-F883-4CBD-9900-189560C7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A216-9DB8-4417-8B0F-B1CED1EF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668C-FB0D-4C2E-B796-779C89D3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C2F-FD24-42BF-8F77-DB9DB817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6D3-C4B1-4729-AF15-4F81A565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55C-03EB-4D64-A551-3FF0404B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4B7-6C68-4F93-8875-83BE5D88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34B-2B69-4C85-B1C8-AF4D43BA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08E-1B94-4964-91A5-3A480C84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B90-997A-4E22-8204-A6B033F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028A-4A7F-424B-B3C3-030F92916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81480" y="914040"/>
            <a:ext cx="3276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A434-11C3-4E6B-A1A7-7703EA730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81480" y="914040"/>
            <a:ext cx="3276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57800" y="2742840"/>
            <a:ext cx="3200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onal Dat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7379-0D67-4053-B8C2-78DF230F88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rticular way of structuring data (using rel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ly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be analyzed by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ies are transformed to equivalent expressions automatically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ery optim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rs have limits (=&gt; programmer needs to know how queries are evaluated and optimiz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5C0-5237-4332-9FAB-77914549FA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In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is a set  of 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ordering im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di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elation = number of tu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uples in a relation have the same structure;  constructed from the same set of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named (ordering is immate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of an attribute is drawn from the attribute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lso a special valu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value unknown or undefined), which belongs to no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elation = number of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F6F-52E4-4B56-BFC0-335A20C60D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Instance (Exa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73200" y="2527200"/>
          <a:ext cx="835668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2527200"/>
                    <a:ext cx="83566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33520" y="24382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4382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5791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24382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4640" y="1771560"/>
            <a:ext cx="63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7524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1752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586728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92F-1C5A-4AB0-813E-049AC144DE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ibute names &amp; do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y constraints lik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s of a particular attribute in all tuples are u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s of a particular attribute in all tuples are greater than 0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3CE-DF06-4926-916A-88ED5BD37A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al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te set of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elation consists of a schema and an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set of relation schemas constraints among relation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-rela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a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base in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et of (corresponding) relation inst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385-A5D7-4CFF-8B82-1DC91F78D5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Schema (Exa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ES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62C-044D-4140-8137-770719492D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 on state (or of sequence of states) of dat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ed by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ra-rela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nvolve only one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relation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are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-rela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nvolve several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relation schema or 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DEC-883A-4AD9-8701-8332053504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tomatic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ecked by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database from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forces enterpris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E36-758B-43CA-9BF0-1F1C104DC3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ds of Integr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– restricts legal states of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(structu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all values in a column must be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(involve meaning of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annot register for more than 18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– limitation on sequences of database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annot raise salary by more than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048-CE86-4E4A-B368-9A7FF8B785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ey constr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equence of attribu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n=1 possible) of a relation schema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ith the following propert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on instan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isfies the key constraint iff at most one row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contain a particular set of values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the attribu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im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no sub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key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attributes mentioned in a key constr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 subset of a key is a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s not a key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664-96AC-4FC3-8A4A-05232F7F16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d It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actually stored as bits, but it is difficult to work with data at this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convenient to view data at diffe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vels of abstr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scription of data at some abstraction level. Each level has its own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be concerned with three schema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698-7264-4227-9BDC-7299491AC7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Constraint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uperke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et of attributes containing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superkey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relation has a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 can have several ke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imary key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  (can’t b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ndidate ke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43D0-8C94-4AE1-A4C5-335D3806D0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ferential integrit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em named in one relation must refer to tuples that describe that item in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reference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reference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ring to attrib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if whenever there is a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 tupl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whi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key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pecial case of referential integrity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ust be a candidate key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e.g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key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bo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row exists in R2 =&gt; violation of referential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ll rows of R2 need to be referenced:  relationship is not symmetric (e.g., some course might not be tau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a foreign key might not be specified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umn of some professor might b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4D9-3317-41CA-9191-BC86FCD916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 (Exa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8000" y="2362320"/>
            <a:ext cx="43668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2666880"/>
            <a:ext cx="53748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304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3048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3352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657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304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447920" y="3048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447920" y="4876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479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479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47920" y="3962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447920" y="4267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447920" y="4572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2743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2743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2743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866920" y="48769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30481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3352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3657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3962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42670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4572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2743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320040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05320" y="350532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505320" y="2895480"/>
            <a:ext cx="2361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505320" y="2971800"/>
            <a:ext cx="23619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4114800"/>
            <a:ext cx="2361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4967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49672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82400" y="519588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50360" y="542448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id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276360" y="49525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0958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06E-6D41-4213-BB6B-FDBD3AA599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of the att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 not be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s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 not be distin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(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INT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Mgr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INT, 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gr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manager is also an employee and hence has a unique row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2971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15960" y="2743200"/>
            <a:ext cx="703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URSES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MESTERS,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of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NT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TRING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EP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8EC-7C73-495C-BC2A-F024ABD189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ign key might consist of several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o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referenc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66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of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have same domains (although not necessarily the same na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be a candidate key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7E0-D19E-405D-87EB-582143D230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lusion Depend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tial integrity constraint that is not a foreign key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 empty classes allow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attributes do not form a candidate key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mple enforcement mechanism for inclusion dependencies in SQL (requir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ertions -- la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2C7-CA1C-4173-9CEE-54D2BE6617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for describing database schema and operations on 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D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language of SQL for describing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8CC-5C7E-475B-AE5F-F08E146CF5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entity that corresponds to 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of the databas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92 is currently the most supported standard but is now superseded  by SQL:1999 and SQL: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vendors generally deviate from the standard, but eventually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2E3-2AC2-447D-8CBF-1DE66FF355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 Decl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74880" y="32418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8040" y="1219320"/>
            <a:ext cx="349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000" y="441972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222333    John    10 Cedar St    Fres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4567890    Mary   22 Main St     Sopho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43434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80880" y="3851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53200" y="38512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95480" y="3851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72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3040" y="60199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579132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38862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15200" y="3886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3886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886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3886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0720" y="3886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E97-B247-4E93-B0C3-3E5DB10118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ary/Candidate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4400" y="2128680"/>
            <a:ext cx="6215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Nam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c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0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t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didat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5562720"/>
            <a:ext cx="1828800" cy="609480"/>
          </a:xfrm>
          <a:prstGeom prst="wedgeRoundRectCallout">
            <a:avLst>
              <a:gd name="adj1" fmla="val 37412"/>
              <a:gd name="adj2" fmla="val -186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omments start with 2 da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7C6-FEA4-43BC-9AFB-41CA71BC3EF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Data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ysical 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scribes details of how data is stored:  tracks, cylinders, indice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applications worked at this level – explicitly dealt with detai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outines were hard-coded to deal with physical re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o data structure difficult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code becomes complex since it must deal with deta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implementation of new features im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02A-4860-4FC1-AA9F-BFF4D17E46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ot all information might be known when row is inserted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be missing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umn might not be applicable for a particular row (e.g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iden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row describes a m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Use place holder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value of any domain (although called null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he absence of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owed in certain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s and columns constrained by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NO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EF4-C007-4044-8382-D2FAA9585B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6400" y="2057400"/>
            <a:ext cx="81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to be assigned if  attribute value in a r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7280" y="3770280"/>
            <a:ext cx="55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(20) NOT 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(10)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freshman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d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151-082F-49DA-B693-20E252380F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Constraints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key and foreign key are exampl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mantic 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the logic of the application at h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number of registered stude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ximum enro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C1B-FB62-4309-82CF-FDD976C3CB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Constraint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application dependent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mit attribute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row in table must satisfy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2971800"/>
            <a:ext cx="728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A’, ‘B’, ‘C’, ‘D’, ‘F’)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0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1000000000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9A8-72EC-4804-96DF-94C1CFD20A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antic Constraint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late values of attributes in different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36800" y="3236760"/>
            <a:ext cx="459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ngr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ngr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2143-7450-4B9F-902C-C852A66937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–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mpty table always satisfies all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aints (an idiosyncrasy of the SQL standar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mpty, there are no rows on which to evaluate th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7560" y="2666880"/>
            <a:ext cx="752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ngr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ECK ( </a:t>
            </a:r>
            <a:r>
              <a:rPr b="0" lang="en-US" sz="2400" spc="-1" strike="noStrike">
                <a:solidFill>
                  <a:srgbClr val="006600"/>
                </a:solidFill>
                <a:latin typeface="Century Gothic"/>
              </a:rPr>
              <a:t>0 &lt; (SELECT COUNT (*) FROM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362-3960-4ADE-A687-5D96A09387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 –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ter-relational constraints should be 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should constraint be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no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emp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2362320"/>
            <a:ext cx="739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ngr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ECK </a:t>
            </a:r>
            <a:r>
              <a:rPr b="0" lang="en-US" sz="2400" spc="-1" strike="noStrike">
                <a:solidFill>
                  <a:srgbClr val="006600"/>
                </a:solidFill>
                <a:latin typeface="Century Gothic"/>
              </a:rPr>
              <a:t>((SELECT  COUNT (*) FROM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Manager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)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6600"/>
                </a:solidFill>
                <a:latin typeface="Century Gothic"/>
              </a:rPr>
              <a:t>(SELECT  COUNT (*) FROM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A81-B794-4D14-9363-D63D74C8C7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 of schema (like 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metrically specifies an inter-relational con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s to entire database (not just the individual rows of a single table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it works even i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2280" y="4876920"/>
            <a:ext cx="715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CREATE AS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tFire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ECK (0 &lt; SELECT  COUNT (*)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8F7-9019-456E-91CD-073EA594C1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4760" y="2438280"/>
            <a:ext cx="771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CREATE ASSER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EmployeeSalaries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ECK (NOT EXISTS(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E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ngrSal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388-9111-4A57-8ED0-864E01FE98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rtions and Inclusion Depend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85040" y="1752480"/>
            <a:ext cx="676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EmptyCour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ECK  (NOT  EXISTS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* 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 each row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the following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T  EXISTS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*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2514600"/>
            <a:ext cx="304920" cy="2438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4343400"/>
            <a:ext cx="1600200" cy="609480"/>
          </a:xfrm>
          <a:prstGeom prst="wedgeRoundRectCallout">
            <a:avLst>
              <a:gd name="adj1" fmla="val 47421"/>
              <a:gd name="adj2" fmla="val -12239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ourses with no stu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5715000"/>
            <a:ext cx="1752840" cy="609480"/>
          </a:xfrm>
          <a:prstGeom prst="wedgeRoundRectCallout">
            <a:avLst>
              <a:gd name="adj1" fmla="val 92393"/>
              <a:gd name="adj2" fmla="val -25156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Students in a particular cou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74A-CE28-451B-AA96-C36D14C9A2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ual Data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es detai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elational model, the conceptual schema presents data as a set of t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maps from conceptual to physical schema automa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schema can be changed without changing 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 would change mapping from conceptual to physical transpa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perty is referred to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hysical data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75A-6D8E-4D74-8ACC-BDFCFA0AEC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ttribute values can be specifi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HE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raint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new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can be used in several decla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s a schema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114800"/>
            <a:ext cx="607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r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ECK  (VALUE 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A’, ‘B’, ‘C’, ‘D’, ‘F’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Gr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…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0CC-0827-455B-9B06-77E7E5D73B4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3920" y="2052720"/>
            <a:ext cx="7311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6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6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REFERENC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REFERENC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0CB-C002-490A-9353-2393D56A96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eign Key Constra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2819520"/>
            <a:ext cx="25905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2133720"/>
            <a:ext cx="2971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2895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9152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4495680"/>
            <a:ext cx="2971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24382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880" y="17524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5562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908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429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886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355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58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73392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590920" y="274320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3200" y="2438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24382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40120" y="4114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44197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86400" y="36226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62360" y="5985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BA4-8FAE-4F1C-A13A-DBEA0A92A6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rcularity in Foreign Key Constra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133720"/>
            <a:ext cx="26672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2133720"/>
            <a:ext cx="266724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25146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2880" y="25146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28954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28954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29400" y="2133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636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36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27240" y="16765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89360" y="16765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27440" y="16765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13440" y="16765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9240" y="16765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6280" y="16765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328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59800" y="243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936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5052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880" y="3276720"/>
            <a:ext cx="41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ke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ke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s B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86640" y="3276720"/>
            <a:ext cx="412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didate ke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ke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s A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4419720"/>
            <a:ext cx="87012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 1:  Creation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quires existence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: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REATE T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 ……)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eig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REATE T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 ……)    -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clu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eig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ALTER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T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ADD CONSTRA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REIGN KE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05320" y="2732040"/>
            <a:ext cx="1633320" cy="11160"/>
          </a:xfrm>
          <a:custGeom>
            <a:avLst/>
            <a:gdLst/>
            <a:ahLst/>
            <a:rect l="l" t="t" r="r" b="b"/>
            <a:pathLst>
              <a:path w="1029" h="7">
                <a:moveTo>
                  <a:pt x="0" y="7"/>
                </a:moveTo>
                <a:lnTo>
                  <a:pt x="102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04800" y="1523880"/>
            <a:ext cx="5300640" cy="1105200"/>
          </a:xfrm>
          <a:custGeom>
            <a:avLst/>
            <a:gdLst/>
            <a:ahLst/>
            <a:rect l="l" t="t" r="r" b="b"/>
            <a:pathLst>
              <a:path w="3339" h="696">
                <a:moveTo>
                  <a:pt x="3339" y="696"/>
                </a:moveTo>
                <a:cubicBezTo>
                  <a:pt x="3231" y="595"/>
                  <a:pt x="3152" y="174"/>
                  <a:pt x="2676" y="87"/>
                </a:cubicBezTo>
                <a:cubicBezTo>
                  <a:pt x="2200" y="0"/>
                  <a:pt x="880" y="154"/>
                  <a:pt x="481" y="171"/>
                </a:cubicBezTo>
                <a:cubicBezTo>
                  <a:pt x="82" y="188"/>
                  <a:pt x="329" y="185"/>
                  <a:pt x="283" y="189"/>
                </a:cubicBezTo>
                <a:cubicBezTo>
                  <a:pt x="237" y="193"/>
                  <a:pt x="226" y="177"/>
                  <a:pt x="203" y="196"/>
                </a:cubicBezTo>
                <a:cubicBezTo>
                  <a:pt x="147" y="218"/>
                  <a:pt x="178" y="216"/>
                  <a:pt x="146" y="303"/>
                </a:cubicBezTo>
                <a:cubicBezTo>
                  <a:pt x="112" y="382"/>
                  <a:pt x="30" y="59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158-7F0C-4A41-AB8A-1384D158C5A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rcularity in Foreign Key Constraint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2: Insertion of row in A requires prior existence of row in B and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use appropriat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traint checking 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urier New"/>
              </a:rPr>
              <a:t>IM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urier New"/>
              </a:rPr>
              <a:t>DEFER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755-F355-4F8D-A77B-45FEA4A7988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ctiv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s enable DBMS to recognize a bad state and reject the statement or transaction that create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generally, it would be nice to have a mechanism that allows a user to specify how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 violation of a constra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-92 provides a limited form of such a reactive mechanism for foreign key vi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214-8FF5-482F-9857-D4551D96C2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Foreign Key Vio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 i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Reject if no row exists in B containing foreign key of inserted 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 from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NO 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Reject if row(s)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s row to be deleted (default respo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480060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480060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5105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54100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76920" y="5105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50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468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4800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62720" y="4800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57600" y="5257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4024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93320" y="5105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54100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5334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562720" y="5334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68720" y="53341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14600" y="5943600"/>
            <a:ext cx="1752480" cy="609480"/>
          </a:xfrm>
          <a:prstGeom prst="wedgeRoundRectCallout">
            <a:avLst>
              <a:gd name="adj1" fmla="val 77990"/>
              <a:gd name="adj2" fmla="val -843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quest to delete row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F5E-6997-4A24-B458-01F38D7012B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ing Foreign Key Violation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t’d)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SET 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t value of foreign key in referencing row(s) in A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00200" y="434340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4648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00200" y="4952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43200" y="3733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78520" y="45957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4343400"/>
            <a:ext cx="22100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4648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41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2880" y="452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40680" y="437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4952880"/>
            <a:ext cx="2210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41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7872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5638680"/>
            <a:ext cx="914400" cy="609840"/>
          </a:xfrm>
          <a:prstGeom prst="wedgeRoundRectCallout">
            <a:avLst>
              <a:gd name="adj1" fmla="val 140277"/>
              <a:gd name="adj2" fmla="val -93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ow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4764240"/>
            <a:ext cx="685800" cy="341280"/>
          </a:xfrm>
          <a:custGeom>
            <a:avLst/>
            <a:gdLst/>
            <a:ahLst/>
            <a:rect l="l" t="t" r="r" b="b"/>
            <a:pathLst>
              <a:path w="432" h="215">
                <a:moveTo>
                  <a:pt x="0" y="23"/>
                </a:moveTo>
                <a:cubicBezTo>
                  <a:pt x="25" y="23"/>
                  <a:pt x="109" y="0"/>
                  <a:pt x="151" y="25"/>
                </a:cubicBezTo>
                <a:cubicBezTo>
                  <a:pt x="193" y="50"/>
                  <a:pt x="206" y="139"/>
                  <a:pt x="253" y="171"/>
                </a:cubicBezTo>
                <a:cubicBezTo>
                  <a:pt x="300" y="203"/>
                  <a:pt x="395" y="206"/>
                  <a:pt x="432" y="21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5F1-FECF-4925-B0AF-26C88629FCB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ing Foreign Key Violation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 from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t’d)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SET DEFA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et value of foreign key in referencing row(s) 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efault value (y) which must exist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4191120"/>
            <a:ext cx="2133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419112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3880" y="44956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4800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913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928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45600" y="4267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449568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59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581280" y="434304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4800600"/>
            <a:ext cx="2133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596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5715000"/>
            <a:ext cx="914400" cy="609480"/>
          </a:xfrm>
          <a:prstGeom prst="wedgeRoundRectCallout">
            <a:avLst>
              <a:gd name="adj1" fmla="val 85416"/>
              <a:gd name="adj2" fmla="val -13515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ow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91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1FD-5494-4708-9B2C-90ECC943A74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ndling Foreign Key Violations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on fro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t’d)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entury Gothic"/>
              </a:rPr>
              <a:t>CASCA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Delete referencing row(s)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05520" y="3581280"/>
            <a:ext cx="2209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3581280"/>
            <a:ext cx="22100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3886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0552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913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6560" y="365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19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4343400"/>
            <a:ext cx="2209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4343400"/>
            <a:ext cx="2210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42670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943240" y="42670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62320" y="426708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361960" y="42670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4648320"/>
            <a:ext cx="2438640" cy="444240"/>
          </a:xfrm>
          <a:custGeom>
            <a:avLst/>
            <a:gdLst/>
            <a:ahLst/>
            <a:rect l="l" t="t" r="r" b="b"/>
            <a:pathLst>
              <a:path w="1536" h="280">
                <a:moveTo>
                  <a:pt x="1536" y="0"/>
                </a:moveTo>
                <a:cubicBezTo>
                  <a:pt x="1316" y="100"/>
                  <a:pt x="1096" y="200"/>
                  <a:pt x="912" y="240"/>
                </a:cubicBezTo>
                <a:cubicBezTo>
                  <a:pt x="728" y="280"/>
                  <a:pt x="584" y="272"/>
                  <a:pt x="432" y="240"/>
                </a:cubicBezTo>
                <a:cubicBezTo>
                  <a:pt x="280" y="208"/>
                  <a:pt x="72" y="80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852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59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838-8124-4822-93FF-2EB0D578725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ual Data Level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38098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07520" y="247968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3280" y="47242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33640" y="3048120"/>
            <a:ext cx="419040" cy="609480"/>
          </a:xfrm>
          <a:custGeom>
            <a:avLst/>
            <a:gdLst/>
            <a:ahLst/>
            <a:rect l="l" t="t" r="r" b="b"/>
            <a:pathLst>
              <a:path w="264" h="384">
                <a:moveTo>
                  <a:pt x="264" y="0"/>
                </a:moveTo>
                <a:cubicBezTo>
                  <a:pt x="156" y="48"/>
                  <a:pt x="48" y="96"/>
                  <a:pt x="24" y="144"/>
                </a:cubicBezTo>
                <a:cubicBezTo>
                  <a:pt x="0" y="192"/>
                  <a:pt x="120" y="248"/>
                  <a:pt x="120" y="288"/>
                </a:cubicBezTo>
                <a:cubicBezTo>
                  <a:pt x="120" y="328"/>
                  <a:pt x="40" y="368"/>
                  <a:pt x="24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1981080"/>
            <a:ext cx="1828800" cy="838440"/>
          </a:xfrm>
          <a:prstGeom prst="wedgeRoundRectCallout">
            <a:avLst>
              <a:gd name="adj1" fmla="val -79513"/>
              <a:gd name="adj2" fmla="val 1388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onceptual view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4267080"/>
            <a:ext cx="1828800" cy="838440"/>
          </a:xfrm>
          <a:prstGeom prst="wedgeRoundRectCallout">
            <a:avLst>
              <a:gd name="adj1" fmla="val -76736"/>
              <a:gd name="adj2" fmla="val 1070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Physical view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8A3-6244-4FA9-BB77-BFF0811A42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ing Foreign Key Violation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pd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hange) foreign key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Reject if no row exists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ing new foreig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candidate key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o z) – same actions as with dele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ject if row(s)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ences row to be updated (default respon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T NU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et value of foreign key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T 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et value of foreign key to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ropagate z to foreig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563868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3880" y="5638680"/>
            <a:ext cx="2210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23880" y="62485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0552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01480" y="5867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0" y="6172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5638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6031080"/>
            <a:ext cx="1523880" cy="446040"/>
          </a:xfrm>
          <a:custGeom>
            <a:avLst/>
            <a:gdLst/>
            <a:ahLst/>
            <a:rect l="l" t="t" r="r" b="b"/>
            <a:pathLst>
              <a:path w="960" h="281">
                <a:moveTo>
                  <a:pt x="0" y="89"/>
                </a:moveTo>
                <a:cubicBezTo>
                  <a:pt x="0" y="89"/>
                  <a:pt x="135" y="0"/>
                  <a:pt x="226" y="29"/>
                </a:cubicBezTo>
                <a:cubicBezTo>
                  <a:pt x="317" y="58"/>
                  <a:pt x="425" y="220"/>
                  <a:pt x="547" y="262"/>
                </a:cubicBezTo>
                <a:lnTo>
                  <a:pt x="960" y="281"/>
                </a:ln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6560" y="586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920" y="579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05520" y="5943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4724280"/>
            <a:ext cx="1752480" cy="838440"/>
          </a:xfrm>
          <a:prstGeom prst="wedgeRoundRectCallout">
            <a:avLst>
              <a:gd name="adj1" fmla="val -136231"/>
              <a:gd name="adj2" fmla="val 13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Cascading when key in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 changed from x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D53-BB46-4739-A4AE-A0DE55936FB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ing Foreign Key Violations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 taken to repair the violation of a foreign key constraint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y cause a violation of a foreign key constraint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ion specified in C controls how that violation is handled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entire chain of violations cannot be resolved, the initial deletion from B is rej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518148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18148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00800" y="5181480"/>
            <a:ext cx="2209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0080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574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08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148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78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9112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6724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193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86400" y="56386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21120" y="6095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6960" y="6095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99640" y="60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55D-400A-4CF4-90F7-7A1B2D96ABD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ying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1143000"/>
            <a:ext cx="799128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6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6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IMARY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FERE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ON DELETE NO AC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2400" spc="-1" strike="noStrike">
                <a:solidFill>
                  <a:srgbClr val="006600"/>
                </a:solidFill>
                <a:latin typeface="Century Gothic"/>
              </a:rPr>
              <a:t>ON UPDATE CASCAD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FERE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ON DELETE SET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2400" spc="-1" strike="noStrike">
                <a:solidFill>
                  <a:srgbClr val="006600"/>
                </a:solidFill>
                <a:latin typeface="Century Gothic"/>
              </a:rPr>
              <a:t>ON UPDATE CASC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43B-0337-4DA4-BE3D-AF671AA9BAE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re general mechanism for handling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n SQL-92, but is in SQL: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ger is a schema element (like table, assertion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1000" y="4414680"/>
            <a:ext cx="737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TRIG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s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FTER UPDATE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N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S NOT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OLL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99FE-FE1D-4AB1-9F8A-BC043CE0D73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externa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 constructed from actual tables on the f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ccessed in queries like any other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aterialized, constructed when ac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a subroutine in ordinary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E38-2913-4E10-95E9-6819CD61428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s -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1676520"/>
            <a:ext cx="79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Tak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0920" y="4267080"/>
            <a:ext cx="787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sesIT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s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me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HER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‘123456789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4480" y="1066680"/>
            <a:ext cx="72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external schema suitable for use in Bursar’s offi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3505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of external schema suitable for student with Id 12345678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563-67D8-4702-B8DF-E0F7E53CF6D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ying the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9600" y="1600200"/>
            <a:ext cx="795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ALTER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OLUMN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INTEGER DEFA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ALTER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ONSTR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a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= 0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entury Gothic"/>
              </a:rPr>
              <a:t>ALTER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6600"/>
                </a:solidFill>
                <a:latin typeface="Century Gothic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ONSTRA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-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aint names are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entury Gothic"/>
              </a:rPr>
              <a:t>DROP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SSER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tFire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191-8482-4588-931E-476A924FEF5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s might contain sensitiv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has to be limi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have to be identified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done with pass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ser must be limited to modes of access appropriate to that user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:92 provides tools for specifying an authorization policy but does not support authentication (vendor specif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402-7DDC-4587-A813-0274D7E5911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ling Authorization in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1371600"/>
            <a:ext cx="8001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_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modes: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, INSERT, DELETE, UPDATE,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GRANT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_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lumn can be updated by prof_sm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GRANT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ELECT 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columns cannot be specified for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(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 standard) – all columns of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be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ess control to individual columns can b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m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views (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2895480"/>
            <a:ext cx="914400" cy="609840"/>
          </a:xfrm>
          <a:prstGeom prst="wedgeRoundRectCallout">
            <a:avLst>
              <a:gd name="adj1" fmla="val -128648"/>
              <a:gd name="adj2" fmla="val 1130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User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903-702B-439A-B993-05B144D36B9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ling Authorization in SQL Using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Century Gothic"/>
              </a:rPr>
              <a:t>GRANT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SELECT 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Ta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 views can be used to simulate access control to individual columns of a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39000" y="2057400"/>
            <a:ext cx="21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_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348-EDB9-4922-B29C-8257624006F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Data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relational model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so presents data as a set of re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ternal schema specifie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data in terms of the conceptual level. It is tailored to the needs of a particular category of u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ions of stored data should not be seen by some 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should not see their files in fu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ulty should not see billing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that can be derived from stored data might be viewed as if it were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A not stored, but calculated when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0653-7291-4B01-86C5-7D23B20C87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thorization Mode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key constraint enforces relationship between tables that can be exploit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rol ac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enable perpetrator prevent deletion of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uccessful insertion i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tDissmiss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s a row with foreign key value exist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43920" y="3048120"/>
            <a:ext cx="592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ATE TA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tDismiss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990033"/>
                </a:solidFill>
                <a:latin typeface="Century Gothic"/>
              </a:rPr>
              <a:t>REFERENCE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 DE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98440" y="5943600"/>
            <a:ext cx="72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SERT I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tDismiss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‘111111111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402-C040-45F9-A5F2-B76964CF210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REFERENC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Access mode (cont’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Courier New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j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D28-6DE3-42E3-9852-A7290FF4987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Data Level (con’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is written in terms of an external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iew is computed when accessed (not stor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external schemas can be provided to different categories of us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ion from external to conceptual done automatically by DBMS at ru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schema can be changed without changing 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from external to conceptual must be chang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red to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ceptual data independe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2D6-1C32-40AF-ACF3-7F6CB93A84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s of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2743200"/>
            <a:ext cx="1523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2743200"/>
            <a:ext cx="1523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743200"/>
            <a:ext cx="15242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47242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5812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9200" y="3200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3200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6248520"/>
            <a:ext cx="6094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6248520"/>
            <a:ext cx="6094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715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715000"/>
            <a:ext cx="60948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579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905120"/>
            <a:ext cx="12952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905120"/>
            <a:ext cx="12952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828800"/>
            <a:ext cx="12952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04280" y="263196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528-A803-4FB2-A431-FDD499939F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description of data at some leve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bles, attributes, constraints, doma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ools and language for describ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and external sch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constraints, domains (D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d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anipula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es that influence the physical schema (affects performance, not seman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rage definition 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FA8-F3F8-4AF4-AA86-DFEAE40C2C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14:28:06Z</dcterms:created>
  <dc:creator>ARTHUR  BERNSTEIN</dc:creator>
  <dc:description/>
  <dc:language>en-US</dc:language>
  <cp:lastModifiedBy>Pearson Education</cp:lastModifiedBy>
  <cp:lastPrinted>1980-01-05T05:22:08Z</cp:lastPrinted>
  <dcterms:modified xsi:type="dcterms:W3CDTF">2005-04-06T15:56:57Z</dcterms:modified>
  <cp:revision>108</cp:revision>
  <dc:subject/>
  <dc:title>The Relational Data Model</dc:title>
</cp:coreProperties>
</file>